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1CB-9E21-4375-B793-949F970D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EB4-6B6E-4840-9D41-D971B7C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37E-0008-4D4D-B495-46EF19CE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93E-8D91-4DFC-8536-A9F399B9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C6C-32C5-4549-B0BF-A6F65C56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F7B-4291-44AF-A1D5-D7A7960F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6ED-A058-4D19-ADD3-702F042D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B91-32D9-428B-A65E-BE25184E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324-83E9-47DF-8F1F-6E39320D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ED5-D073-4A0F-8E60-5B7D9B03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D35-2CCE-418A-B276-641E297B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6FC-A272-472F-B969-922DF930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2E5F-0AC4-4868-AD4A-C65516913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Картинки по запросу красивый фон с блин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ект на тему «Приготовление блин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796000" y="3286080"/>
            <a:ext cx="33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бригада 5 В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Лицей №6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богаткина И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144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ереливаем получившуюся жидкость в другую ёмкость. В глубокую миску добавляем му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MG_2020"/>
          <p:cNvPicPr/>
          <p:nvPr/>
        </p:nvPicPr>
        <p:blipFill>
          <a:blip r:embed="rId2"/>
          <a:stretch/>
        </p:blipFill>
        <p:spPr>
          <a:xfrm>
            <a:off x="1042920" y="2565360"/>
            <a:ext cx="3889440" cy="290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IMG_2017"/>
          <p:cNvPicPr/>
          <p:nvPr/>
        </p:nvPicPr>
        <p:blipFill>
          <a:blip r:embed="rId3"/>
          <a:stretch/>
        </p:blipFill>
        <p:spPr>
          <a:xfrm>
            <a:off x="5076720" y="3429000"/>
            <a:ext cx="39243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Жидкость вливаем в миску с м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G_2021"/>
          <p:cNvPicPr/>
          <p:nvPr/>
        </p:nvPicPr>
        <p:blipFill>
          <a:blip r:embed="rId2"/>
          <a:stretch/>
        </p:blipFill>
        <p:spPr>
          <a:xfrm>
            <a:off x="1258920" y="1700280"/>
            <a:ext cx="3600360" cy="268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IMG_2022"/>
          <p:cNvPicPr/>
          <p:nvPr/>
        </p:nvPicPr>
        <p:blipFill>
          <a:blip r:embed="rId3"/>
          <a:stretch/>
        </p:blipFill>
        <p:spPr>
          <a:xfrm>
            <a:off x="5003640" y="3789360"/>
            <a:ext cx="37450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54972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Если получилось густо нужно добавить молоко. Перемеши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IMG_2023"/>
          <p:cNvPicPr/>
          <p:nvPr/>
        </p:nvPicPr>
        <p:blipFill>
          <a:blip r:embed="rId2"/>
          <a:stretch/>
        </p:blipFill>
        <p:spPr>
          <a:xfrm>
            <a:off x="1403280" y="1916280"/>
            <a:ext cx="3384720" cy="252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MG_2025"/>
          <p:cNvPicPr/>
          <p:nvPr/>
        </p:nvPicPr>
        <p:blipFill>
          <a:blip r:embed="rId3"/>
          <a:stretch/>
        </p:blipFill>
        <p:spPr>
          <a:xfrm>
            <a:off x="4932360" y="3645000"/>
            <a:ext cx="39607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44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Выливаем получившееся тесто на сковородку, но перед этим нужно налить на неё подсолнечное масло (иначе тесто прилипнет к сковород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G_2032"/>
          <p:cNvPicPr/>
          <p:nvPr/>
        </p:nvPicPr>
        <p:blipFill>
          <a:blip r:embed="rId2"/>
          <a:stretch/>
        </p:blipFill>
        <p:spPr>
          <a:xfrm>
            <a:off x="2124000" y="2708280"/>
            <a:ext cx="504036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Переворачиваем блинчик на другую сторону. Обжари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MG_2033"/>
          <p:cNvPicPr/>
          <p:nvPr/>
        </p:nvPicPr>
        <p:blipFill>
          <a:blip r:embed="rId2"/>
          <a:stretch/>
        </p:blipFill>
        <p:spPr>
          <a:xfrm>
            <a:off x="2340000" y="2421000"/>
            <a:ext cx="518472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 Готово! Приятного аппети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Картинки по запросу блины фото"/>
          <p:cNvPicPr/>
          <p:nvPr/>
        </p:nvPicPr>
        <p:blipFill>
          <a:blip r:embed="rId2"/>
          <a:stretch/>
        </p:blipFill>
        <p:spPr>
          <a:xfrm>
            <a:off x="1619280" y="1916280"/>
            <a:ext cx="62452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142720" y="500040"/>
            <a:ext cx="70009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чет себе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71720" y="1071720"/>
          <a:ext cx="7786440" cy="542916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679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ка  -  5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о  - 3 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 – 1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9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ыхлитель – 1 паке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  - 5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9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ь  - 5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7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 - 1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9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1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Картинки по запросу красивый фон с блинами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928960" y="1357200"/>
            <a:ext cx="62150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теза не подтвердила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Картинки по запросу красивый фон с блин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лины. История происхожд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71920" y="1125360"/>
            <a:ext cx="5572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о считать, что блины - чисто русское блюдо, и об этом свидетельствует многовековая традиция изготовления и употребления лакомства во всех его ви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даже конкретные годы их появления в меню – 1005-1006 годы. О том, как появилось столь вкусное блюдо, сложено много легенд, одна из которых гласит, что овсяный кисель, забытый в печи, поджарился и подрумянился. После снятия пробы, все решили, что это вкусно. Так и появились б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Картинки по запросу красивый фон с блин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42640" y="404640"/>
            <a:ext cx="8001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я русские быт и традиции, историк В. Похлебкин пришел к выводу, что название блюда происходит от формы слова молоть, «млин». Дословно «блин» может обозначать изделие из муки, что полностью соответствует ист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Картинки по запросу красивый фон с блин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500120"/>
            <a:ext cx="94298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да ли, что первый блин всегда ко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гриди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806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яйц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стакана му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чайные ложки разрыхлител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столовые ложки мас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литр моло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чайная ложка саха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чайная ложка соли                                                      масло подсолн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G_2005"/>
          <p:cNvPicPr/>
          <p:nvPr/>
        </p:nvPicPr>
        <p:blipFill>
          <a:blip r:embed="rId2"/>
          <a:stretch/>
        </p:blipFill>
        <p:spPr>
          <a:xfrm>
            <a:off x="4643280" y="3141720"/>
            <a:ext cx="435636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ология пригото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лубокую миску добавить 3 яйца и хорошо взбить венч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G_2008"/>
          <p:cNvPicPr/>
          <p:nvPr/>
        </p:nvPicPr>
        <p:blipFill>
          <a:blip r:embed="rId2"/>
          <a:stretch/>
        </p:blipFill>
        <p:spPr>
          <a:xfrm>
            <a:off x="1258920" y="2924280"/>
            <a:ext cx="3384360" cy="252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G_2009"/>
          <p:cNvPicPr/>
          <p:nvPr/>
        </p:nvPicPr>
        <p:blipFill>
          <a:blip r:embed="rId3"/>
          <a:stretch/>
        </p:blipFill>
        <p:spPr>
          <a:xfrm>
            <a:off x="5148360" y="3789360"/>
            <a:ext cx="3456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144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обавляем сахар, соль и разрыхлитель. Хорошо взби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G_2010"/>
          <p:cNvPicPr/>
          <p:nvPr/>
        </p:nvPicPr>
        <p:blipFill>
          <a:blip r:embed="rId2"/>
          <a:stretch/>
        </p:blipFill>
        <p:spPr>
          <a:xfrm>
            <a:off x="1187280" y="206064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MG_2011"/>
          <p:cNvPicPr/>
          <p:nvPr/>
        </p:nvPicPr>
        <p:blipFill>
          <a:blip r:embed="rId3"/>
          <a:stretch/>
        </p:blipFill>
        <p:spPr>
          <a:xfrm>
            <a:off x="5148360" y="3645000"/>
            <a:ext cx="37083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Добавляем подсолнечное ма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MG_2012"/>
          <p:cNvPicPr/>
          <p:nvPr/>
        </p:nvPicPr>
        <p:blipFill>
          <a:blip r:embed="rId2"/>
          <a:stretch/>
        </p:blipFill>
        <p:spPr>
          <a:xfrm>
            <a:off x="2484360" y="2060640"/>
            <a:ext cx="4680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Добавляем молоко. Взби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IMG_2014"/>
          <p:cNvPicPr/>
          <p:nvPr/>
        </p:nvPicPr>
        <p:blipFill>
          <a:blip r:embed="rId2"/>
          <a:srcRect l="0" t="23861" r="15074" b="5781"/>
          <a:stretch/>
        </p:blipFill>
        <p:spPr>
          <a:xfrm>
            <a:off x="1042920" y="1484280"/>
            <a:ext cx="4105440" cy="254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IMG_2015"/>
          <p:cNvPicPr/>
          <p:nvPr/>
        </p:nvPicPr>
        <p:blipFill>
          <a:blip r:embed="rId3"/>
          <a:stretch/>
        </p:blipFill>
        <p:spPr>
          <a:xfrm>
            <a:off x="4788000" y="3645000"/>
            <a:ext cx="40320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12:54:31Z</dcterms:created>
  <dc:creator>1</dc:creator>
  <dc:description/>
  <dc:language>en-US</dc:language>
  <cp:lastModifiedBy>Toshiba</cp:lastModifiedBy>
  <dcterms:modified xsi:type="dcterms:W3CDTF">2022-11-21T08:33:53Z</dcterms:modified>
  <cp:revision>9</cp:revision>
  <dc:subject/>
  <dc:title>Проект на тему «Приготовление блинов»</dc:title>
</cp:coreProperties>
</file>