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E395-5991-451E-A894-1FE4D3679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8BFE-2C79-41E3-B630-F111FCF51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BE8A-D982-4420-9A24-6AA979DBC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5B7E-F9DB-4635-A723-8F875A012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F03E-8BF3-4E4D-89BA-8E3B07B8F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6696-611B-4845-9870-6599F3224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FA19-74BD-4A6E-8B98-53CBDE9DC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92B1-F4EE-408F-B277-41AA67ABF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098D-554C-463B-8617-C7A78542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15AE-3257-431B-9EA8-9CD3115B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CABA-714B-4BB3-AEA2-6C74F63A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63A0-FC34-49B2-A6E1-6C23ADE3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A4D91-3296-4A2B-B723-86EA60B788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Картинки по запросу красивый фон с блинам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ект на тему «Приготовление блинов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5796000" y="3286080"/>
            <a:ext cx="334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бригада 5 В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технолог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«Лицей №6»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робогаткина И.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Картинки по запросу красивый фон для презентации вертикальны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91440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Переливаем получившуюся жидкость в другую ёмкость. В глубокую миску добавляем му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IMG_2020"/>
          <p:cNvPicPr/>
          <p:nvPr/>
        </p:nvPicPr>
        <p:blipFill>
          <a:blip r:embed="rId2"/>
          <a:stretch/>
        </p:blipFill>
        <p:spPr>
          <a:xfrm>
            <a:off x="1042920" y="2565360"/>
            <a:ext cx="3889440" cy="2905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IMG_2017"/>
          <p:cNvPicPr/>
          <p:nvPr/>
        </p:nvPicPr>
        <p:blipFill>
          <a:blip r:embed="rId3"/>
          <a:stretch/>
        </p:blipFill>
        <p:spPr>
          <a:xfrm>
            <a:off x="5076720" y="3429000"/>
            <a:ext cx="392436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Картинки по запросу красивый фон для презентации вертикальны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9144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Жидкость вливаем в миску с му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IMG_2021"/>
          <p:cNvPicPr/>
          <p:nvPr/>
        </p:nvPicPr>
        <p:blipFill>
          <a:blip r:embed="rId2"/>
          <a:stretch/>
        </p:blipFill>
        <p:spPr>
          <a:xfrm>
            <a:off x="1258920" y="1700280"/>
            <a:ext cx="3600360" cy="2689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IMG_2022"/>
          <p:cNvPicPr/>
          <p:nvPr/>
        </p:nvPicPr>
        <p:blipFill>
          <a:blip r:embed="rId3"/>
          <a:stretch/>
        </p:blipFill>
        <p:spPr>
          <a:xfrm>
            <a:off x="5003640" y="3789360"/>
            <a:ext cx="374508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Картинки по запросу красивый фон для презентации вертикальны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-549720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. Если получилось густо нужно добавить молоко. Перемешива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IMG_2023"/>
          <p:cNvPicPr/>
          <p:nvPr/>
        </p:nvPicPr>
        <p:blipFill>
          <a:blip r:embed="rId2"/>
          <a:stretch/>
        </p:blipFill>
        <p:spPr>
          <a:xfrm>
            <a:off x="1403280" y="1916280"/>
            <a:ext cx="3384720" cy="2527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IMG_2025"/>
          <p:cNvPicPr/>
          <p:nvPr/>
        </p:nvPicPr>
        <p:blipFill>
          <a:blip r:embed="rId3"/>
          <a:stretch/>
        </p:blipFill>
        <p:spPr>
          <a:xfrm>
            <a:off x="4932360" y="3645000"/>
            <a:ext cx="3960720" cy="29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Картинки по запросу красивый фон для презентации вертикальны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91440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. Выливаем получившееся тесто на сковородку, но перед этим нужно налить на неё подсолнечное масло (иначе тесто прилипнет к сковородк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IMG_2032"/>
          <p:cNvPicPr/>
          <p:nvPr/>
        </p:nvPicPr>
        <p:blipFill>
          <a:blip r:embed="rId2"/>
          <a:stretch/>
        </p:blipFill>
        <p:spPr>
          <a:xfrm>
            <a:off x="2124000" y="2708280"/>
            <a:ext cx="5040360" cy="37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Картинки по запросу красивый фон для презентации вертикальны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9144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. Переворачиваем блинчик на другую сторону. Обжарива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IMG_2033"/>
          <p:cNvPicPr/>
          <p:nvPr/>
        </p:nvPicPr>
        <p:blipFill>
          <a:blip r:embed="rId2"/>
          <a:stretch/>
        </p:blipFill>
        <p:spPr>
          <a:xfrm>
            <a:off x="2340000" y="2421000"/>
            <a:ext cx="5184720" cy="38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Картинки по запросу красивый фон для презентации вертикальны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9144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. Готово! Приятного аппети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Картинки по запросу блины фото"/>
          <p:cNvPicPr/>
          <p:nvPr/>
        </p:nvPicPr>
        <p:blipFill>
          <a:blip r:embed="rId2"/>
          <a:stretch/>
        </p:blipFill>
        <p:spPr>
          <a:xfrm>
            <a:off x="1619280" y="1916280"/>
            <a:ext cx="6245280" cy="41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Картинки по запросу красивый фон для презентации вертикальны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2142720" y="500040"/>
            <a:ext cx="700092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чет себестоим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071720" y="1071720"/>
          <a:ext cx="7786440" cy="5429160"/>
        </p:xfrm>
        <a:graphic>
          <a:graphicData uri="http://schemas.openxmlformats.org/drawingml/2006/table">
            <a:tbl>
              <a:tblPr/>
              <a:tblGrid>
                <a:gridCol w="3894120"/>
                <a:gridCol w="3892320"/>
              </a:tblGrid>
              <a:tr h="6793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ка  -  500 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 р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778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йцо  - 3 ш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 р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778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локо – 1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 р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793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ыхлитель – 1 пакет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р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778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хар   - 50 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р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796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ль  - 5 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р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775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ло  - 100 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 р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796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1 р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7" descr="Картинки по запросу красивый фон с блинами"/>
          <p:cNvPicPr/>
          <p:nvPr/>
        </p:nvPicPr>
        <p:blipFill>
          <a:blip r:embed="rId1"/>
          <a:stretch/>
        </p:blipFill>
        <p:spPr>
          <a:xfrm>
            <a:off x="0" y="-4287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928960" y="1357200"/>
            <a:ext cx="621504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ипотеза не подтвердила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Картинки по запросу красивый фон с блинам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лины. История происхожд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571920" y="1125360"/>
            <a:ext cx="5572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ято считать, что блины - чисто русское блюдо, и об этом свидетельствует многовековая традиция изготовления и употребления лакомства во всех его вид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ествуют даже конкретные годы их появления в меню – 1005-1006 годы. О том, как появилось столь вкусное блюдо, сложено много легенд, одна из которых гласит, что овсяный кисель, забытый в печи, поджарился и подрумянился. После снятия пробы, все решили, что это вкусно. Так и появились бл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Картинки по запросу красивый фон с блинам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142640" y="404640"/>
            <a:ext cx="80010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следуя русские быт и традиции, историк В. Похлебкин пришел к выводу, что название блюда происходит от формы слова молоть, «млин». Дословно «блин» может обозначать изделие из муки, что полностью соответствует истин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Картинки по запросу красивый фон с блинам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ипоте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0" y="1500120"/>
            <a:ext cx="942984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да ли, что первый блин всегда ком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8" descr="Картинки по запросу красивый фон для презентации вертикальны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гридиен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8066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яйца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стакана мук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чайные ложки разрыхлител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 столовые ложки масл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литр молок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чайная ложка сахар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чайная ложка соли                                                      масло подсолнеч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IMG_2005"/>
          <p:cNvPicPr/>
          <p:nvPr/>
        </p:nvPicPr>
        <p:blipFill>
          <a:blip r:embed="rId2"/>
          <a:stretch/>
        </p:blipFill>
        <p:spPr>
          <a:xfrm>
            <a:off x="4643280" y="3141720"/>
            <a:ext cx="435636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Картинки по запросу красивый фон для презентации вертикальны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хнология приготов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глубокую миску добавить 3 яйца и хорошо взбить венчи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IMG_2008"/>
          <p:cNvPicPr/>
          <p:nvPr/>
        </p:nvPicPr>
        <p:blipFill>
          <a:blip r:embed="rId2"/>
          <a:stretch/>
        </p:blipFill>
        <p:spPr>
          <a:xfrm>
            <a:off x="1258920" y="2924280"/>
            <a:ext cx="3384360" cy="2527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IMG_2009"/>
          <p:cNvPicPr/>
          <p:nvPr/>
        </p:nvPicPr>
        <p:blipFill>
          <a:blip r:embed="rId3"/>
          <a:stretch/>
        </p:blipFill>
        <p:spPr>
          <a:xfrm>
            <a:off x="5148360" y="3789360"/>
            <a:ext cx="345600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Картинки по запросу красивый фон для презентации вертикальны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91440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Добавляем сахар, соль и разрыхлитель. Хорошо взбива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IMG_2010"/>
          <p:cNvPicPr/>
          <p:nvPr/>
        </p:nvPicPr>
        <p:blipFill>
          <a:blip r:embed="rId2"/>
          <a:stretch/>
        </p:blipFill>
        <p:spPr>
          <a:xfrm>
            <a:off x="1187280" y="2060640"/>
            <a:ext cx="3600720" cy="2687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IMG_2011"/>
          <p:cNvPicPr/>
          <p:nvPr/>
        </p:nvPicPr>
        <p:blipFill>
          <a:blip r:embed="rId3"/>
          <a:stretch/>
        </p:blipFill>
        <p:spPr>
          <a:xfrm>
            <a:off x="5148360" y="3645000"/>
            <a:ext cx="370836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Картинки по запросу красивый фон для презентации вертикальны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Добавляем подсолнечное мас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IMG_2012"/>
          <p:cNvPicPr/>
          <p:nvPr/>
        </p:nvPicPr>
        <p:blipFill>
          <a:blip r:embed="rId2"/>
          <a:stretch/>
        </p:blipFill>
        <p:spPr>
          <a:xfrm>
            <a:off x="2484360" y="2060640"/>
            <a:ext cx="468000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Картинки по запросу красивый фон для презентации вертикальны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91440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Добавляем молоко. Взбива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IMG_2014"/>
          <p:cNvPicPr/>
          <p:nvPr/>
        </p:nvPicPr>
        <p:blipFill>
          <a:blip r:embed="rId2"/>
          <a:srcRect l="0" t="23861" r="15074" b="5781"/>
          <a:stretch/>
        </p:blipFill>
        <p:spPr>
          <a:xfrm>
            <a:off x="1042920" y="1484280"/>
            <a:ext cx="4105440" cy="2541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IMG_2015"/>
          <p:cNvPicPr/>
          <p:nvPr/>
        </p:nvPicPr>
        <p:blipFill>
          <a:blip r:embed="rId3"/>
          <a:stretch/>
        </p:blipFill>
        <p:spPr>
          <a:xfrm>
            <a:off x="4788000" y="3645000"/>
            <a:ext cx="403200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16T12:54:31Z</dcterms:created>
  <dc:creator>1</dc:creator>
  <dc:description/>
  <dc:language>en-US</dc:language>
  <cp:lastModifiedBy>Toshiba</cp:lastModifiedBy>
  <dcterms:modified xsi:type="dcterms:W3CDTF">2022-11-21T08:33:53Z</dcterms:modified>
  <cp:revision>9</cp:revision>
  <dc:subject/>
  <dc:title>Проект на тему «Приготовление блинов»</dc:title>
</cp:coreProperties>
</file>