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2934-86B2-4BD4-96A7-BB74F379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D42-76C3-49A6-B7FA-0C572B6E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B14-9EB4-4605-AE36-93A4091D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A9B-8E39-498A-8804-252C9A65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761F-4CE8-41E7-B52F-EFCF7EAF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267-6965-4CE4-A94C-8937A038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63E2-7D4C-41D7-BF2D-B83779D9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419-1AC2-40B8-8B91-2FCEDA8F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EF6-1AD0-433C-A1DA-85885165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3949-6911-42DD-9890-28E2D979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C2CA-4760-4B2B-B5EA-91BF2C9D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912-84BA-44EE-B5A9-1532EF86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E652-5B99-4DC2-B0AA-CA7BAAD943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57840" y="-343656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72400" y="-3060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884078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6323040" y="189000"/>
            <a:ext cx="255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Spotlight Module 3 p 46-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24000" y="649116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332000" y="6453360"/>
            <a:ext cx="77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выполнена учителем английского языка МБОУ Верхнепашинская СОШ № 2 Тюкало О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987640" y="189000"/>
            <a:ext cx="56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8000"/>
                </a:solidFill>
                <a:latin typeface="Arial"/>
              </a:rPr>
              <a:t>At h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2624040" y="1652760"/>
            <a:ext cx="6340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ём живёт моя родн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без неё не жить ни дн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его стремлюсь всегда и всюду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нему дорогу не забуд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без него дышу с трудом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й кров, родимый, тёплый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250920" y="62064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opic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5031126000141008070517"/>
          <p:cNvPicPr/>
          <p:nvPr/>
        </p:nvPicPr>
        <p:blipFill>
          <a:blip r:embed="rId2"/>
          <a:stretch/>
        </p:blipFill>
        <p:spPr>
          <a:xfrm>
            <a:off x="104760" y="1744560"/>
            <a:ext cx="25192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57840" y="-343656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772400" y="-3060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884078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395280" y="40464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476360" y="191628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ктивизировать лексику по теме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home, my castl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547640" y="2637000"/>
            <a:ext cx="65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ть новые сл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ботать произношение, чтение и произнош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547640" y="350028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ь  количественные числительные, узнать образование порядковых числительных 1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411280" y="9079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ссказать о своём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971640" y="206064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971640" y="278136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971640" y="364500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971640" y="155736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476360" y="148428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ь порядок слов в (+) предложен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57840" y="-343656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772400" y="-3060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884078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4295310311_21eebd779e_o"/>
          <p:cNvPicPr/>
          <p:nvPr/>
        </p:nvPicPr>
        <p:blipFill>
          <a:blip r:embed="rId2"/>
          <a:stretch/>
        </p:blipFill>
        <p:spPr>
          <a:xfrm>
            <a:off x="900000" y="2212920"/>
            <a:ext cx="6858000" cy="4645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3995640" y="1052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ed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 flipH="1">
            <a:off x="3419640" y="1700280"/>
            <a:ext cx="100800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5364000" y="1628640"/>
            <a:ext cx="79236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187280" y="2637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kit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2050920" y="2997360"/>
            <a:ext cx="1008360" cy="172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6732720" y="1484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iving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 flipH="1">
            <a:off x="6948000" y="1989000"/>
            <a:ext cx="158436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692360" y="1413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ning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1835280" y="1844640"/>
            <a:ext cx="273672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5724360" y="54936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ath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1052640"/>
            <a:ext cx="100800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179280" y="486900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2556000" y="1159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3" descr="9db82856f2cff5c8678c879db7732c02"/>
          <p:cNvPicPr/>
          <p:nvPr/>
        </p:nvPicPr>
        <p:blipFill>
          <a:blip r:embed="rId3"/>
          <a:stretch/>
        </p:blipFill>
        <p:spPr>
          <a:xfrm>
            <a:off x="0" y="0"/>
            <a:ext cx="1725480" cy="2300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4"/>
          <p:cNvSpPr/>
          <p:nvPr/>
        </p:nvSpPr>
        <p:spPr>
          <a:xfrm>
            <a:off x="108000" y="33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684360" y="3789360"/>
            <a:ext cx="50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6" descr="Standard_Garage"/>
          <p:cNvPicPr/>
          <p:nvPr/>
        </p:nvPicPr>
        <p:blipFill>
          <a:blip r:embed="rId4"/>
          <a:stretch/>
        </p:blipFill>
        <p:spPr>
          <a:xfrm>
            <a:off x="7205760" y="5403960"/>
            <a:ext cx="1938240" cy="14540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7"/>
          <p:cNvSpPr/>
          <p:nvPr/>
        </p:nvSpPr>
        <p:spPr>
          <a:xfrm>
            <a:off x="7524720" y="393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a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8"/>
          <p:cNvSpPr/>
          <p:nvPr/>
        </p:nvSpPr>
        <p:spPr>
          <a:xfrm>
            <a:off x="8244000" y="4508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9"/>
          <p:cNvSpPr/>
          <p:nvPr/>
        </p:nvSpPr>
        <p:spPr>
          <a:xfrm flipH="1">
            <a:off x="1835280" y="33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0"/>
          <p:cNvSpPr/>
          <p:nvPr/>
        </p:nvSpPr>
        <p:spPr>
          <a:xfrm>
            <a:off x="7451640" y="11592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 1 p 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457840" y="-343656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772400" y="-3060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884078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ardinal-ordinal-numbers-4-728"/>
          <p:cNvPicPr/>
          <p:nvPr/>
        </p:nvPicPr>
        <p:blipFill>
          <a:blip r:embed="rId2"/>
          <a:stretch/>
        </p:blipFill>
        <p:spPr>
          <a:xfrm>
            <a:off x="250920" y="189000"/>
            <a:ext cx="6933960" cy="52005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738036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 2 p 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7380360" y="836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 7 p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57840" y="-343656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772400" y="-3060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884078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547640" y="260280"/>
            <a:ext cx="61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re is … in my ho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dom12"/>
          <p:cNvPicPr/>
          <p:nvPr/>
        </p:nvPicPr>
        <p:blipFill>
          <a:blip r:embed="rId2"/>
          <a:stretch/>
        </p:blipFill>
        <p:spPr>
          <a:xfrm>
            <a:off x="108000" y="1628640"/>
            <a:ext cx="7378560" cy="5229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1547640" y="83664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re is … near my ho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Standard_Garage"/>
          <p:cNvPicPr/>
          <p:nvPr/>
        </p:nvPicPr>
        <p:blipFill>
          <a:blip r:embed="rId3"/>
          <a:stretch/>
        </p:blipFill>
        <p:spPr>
          <a:xfrm>
            <a:off x="6732720" y="5048280"/>
            <a:ext cx="2411280" cy="1809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354820534-0315118-www"/>
          <p:cNvPicPr/>
          <p:nvPr/>
        </p:nvPicPr>
        <p:blipFill>
          <a:blip r:embed="rId4"/>
          <a:stretch/>
        </p:blipFill>
        <p:spPr>
          <a:xfrm>
            <a:off x="1979640" y="4724280"/>
            <a:ext cx="1150920" cy="1055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1"/>
          <p:cNvSpPr/>
          <p:nvPr/>
        </p:nvSpPr>
        <p:spPr>
          <a:xfrm>
            <a:off x="250920" y="6308640"/>
            <a:ext cx="23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24000" y="6308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round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457840" y="-343656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772400" y="-3060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88407832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BrE-Vs-Ame-Building-Floors"/>
          <p:cNvPicPr/>
          <p:nvPr/>
        </p:nvPicPr>
        <p:blipFill>
          <a:blip r:embed="rId2"/>
          <a:stretch/>
        </p:blipFill>
        <p:spPr>
          <a:xfrm>
            <a:off x="1619280" y="2085840"/>
            <a:ext cx="5753160" cy="47721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324000" y="18900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Which floor are you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24000" y="112536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’m on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on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flo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457840" y="-343656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772400" y="-3060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884078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059280" y="18900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y 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68360" y="981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my ho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95280" y="234936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is … in my ho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68360" y="16286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m on the … flo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68360" y="3068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ike my ho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7308720" y="4437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 4 p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5T14:47:11Z</dcterms:created>
  <dc:creator>Ира</dc:creator>
  <dc:description/>
  <dc:language>en-US</dc:language>
  <cp:lastModifiedBy>user</cp:lastModifiedBy>
  <dcterms:modified xsi:type="dcterms:W3CDTF">2023-01-19T01:31:25Z</dcterms:modified>
  <cp:revision>14</cp:revision>
  <dc:subject/>
  <dc:title>Слайд 1</dc:title>
</cp:coreProperties>
</file>