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DB0-1FEA-4F1B-BED6-1CB3F9A3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220-62F6-47C9-A2CF-304399D8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B16-BB10-478A-BBAB-F2017756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E78-132F-495B-946D-E28447DE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9F5-E410-49D7-8191-5C5423B9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1BA-C289-40FD-BADC-3BBB61B9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68C-F586-4EEE-B7D6-8EB026FD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5E6-2B98-4C91-BB0B-6D1FF5A9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08D-B646-4872-BB06-F266C8DC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3C4-50D5-4EA8-8CC6-5659994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BB2-6F84-41BD-96E8-93FD6720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270-2A04-48DB-B95B-9E3896BD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E1CB-6389-4FFA-88BC-4582DFC83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323040" y="189000"/>
            <a:ext cx="25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potlight Module 3 p 46-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4000" y="649116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332000" y="6453360"/>
            <a:ext cx="77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выполнена учителем английского языка МБОУ Верхнепашинская СОШ № 2 Тюкало О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987640" y="18900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8000"/>
                </a:solidFill>
                <a:latin typeface="Arial"/>
              </a:rPr>
              <a:t>At 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624040" y="1652760"/>
            <a:ext cx="6340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ём живёт моя родн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без неё не жить ни дн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го стремлюсь всегда и всюд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ему дорогу не забуд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без него дышу с трудо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кров, родимый, тёплый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50920" y="62064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opic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5031126000141008070517"/>
          <p:cNvPicPr/>
          <p:nvPr/>
        </p:nvPicPr>
        <p:blipFill>
          <a:blip r:embed="rId2"/>
          <a:stretch/>
        </p:blipFill>
        <p:spPr>
          <a:xfrm>
            <a:off x="104760" y="1744560"/>
            <a:ext cx="2519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95280" y="4046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476360" y="191628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ктивизировать лексику по теме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home, my cast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47640" y="263700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новые сл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ать произношение, чтение и произнош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547640" y="3500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 количественные числительные, узнать образование порядковых числительных 1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411280" y="9079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сказать о своём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971640" y="206064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971640" y="278136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71640" y="364500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971640" y="155736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476360" y="148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порядок слов в (+) предложен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4295310311_21eebd779e_o"/>
          <p:cNvPicPr/>
          <p:nvPr/>
        </p:nvPicPr>
        <p:blipFill>
          <a:blip r:embed="rId2"/>
          <a:stretch/>
        </p:blipFill>
        <p:spPr>
          <a:xfrm>
            <a:off x="900000" y="2212920"/>
            <a:ext cx="6858000" cy="4645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3995640" y="1052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H="1">
            <a:off x="3419640" y="1700280"/>
            <a:ext cx="1008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5364000" y="1628640"/>
            <a:ext cx="792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187280" y="2637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kit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050920" y="2997360"/>
            <a:ext cx="100836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732720" y="1484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v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6948000" y="1989000"/>
            <a:ext cx="158436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692360" y="14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n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1835280" y="1844640"/>
            <a:ext cx="273672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724360" y="54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ath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1052640"/>
            <a:ext cx="1008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79280" y="4869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2556000" y="115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3" descr="9db82856f2cff5c8678c879db7732c02"/>
          <p:cNvPicPr/>
          <p:nvPr/>
        </p:nvPicPr>
        <p:blipFill>
          <a:blip r:embed="rId3"/>
          <a:stretch/>
        </p:blipFill>
        <p:spPr>
          <a:xfrm>
            <a:off x="0" y="0"/>
            <a:ext cx="1725480" cy="2300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4"/>
          <p:cNvSpPr/>
          <p:nvPr/>
        </p:nvSpPr>
        <p:spPr>
          <a:xfrm>
            <a:off x="10800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684360" y="3789360"/>
            <a:ext cx="50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6" descr="Standard_Garage"/>
          <p:cNvPicPr/>
          <p:nvPr/>
        </p:nvPicPr>
        <p:blipFill>
          <a:blip r:embed="rId4"/>
          <a:stretch/>
        </p:blipFill>
        <p:spPr>
          <a:xfrm>
            <a:off x="7205760" y="5403960"/>
            <a:ext cx="1938240" cy="14540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7"/>
          <p:cNvSpPr/>
          <p:nvPr/>
        </p:nvSpPr>
        <p:spPr>
          <a:xfrm>
            <a:off x="7524720" y="39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a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8244000" y="4508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9"/>
          <p:cNvSpPr/>
          <p:nvPr/>
        </p:nvSpPr>
        <p:spPr>
          <a:xfrm flipH="1">
            <a:off x="1835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7451640" y="1159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 1 p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ardinal-ordinal-numbers-4-728"/>
          <p:cNvPicPr/>
          <p:nvPr/>
        </p:nvPicPr>
        <p:blipFill>
          <a:blip r:embed="rId2"/>
          <a:stretch/>
        </p:blipFill>
        <p:spPr>
          <a:xfrm>
            <a:off x="250920" y="189000"/>
            <a:ext cx="6933960" cy="5200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738036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 2 p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380360" y="836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 7 p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547640" y="2602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e is … in my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dom12"/>
          <p:cNvPicPr/>
          <p:nvPr/>
        </p:nvPicPr>
        <p:blipFill>
          <a:blip r:embed="rId2"/>
          <a:stretch/>
        </p:blipFill>
        <p:spPr>
          <a:xfrm>
            <a:off x="108000" y="1628640"/>
            <a:ext cx="7378560" cy="5229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1547640" y="83664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e is … near my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Standard_Garage"/>
          <p:cNvPicPr/>
          <p:nvPr/>
        </p:nvPicPr>
        <p:blipFill>
          <a:blip r:embed="rId3"/>
          <a:stretch/>
        </p:blipFill>
        <p:spPr>
          <a:xfrm>
            <a:off x="6732720" y="504828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354820534-0315118-www"/>
          <p:cNvPicPr/>
          <p:nvPr/>
        </p:nvPicPr>
        <p:blipFill>
          <a:blip r:embed="rId4"/>
          <a:stretch/>
        </p:blipFill>
        <p:spPr>
          <a:xfrm>
            <a:off x="1979640" y="4724280"/>
            <a:ext cx="1150920" cy="1055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250920" y="6308640"/>
            <a:ext cx="23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24000" y="6308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round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88407832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BrE-Vs-Ame-Building-Floors"/>
          <p:cNvPicPr/>
          <p:nvPr/>
        </p:nvPicPr>
        <p:blipFill>
          <a:blip r:embed="rId2"/>
          <a:stretch/>
        </p:blipFill>
        <p:spPr>
          <a:xfrm>
            <a:off x="1619280" y="2085840"/>
            <a:ext cx="5753160" cy="4772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24000" y="1890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Which floor are you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24000" y="112536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’m on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on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flo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059280" y="18900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68360" y="98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my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5280" y="234936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is … in my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8360" y="16286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on the … flo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68360" y="3068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ike my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7308720" y="443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 4 p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5T14:47:11Z</dcterms:created>
  <dc:creator>Ира</dc:creator>
  <dc:description/>
  <dc:language>en-US</dc:language>
  <cp:lastModifiedBy>user</cp:lastModifiedBy>
  <dcterms:modified xsi:type="dcterms:W3CDTF">2023-01-19T01:31:25Z</dcterms:modified>
  <cp:revision>14</cp:revision>
  <dc:subject/>
  <dc:title>Слайд 1</dc:title>
</cp:coreProperties>
</file>