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2CD-566C-4BCA-939E-536AFB95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402-117C-4D28-853D-0962712B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9F7-0E20-4FE3-8005-57220C51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45C-FB2E-4E08-95F0-9B6973D6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54E30-B9B7-42AB-87B4-0F4DCC81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726F-7009-44D9-B62B-38487FA6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292B8-BFB4-4907-9058-BB2EE1F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449C1-6CB3-48CD-8A49-CD4ACD31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BD64-E873-44D1-9974-CCD852EA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497CE-06EF-431C-9EB3-4B0C8AD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E7D9-C182-4F13-B4C2-9E6AAD0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578-6683-4FC4-B0FE-9436160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C5FC9-370D-491A-91CC-B2F3BFF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E93F8-4C86-49F4-965D-2D29623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5AC80-3FBD-4ED7-B159-1A9E179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5841E-5C3A-44A4-93C4-0AD70CEC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07FD-B50B-4C4A-80A9-9E305350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715-F5F3-4ED8-AD65-436637A2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24-777C-4A95-9A44-7794363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EF2-D605-4937-962F-527B832B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1AB-8112-4E89-B6C3-0406CFA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7BF-2B2E-4D4A-8DF4-9C8AAF40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1F8-716D-42CE-B256-5D1A93E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B59-76FC-4C80-8719-19069AC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C684-930C-471E-8B84-A292929AB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E7B8-A321-4154-BC08-9F7C97EA35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Cambria"/>
                <a:ea typeface="Cambria"/>
              </a:rPr>
              <a:t>Правила безопасного поведения на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589720"/>
            <a:ext cx="73771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ил: Пшеничников А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поведения при куп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166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есчастн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отр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спас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ельные круг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леты и костю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люпки и наду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ты, установл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4" descr="{18C45604-28A8-497D-BF25-28DB44BA7C63}"/>
          <p:cNvPicPr/>
          <p:nvPr/>
        </p:nvPicPr>
        <p:blipFill>
          <a:blip r:embed="rId1"/>
          <a:stretch/>
        </p:blipFill>
        <p:spPr>
          <a:xfrm>
            <a:off x="3780000" y="213372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ичины происшествий и несчастных случаев на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48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плую летнюю погоду купание доставляет большое удовольствие, но на воде происходят и трагические случайности. Одна из главных причин - неумение плавать, неумение держаться на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ры безопасности пр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эксплуатации плав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аясь на лодке, нельзя: пересаживаться, садиться на борта, перегружать её сверх установленной нормы, подплывать близко к гидротехническим сооружениям, судам, выплывать на фарва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Diagram 4"/>
          <p:cNvGrpSpPr/>
          <p:nvPr/>
        </p:nvGrpSpPr>
        <p:grpSpPr>
          <a:xfrm>
            <a:off x="3564000" y="1773360"/>
            <a:ext cx="5441760" cy="4572000"/>
            <a:chOff x="3564000" y="1773360"/>
            <a:chExt cx="5441760" cy="4572000"/>
          </a:xfrm>
        </p:grpSpPr>
        <p:sp>
          <p:nvSpPr>
            <p:cNvPr id="93" name="_s1028"/>
            <p:cNvSpPr/>
            <p:nvPr/>
          </p:nvSpPr>
          <p:spPr>
            <a:xfrm flipH="1" flipV="1">
              <a:off x="5156280" y="338940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29"/>
            <p:cNvSpPr/>
            <p:nvPr/>
          </p:nvSpPr>
          <p:spPr>
            <a:xfrm>
              <a:off x="4021200" y="2643120"/>
              <a:ext cx="1681200" cy="84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нырять с плавсредств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0"/>
            <p:cNvSpPr/>
            <p:nvPr/>
          </p:nvSpPr>
          <p:spPr>
            <a:xfrm flipH="1">
              <a:off x="515628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1"/>
            <p:cNvSpPr/>
            <p:nvPr/>
          </p:nvSpPr>
          <p:spPr>
            <a:xfrm>
              <a:off x="3564000" y="4367160"/>
              <a:ext cx="1829160" cy="1302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льзя пересекать курс судна, кататься вблизи шлюзов, плотин и мос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2"/>
            <p:cNvSpPr/>
            <p:nvPr/>
          </p:nvSpPr>
          <p:spPr>
            <a:xfrm>
              <a:off x="6307560" y="4630680"/>
              <a:ext cx="72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5621760" y="5202360"/>
              <a:ext cx="1714680" cy="1143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и посадке в плавсредство не вставать на борта и сидень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684900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5"/>
            <p:cNvSpPr/>
            <p:nvPr/>
          </p:nvSpPr>
          <p:spPr>
            <a:xfrm>
              <a:off x="7326360" y="4516560"/>
              <a:ext cx="1679040" cy="685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перегружать плавсред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6"/>
            <p:cNvSpPr/>
            <p:nvPr/>
          </p:nvSpPr>
          <p:spPr>
            <a:xfrm flipV="1">
              <a:off x="6849000" y="339012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7"/>
            <p:cNvSpPr/>
            <p:nvPr/>
          </p:nvSpPr>
          <p:spPr>
            <a:xfrm>
              <a:off x="6993720" y="2230560"/>
              <a:ext cx="2012040" cy="1485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е сидеть на бортах, не переходить с места на место и не пересаживаться на другие плавательные сред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8"/>
            <p:cNvSpPr/>
            <p:nvPr/>
          </p:nvSpPr>
          <p:spPr>
            <a:xfrm flipV="1">
              <a:off x="6284880" y="2738160"/>
              <a:ext cx="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9"/>
            <p:cNvSpPr/>
            <p:nvPr/>
          </p:nvSpPr>
          <p:spPr>
            <a:xfrm>
              <a:off x="5621760" y="1773360"/>
              <a:ext cx="1474560" cy="10285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о время движения не выставлять руки за борт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40"/>
            <p:cNvSpPr/>
            <p:nvPr/>
          </p:nvSpPr>
          <p:spPr>
            <a:xfrm>
              <a:off x="5050080" y="3373560"/>
              <a:ext cx="2389320" cy="1257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Меры безопасности при эксплуатации плавательных средст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049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йствия человека, оказавшегося в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вшись в воде, скиньте одежду и обувь. Если поблизости находятся плавсредства, постарайтесь подплыть к ним и посигнальте, чтобы вас замет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{DE0632F1-709F-4721-8504-95698005DF7E}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спользование спасательных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утопающему подходить при хорошей погоде - кратчайшем путём, а при ветре или волнении - с подветренной стороны или против волны. При приближении к тонущему соблюдать осторожность. Поднимать пострадавшего из воды необходимо с носа или кормы лод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Organization Chart 4"/>
          <p:cNvGrpSpPr/>
          <p:nvPr/>
        </p:nvGrpSpPr>
        <p:grpSpPr>
          <a:xfrm>
            <a:off x="4648320" y="2590560"/>
            <a:ext cx="4244400" cy="2162160"/>
            <a:chOff x="4648320" y="2590560"/>
            <a:chExt cx="4244400" cy="2162160"/>
          </a:xfrm>
        </p:grpSpPr>
        <p:cxnSp>
          <p:nvCxnSpPr>
            <p:cNvPr id="112" name="_s2052"/>
            <p:cNvCxnSpPr>
              <a:stCxn id="113" idx="0"/>
              <a:endCxn id="114" idx="2"/>
            </p:cNvCxnSpPr>
            <p:nvPr/>
          </p:nvCxnSpPr>
          <p:spPr>
            <a:xfrm flipV="1">
              <a:off x="79250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0"/>
              <a:endCxn id="117" idx="2"/>
            </p:cNvCxnSpPr>
            <p:nvPr/>
          </p:nvCxnSpPr>
          <p:spPr>
            <a:xfrm flipV="1">
              <a:off x="56156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4" idx="0"/>
              <a:endCxn id="119" idx="2"/>
            </p:cNvCxnSpPr>
            <p:nvPr/>
          </p:nvCxnSpPr>
          <p:spPr>
            <a:xfrm flipV="1" rot="16200000">
              <a:off x="7233120" y="2546640"/>
              <a:ext cx="229320" cy="11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5"/>
            <p:cNvCxnSpPr>
              <a:stCxn id="117" idx="0"/>
              <a:endCxn id="119" idx="2"/>
            </p:cNvCxnSpPr>
            <p:nvPr/>
          </p:nvCxnSpPr>
          <p:spPr>
            <a:xfrm flipH="1" flipV="1" rot="5400000">
              <a:off x="6078960" y="2545920"/>
              <a:ext cx="229320" cy="115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2056"/>
            <p:cNvSpPr/>
            <p:nvPr/>
          </p:nvSpPr>
          <p:spPr>
            <a:xfrm>
              <a:off x="5013360" y="2590560"/>
              <a:ext cx="3514320" cy="4186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ahoma"/>
                </a:rPr>
                <a:t>Способы использования плавсредств для спасения утопающих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470052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хорошей погод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700848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встречном волнен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2059"/>
            <p:cNvSpPr/>
            <p:nvPr/>
          </p:nvSpPr>
          <p:spPr>
            <a:xfrm>
              <a:off x="464832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кратчайшим путем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2060"/>
            <p:cNvSpPr/>
            <p:nvPr/>
          </p:nvSpPr>
          <p:spPr>
            <a:xfrm>
              <a:off x="695628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с подветренной сторон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или против волн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ехника спасения тонущего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плыв к утопающему, надо поднырнуть под него и, взяв сзади одним из приемов захвата, транспортировать к берегу, где при необходимости начать комплекс сердечно-лёгочной реани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{683F7544-CB8F-4D15-9AF5-26168FA20B71}"/>
          <p:cNvPicPr/>
          <p:nvPr/>
        </p:nvPicPr>
        <p:blipFill>
          <a:blip r:embed="rId1"/>
          <a:stretch/>
        </p:blipFill>
        <p:spPr>
          <a:xfrm>
            <a:off x="4648320" y="1940040"/>
            <a:ext cx="40384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поведения при купании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ые советы: не купаться в незнакомых местах, не стараться плыть как можно дольше под водой, следить за младшими братьями (сестрами), не нарушать правил пользования плавсред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{5C0D5BA5-F074-4B46-B421-5919F787CE42}"/>
          <p:cNvPicPr/>
          <p:nvPr/>
        </p:nvPicPr>
        <p:blipFill>
          <a:blip r:embed="rId1"/>
          <a:stretch/>
        </p:blipFill>
        <p:spPr>
          <a:xfrm>
            <a:off x="4427640" y="2448000"/>
            <a:ext cx="446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00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езопасное поведение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замёрзших водоём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движении по льду необходимо увеличить интервалы между людьми, растянуть или ослабить ремни рюкзаков, расстегнуть крепления лыж, приготовить вере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лед затрещал или начал ломаться - быстрее возвращайся скользящим шагом или ползком к бере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льзя ходить по льду во время оттепе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{40D76DC9-F3A0-440A-AA17-518144DCFC23}"/>
          <p:cNvPicPr/>
          <p:nvPr/>
        </p:nvPicPr>
        <p:blipFill>
          <a:blip r:embed="rId1"/>
          <a:stretch/>
        </p:blipFill>
        <p:spPr>
          <a:xfrm>
            <a:off x="4648320" y="2205000"/>
            <a:ext cx="4171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4:40Z</dcterms:created>
  <dc:creator>1</dc:creator>
  <dc:description/>
  <dc:language>en-US</dc:language>
  <cp:lastModifiedBy>Microsoft</cp:lastModifiedBy>
  <dcterms:modified xsi:type="dcterms:W3CDTF">2023-01-18T09:34:55Z</dcterms:modified>
  <cp:revision>21</cp:revision>
  <dc:subject/>
  <dc:title>  Урок ОБЖ</dc:title>
</cp:coreProperties>
</file>