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E27-E68F-42EE-9953-A945818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018-B0F3-42BC-933E-C0188FC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E2B-FDFB-4734-AC54-A138B7BD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D6B-545A-487A-A916-B821B3D6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D050B-DB7A-4025-A79F-1E98CEBA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F50F-D155-4487-AEB0-337744B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64406-A383-46EE-A36E-90AD910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5237-D6EE-47CA-BBD1-8CF11CBC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5338B-1CF4-43F1-92AA-A82553D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5FED6-8965-449C-986C-FA8DE4B6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26084-8F9F-4FFF-8DF2-C360C08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CDE-2865-45F0-9811-A17CBA4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2BD0B-4632-4391-A97B-6A57898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9B3A-2B59-47EB-A87C-76B6CCB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34B74-12C0-40A0-B1B2-A28378EA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9ECA-1C8A-435C-8335-782EE3ED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D163B-DAC6-4B18-80F8-173D59D0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B7F-02F8-447B-8D8C-CF9590BC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A5F-0BFA-4A08-9182-05749A9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231-2C2C-496F-B36D-A162A98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ECB-3C29-47FE-BEC9-CA49B1E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7F8-8104-47A0-B0A5-1004C8F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F55-1EA3-406E-A6CB-4B6939D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029-0F2F-4306-95D3-66BE797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E1F-3654-4731-B133-BE583F345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FA4-D6FE-48A1-923A-8935C4996A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mbria"/>
                <a:ea typeface="Cambria"/>
              </a:rPr>
              <a:t>Правила безопасного поведения на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589720"/>
            <a:ext cx="73771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: Пшеничников А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поведения при куп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166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есчастн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отр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спас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ельные круг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леты и костю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люпки и наду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ты, установл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4" descr="{18C45604-28A8-497D-BF25-28DB44BA7C63}"/>
          <p:cNvPicPr/>
          <p:nvPr/>
        </p:nvPicPr>
        <p:blipFill>
          <a:blip r:embed="rId1"/>
          <a:stretch/>
        </p:blipFill>
        <p:spPr>
          <a:xfrm>
            <a:off x="3780000" y="213372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ичины происшествий и несчастных случаев на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48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плую летнюю погоду купание доставляет большое удовольствие, но на воде происходят и трагические случайности. Одна из главных причин - неумение плавать, неумение держаться на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ры безопасности пр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эксплуатации плав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аясь на лодке, нельзя: пересаживаться, садиться на борта, перегружать её сверх установленной нормы, подплывать близко к гидротехническим сооружениям, судам, выплывать на фарва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Diagram 4"/>
          <p:cNvGrpSpPr/>
          <p:nvPr/>
        </p:nvGrpSpPr>
        <p:grpSpPr>
          <a:xfrm>
            <a:off x="3564000" y="1773360"/>
            <a:ext cx="5441760" cy="4572000"/>
            <a:chOff x="3564000" y="1773360"/>
            <a:chExt cx="5441760" cy="4572000"/>
          </a:xfrm>
        </p:grpSpPr>
        <p:sp>
          <p:nvSpPr>
            <p:cNvPr id="93" name="_s1028"/>
            <p:cNvSpPr/>
            <p:nvPr/>
          </p:nvSpPr>
          <p:spPr>
            <a:xfrm flipH="1" flipV="1">
              <a:off x="5156280" y="338940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29"/>
            <p:cNvSpPr/>
            <p:nvPr/>
          </p:nvSpPr>
          <p:spPr>
            <a:xfrm>
              <a:off x="4021200" y="2643120"/>
              <a:ext cx="1681200" cy="84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нырять с плавсредств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0"/>
            <p:cNvSpPr/>
            <p:nvPr/>
          </p:nvSpPr>
          <p:spPr>
            <a:xfrm flipH="1">
              <a:off x="515628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1"/>
            <p:cNvSpPr/>
            <p:nvPr/>
          </p:nvSpPr>
          <p:spPr>
            <a:xfrm>
              <a:off x="3564000" y="4367160"/>
              <a:ext cx="1829160" cy="1302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льзя пересекать курс судна, кататься вблизи шлюзов, плотин и мос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2"/>
            <p:cNvSpPr/>
            <p:nvPr/>
          </p:nvSpPr>
          <p:spPr>
            <a:xfrm>
              <a:off x="6307560" y="4630680"/>
              <a:ext cx="72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5621760" y="5202360"/>
              <a:ext cx="1714680" cy="1143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и посадке в плавсредство не вставать на борта и сидень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684900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5"/>
            <p:cNvSpPr/>
            <p:nvPr/>
          </p:nvSpPr>
          <p:spPr>
            <a:xfrm>
              <a:off x="7326360" y="4516560"/>
              <a:ext cx="1679040" cy="685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перегружать плавсред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6"/>
            <p:cNvSpPr/>
            <p:nvPr/>
          </p:nvSpPr>
          <p:spPr>
            <a:xfrm flipV="1">
              <a:off x="6849000" y="339012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7"/>
            <p:cNvSpPr/>
            <p:nvPr/>
          </p:nvSpPr>
          <p:spPr>
            <a:xfrm>
              <a:off x="6993720" y="2230560"/>
              <a:ext cx="2012040" cy="1485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е сидеть на бортах, не переходить с места на место и не пересаживаться на другие плавательные сред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8"/>
            <p:cNvSpPr/>
            <p:nvPr/>
          </p:nvSpPr>
          <p:spPr>
            <a:xfrm flipV="1">
              <a:off x="6284880" y="2738160"/>
              <a:ext cx="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9"/>
            <p:cNvSpPr/>
            <p:nvPr/>
          </p:nvSpPr>
          <p:spPr>
            <a:xfrm>
              <a:off x="5621760" y="1773360"/>
              <a:ext cx="1474560" cy="10285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о время движения не выставлять руки за борт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40"/>
            <p:cNvSpPr/>
            <p:nvPr/>
          </p:nvSpPr>
          <p:spPr>
            <a:xfrm>
              <a:off x="5050080" y="3373560"/>
              <a:ext cx="2389320" cy="1257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Меры безопасности при эксплуатации плавательных средст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049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йствия человека, оказавшегося в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вшись в воде, скиньте одежду и обувь. Если поблизости находятся плавсредства, постарайтесь подплыть к ним и посигнальте, чтобы вас замет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{DE0632F1-709F-4721-8504-95698005DF7E}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спользование спасательных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утопающему подходить при хорошей погоде - кратчайшем путём, а при ветре или волнении - с подветренной стороны или против волны. При приближении к тонущему соблюдать осторожность. Поднимать пострадавшего из воды необходимо с носа или кормы лод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Organization Chart 4"/>
          <p:cNvGrpSpPr/>
          <p:nvPr/>
        </p:nvGrpSpPr>
        <p:grpSpPr>
          <a:xfrm>
            <a:off x="4648320" y="2590560"/>
            <a:ext cx="4244400" cy="2162160"/>
            <a:chOff x="4648320" y="2590560"/>
            <a:chExt cx="4244400" cy="2162160"/>
          </a:xfrm>
        </p:grpSpPr>
        <p:cxnSp>
          <p:nvCxnSpPr>
            <p:cNvPr id="112" name="_s2052"/>
            <p:cNvCxnSpPr>
              <a:stCxn id="113" idx="0"/>
              <a:endCxn id="114" idx="2"/>
            </p:cNvCxnSpPr>
            <p:nvPr/>
          </p:nvCxnSpPr>
          <p:spPr>
            <a:xfrm flipV="1">
              <a:off x="79250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0"/>
              <a:endCxn id="117" idx="2"/>
            </p:cNvCxnSpPr>
            <p:nvPr/>
          </p:nvCxnSpPr>
          <p:spPr>
            <a:xfrm flipV="1">
              <a:off x="56156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4" idx="0"/>
              <a:endCxn id="119" idx="2"/>
            </p:cNvCxnSpPr>
            <p:nvPr/>
          </p:nvCxnSpPr>
          <p:spPr>
            <a:xfrm flipV="1" rot="16200000">
              <a:off x="7233120" y="2546640"/>
              <a:ext cx="229320" cy="11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5"/>
            <p:cNvCxnSpPr>
              <a:stCxn id="117" idx="0"/>
              <a:endCxn id="119" idx="2"/>
            </p:cNvCxnSpPr>
            <p:nvPr/>
          </p:nvCxnSpPr>
          <p:spPr>
            <a:xfrm flipH="1" flipV="1" rot="5400000">
              <a:off x="6078960" y="2545920"/>
              <a:ext cx="229320" cy="115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2056"/>
            <p:cNvSpPr/>
            <p:nvPr/>
          </p:nvSpPr>
          <p:spPr>
            <a:xfrm>
              <a:off x="5013360" y="2590560"/>
              <a:ext cx="3514320" cy="4186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ahoma"/>
                </a:rPr>
                <a:t>Способы использования плавсредств для спасения утопающих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470052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хорошей погод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700848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встречном волнен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2059"/>
            <p:cNvSpPr/>
            <p:nvPr/>
          </p:nvSpPr>
          <p:spPr>
            <a:xfrm>
              <a:off x="464832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кратчайшим путем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2060"/>
            <p:cNvSpPr/>
            <p:nvPr/>
          </p:nvSpPr>
          <p:spPr>
            <a:xfrm>
              <a:off x="695628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с подветренной сторон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или против волн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ехника спасения тонущего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плыв к утопающему, надо поднырнуть под него и, взяв сзади одним из приемов захвата, транспортировать к берегу, где при необходимости начать комплекс сердечно-лёгочной реани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{683F7544-CB8F-4D15-9AF5-26168FA20B71}"/>
          <p:cNvPicPr/>
          <p:nvPr/>
        </p:nvPicPr>
        <p:blipFill>
          <a:blip r:embed="rId1"/>
          <a:stretch/>
        </p:blipFill>
        <p:spPr>
          <a:xfrm>
            <a:off x="4648320" y="1940040"/>
            <a:ext cx="40384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поведения при купании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ые советы: не купаться в незнакомых местах, не стараться плыть как можно дольше под водой, следить за младшими братьями (сестрами), не нарушать правил пользования плавсред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{5C0D5BA5-F074-4B46-B421-5919F787CE42}"/>
          <p:cNvPicPr/>
          <p:nvPr/>
        </p:nvPicPr>
        <p:blipFill>
          <a:blip r:embed="rId1"/>
          <a:stretch/>
        </p:blipFill>
        <p:spPr>
          <a:xfrm>
            <a:off x="4427640" y="2448000"/>
            <a:ext cx="446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00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езопасное поведение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замёрзших водоём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движении по льду необходимо увеличить интервалы между людьми, растянуть или ослабить ремни рюкзаков, расстегнуть крепления лыж, приготовить вере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лед затрещал или начал ломаться - быстрее возвращайся скользящим шагом или ползком к бере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льзя ходить по льду во время оттепе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{40D76DC9-F3A0-440A-AA17-518144DCFC23}"/>
          <p:cNvPicPr/>
          <p:nvPr/>
        </p:nvPicPr>
        <p:blipFill>
          <a:blip r:embed="rId1"/>
          <a:stretch/>
        </p:blipFill>
        <p:spPr>
          <a:xfrm>
            <a:off x="4648320" y="2205000"/>
            <a:ext cx="4171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4:40Z</dcterms:created>
  <dc:creator>1</dc:creator>
  <dc:description/>
  <dc:language>en-US</dc:language>
  <cp:lastModifiedBy>Microsoft</cp:lastModifiedBy>
  <dcterms:modified xsi:type="dcterms:W3CDTF">2023-01-18T09:34:55Z</dcterms:modified>
  <cp:revision>21</cp:revision>
  <dc:subject/>
  <dc:title>  Урок ОБЖ</dc:title>
</cp:coreProperties>
</file>