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97A-BE55-4301-B6A2-6F068928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B8A-9165-474B-A042-D77E0BF4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F20-331E-4F89-8861-C8F88FA5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FB7-347B-488D-B214-D4ABD42A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DC4-3C4D-4648-A380-5A67801C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9F1-4F4A-44FE-A742-94EEDBF7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0F4-3343-4BF4-BC21-43F9E31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CF5-9B10-42AE-BCE8-CBF64043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6A3-90B3-462A-B84B-C8ABC634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185-7F65-4ACA-8DFE-E8B3B21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FD4-830A-4852-BD73-6A0CCB6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F1E-30CD-49E0-9C3E-EAB16E0C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9D29-7A66-444C-9C9F-07032B2284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73120" y="378000"/>
            <a:ext cx="7686720" cy="2384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C:\Users\Helen\Desktop\ель\2011-11-14_183611.jpg"/>
          <p:cNvPicPr/>
          <p:nvPr/>
        </p:nvPicPr>
        <p:blipFill>
          <a:blip r:embed="rId2"/>
          <a:stretch/>
        </p:blipFill>
        <p:spPr>
          <a:xfrm>
            <a:off x="642960" y="4714920"/>
            <a:ext cx="7778880" cy="111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53.radikal.ru/i142/0811/50/7cec52193017.jpg"/>
          <p:cNvPicPr/>
          <p:nvPr/>
        </p:nvPicPr>
        <p:blipFill>
          <a:blip r:embed="rId1"/>
          <a:stretch/>
        </p:blipFill>
        <p:spPr>
          <a:xfrm>
            <a:off x="2857680" y="3386160"/>
            <a:ext cx="4400280" cy="3181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art.ioso.ru/wiki/images/38.jpg"/>
          <p:cNvPicPr/>
          <p:nvPr/>
        </p:nvPicPr>
        <p:blipFill>
          <a:blip r:embed="rId2"/>
          <a:stretch/>
        </p:blipFill>
        <p:spPr>
          <a:xfrm>
            <a:off x="371520" y="642960"/>
            <a:ext cx="795816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nalety.0-ua.com/wp-content/uploads/2011/01/56.jpg"/>
          <p:cNvPicPr/>
          <p:nvPr/>
        </p:nvPicPr>
        <p:blipFill>
          <a:blip r:embed="rId1"/>
          <a:srcRect l="0" t="7490" r="0" b="50085"/>
          <a:stretch/>
        </p:blipFill>
        <p:spPr>
          <a:xfrm>
            <a:off x="593640" y="571680"/>
            <a:ext cx="8067600" cy="514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Helen\Desktop\ель\2011-11-14_183611.jpg"/>
          <p:cNvPicPr/>
          <p:nvPr/>
        </p:nvPicPr>
        <p:blipFill>
          <a:blip r:embed="rId1"/>
          <a:stretch/>
        </p:blipFill>
        <p:spPr>
          <a:xfrm>
            <a:off x="785880" y="428760"/>
            <a:ext cx="7778520" cy="111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Helen\Desktop\ель\2011-11-14_183620.jpg"/>
          <p:cNvPicPr/>
          <p:nvPr/>
        </p:nvPicPr>
        <p:blipFill>
          <a:blip r:embed="rId2"/>
          <a:stretch/>
        </p:blipFill>
        <p:spPr>
          <a:xfrm>
            <a:off x="571680" y="3143160"/>
            <a:ext cx="8227800" cy="1776600"/>
          </a:xfrm>
          <a:prstGeom prst="rect">
            <a:avLst/>
          </a:prstGeom>
          <a:ln w="0">
            <a:noFill/>
          </a:ln>
        </p:spPr>
      </p:pic>
      <p:sp>
        <p:nvSpPr>
          <p:cNvPr id="48" name="Минус 3"/>
          <p:cNvSpPr/>
          <p:nvPr/>
        </p:nvSpPr>
        <p:spPr>
          <a:xfrm>
            <a:off x="-428760" y="3500280"/>
            <a:ext cx="10001520" cy="46080"/>
          </a:xfrm>
          <a:custGeom>
            <a:avLst/>
            <a:gdLst/>
            <a:ahLst/>
            <a:rect l="l" t="t" r="r" b="b"/>
            <a:pathLst>
              <a:path w="10001250" h="46037">
                <a:moveTo>
                  <a:pt x="1325666" y="17605"/>
                </a:moveTo>
                <a:lnTo>
                  <a:pt x="8675584" y="17605"/>
                </a:lnTo>
                <a:lnTo>
                  <a:pt x="8675584" y="28432"/>
                </a:lnTo>
                <a:lnTo>
                  <a:pt x="1325666" y="28432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инус 4"/>
          <p:cNvSpPr/>
          <p:nvPr/>
        </p:nvSpPr>
        <p:spPr>
          <a:xfrm>
            <a:off x="-357120" y="4429080"/>
            <a:ext cx="10001160" cy="46080"/>
          </a:xfrm>
          <a:custGeom>
            <a:avLst/>
            <a:gdLst/>
            <a:ahLst/>
            <a:rect l="l" t="t" r="r" b="b"/>
            <a:pathLst>
              <a:path w="10001251" h="46038">
                <a:moveTo>
                  <a:pt x="1325666" y="17605"/>
                </a:moveTo>
                <a:lnTo>
                  <a:pt x="8675585" y="17605"/>
                </a:lnTo>
                <a:lnTo>
                  <a:pt x="8675585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Helen\Desktop\ель\2011-11-14_183626.jpg"/>
          <p:cNvPicPr/>
          <p:nvPr/>
        </p:nvPicPr>
        <p:blipFill>
          <a:blip r:embed="rId1"/>
          <a:stretch/>
        </p:blipFill>
        <p:spPr>
          <a:xfrm>
            <a:off x="571680" y="500040"/>
            <a:ext cx="7553160" cy="150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Helen\Desktop\ель\2011-11-14_183639.jpg"/>
          <p:cNvPicPr/>
          <p:nvPr/>
        </p:nvPicPr>
        <p:blipFill>
          <a:blip r:embed="rId2"/>
          <a:stretch/>
        </p:blipFill>
        <p:spPr>
          <a:xfrm>
            <a:off x="714240" y="3214800"/>
            <a:ext cx="8083800" cy="1643040"/>
          </a:xfrm>
          <a:prstGeom prst="rect">
            <a:avLst/>
          </a:prstGeom>
          <a:ln w="0">
            <a:noFill/>
          </a:ln>
        </p:spPr>
      </p:pic>
      <p:sp>
        <p:nvSpPr>
          <p:cNvPr id="52" name="Минус 4"/>
          <p:cNvSpPr/>
          <p:nvPr/>
        </p:nvSpPr>
        <p:spPr>
          <a:xfrm>
            <a:off x="-500040" y="714240"/>
            <a:ext cx="10001160" cy="46080"/>
          </a:xfrm>
          <a:custGeom>
            <a:avLst/>
            <a:gdLst/>
            <a:ahLst/>
            <a:rect l="l" t="t" r="r" b="b"/>
            <a:pathLst>
              <a:path w="10001251" h="46038">
                <a:moveTo>
                  <a:pt x="1325666" y="17605"/>
                </a:moveTo>
                <a:lnTo>
                  <a:pt x="8675585" y="17605"/>
                </a:lnTo>
                <a:lnTo>
                  <a:pt x="8675585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инус 5"/>
          <p:cNvSpPr/>
          <p:nvPr/>
        </p:nvSpPr>
        <p:spPr>
          <a:xfrm>
            <a:off x="-500040" y="1643040"/>
            <a:ext cx="10001160" cy="46080"/>
          </a:xfrm>
          <a:custGeom>
            <a:avLst/>
            <a:gdLst/>
            <a:ahLst/>
            <a:rect l="l" t="t" r="r" b="b"/>
            <a:pathLst>
              <a:path w="10001251" h="46037">
                <a:moveTo>
                  <a:pt x="1325666" y="17605"/>
                </a:moveTo>
                <a:lnTo>
                  <a:pt x="8675585" y="17605"/>
                </a:lnTo>
                <a:lnTo>
                  <a:pt x="8675585" y="28432"/>
                </a:lnTo>
                <a:lnTo>
                  <a:pt x="1325666" y="28432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инус 6"/>
          <p:cNvSpPr/>
          <p:nvPr/>
        </p:nvSpPr>
        <p:spPr>
          <a:xfrm>
            <a:off x="-428760" y="3571920"/>
            <a:ext cx="10001520" cy="46080"/>
          </a:xfrm>
          <a:custGeom>
            <a:avLst/>
            <a:gdLst/>
            <a:ahLst/>
            <a:rect l="l" t="t" r="r" b="b"/>
            <a:pathLst>
              <a:path w="10001250" h="46038">
                <a:moveTo>
                  <a:pt x="1325666" y="17605"/>
                </a:moveTo>
                <a:lnTo>
                  <a:pt x="8675584" y="17605"/>
                </a:lnTo>
                <a:lnTo>
                  <a:pt x="8675584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инус 7"/>
          <p:cNvSpPr/>
          <p:nvPr/>
        </p:nvSpPr>
        <p:spPr>
          <a:xfrm>
            <a:off x="-428760" y="4572000"/>
            <a:ext cx="10001520" cy="46080"/>
          </a:xfrm>
          <a:custGeom>
            <a:avLst/>
            <a:gdLst/>
            <a:ahLst/>
            <a:rect l="l" t="t" r="r" b="b"/>
            <a:pathLst>
              <a:path w="10001250" h="46038">
                <a:moveTo>
                  <a:pt x="1325666" y="17605"/>
                </a:moveTo>
                <a:lnTo>
                  <a:pt x="8675584" y="17605"/>
                </a:lnTo>
                <a:lnTo>
                  <a:pt x="8675584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инус 8"/>
          <p:cNvSpPr/>
          <p:nvPr/>
        </p:nvSpPr>
        <p:spPr>
          <a:xfrm rot="5400000">
            <a:off x="3678840" y="1107360"/>
            <a:ext cx="1214280" cy="142920"/>
          </a:xfrm>
          <a:custGeom>
            <a:avLst/>
            <a:gdLst/>
            <a:ahLst/>
            <a:rect l="l" t="t" r="r" b="b"/>
            <a:pathLst>
              <a:path w="1214438" h="142875">
                <a:moveTo>
                  <a:pt x="160974" y="54635"/>
                </a:moveTo>
                <a:lnTo>
                  <a:pt x="1053464" y="54635"/>
                </a:lnTo>
                <a:lnTo>
                  <a:pt x="1053464" y="88240"/>
                </a:lnTo>
                <a:lnTo>
                  <a:pt x="160974" y="88240"/>
                </a:lnTo>
                <a:lnTo>
                  <a:pt x="160974" y="546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инус 9"/>
          <p:cNvSpPr/>
          <p:nvPr/>
        </p:nvSpPr>
        <p:spPr>
          <a:xfrm rot="5400000">
            <a:off x="2142720" y="4000320"/>
            <a:ext cx="1285920" cy="142920"/>
          </a:xfrm>
          <a:custGeom>
            <a:avLst/>
            <a:gdLst/>
            <a:ahLst/>
            <a:rect l="l" t="t" r="r" b="b"/>
            <a:pathLst>
              <a:path w="1285875" h="142875">
                <a:moveTo>
                  <a:pt x="170443" y="54635"/>
                </a:moveTo>
                <a:lnTo>
                  <a:pt x="1115432" y="54635"/>
                </a:lnTo>
                <a:lnTo>
                  <a:pt x="1115432" y="88240"/>
                </a:lnTo>
                <a:lnTo>
                  <a:pt x="170443" y="88240"/>
                </a:lnTo>
                <a:lnTo>
                  <a:pt x="170443" y="546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инус 10"/>
          <p:cNvSpPr/>
          <p:nvPr/>
        </p:nvSpPr>
        <p:spPr>
          <a:xfrm rot="5400000">
            <a:off x="3964320" y="4035960"/>
            <a:ext cx="1357200" cy="142920"/>
          </a:xfrm>
          <a:custGeom>
            <a:avLst/>
            <a:gdLst/>
            <a:ahLst/>
            <a:rect l="l" t="t" r="r" b="b"/>
            <a:pathLst>
              <a:path w="1357313" h="142875">
                <a:moveTo>
                  <a:pt x="179912" y="54635"/>
                </a:moveTo>
                <a:lnTo>
                  <a:pt x="1177401" y="54635"/>
                </a:lnTo>
                <a:lnTo>
                  <a:pt x="1177401" y="88240"/>
                </a:lnTo>
                <a:lnTo>
                  <a:pt x="179912" y="88240"/>
                </a:lnTo>
                <a:lnTo>
                  <a:pt x="179912" y="546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инус 11"/>
          <p:cNvSpPr/>
          <p:nvPr/>
        </p:nvSpPr>
        <p:spPr>
          <a:xfrm rot="5400000">
            <a:off x="5928840" y="4000320"/>
            <a:ext cx="1285920" cy="142920"/>
          </a:xfrm>
          <a:custGeom>
            <a:avLst/>
            <a:gdLst/>
            <a:ahLst/>
            <a:rect l="l" t="t" r="r" b="b"/>
            <a:pathLst>
              <a:path w="1285875" h="142875">
                <a:moveTo>
                  <a:pt x="170443" y="54635"/>
                </a:moveTo>
                <a:lnTo>
                  <a:pt x="1115432" y="54635"/>
                </a:lnTo>
                <a:lnTo>
                  <a:pt x="1115432" y="88240"/>
                </a:lnTo>
                <a:lnTo>
                  <a:pt x="170443" y="88240"/>
                </a:lnTo>
                <a:lnTo>
                  <a:pt x="170443" y="546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Helen\Desktop\ель\2011-11-14_183654.jpg"/>
          <p:cNvPicPr/>
          <p:nvPr/>
        </p:nvPicPr>
        <p:blipFill>
          <a:blip r:embed="rId1"/>
          <a:stretch/>
        </p:blipFill>
        <p:spPr>
          <a:xfrm>
            <a:off x="928800" y="642960"/>
            <a:ext cx="72961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Helen\Desktop\ель\2011-11-14_183700.jpg"/>
          <p:cNvPicPr/>
          <p:nvPr/>
        </p:nvPicPr>
        <p:blipFill>
          <a:blip r:embed="rId2"/>
          <a:stretch/>
        </p:blipFill>
        <p:spPr>
          <a:xfrm>
            <a:off x="571680" y="4572000"/>
            <a:ext cx="852480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Минус 3"/>
          <p:cNvSpPr/>
          <p:nvPr/>
        </p:nvSpPr>
        <p:spPr>
          <a:xfrm>
            <a:off x="-285840" y="1143000"/>
            <a:ext cx="10001520" cy="46080"/>
          </a:xfrm>
          <a:custGeom>
            <a:avLst/>
            <a:gdLst/>
            <a:ahLst/>
            <a:rect l="l" t="t" r="r" b="b"/>
            <a:pathLst>
              <a:path w="10001250" h="46038">
                <a:moveTo>
                  <a:pt x="1325666" y="17605"/>
                </a:moveTo>
                <a:lnTo>
                  <a:pt x="8675584" y="17605"/>
                </a:lnTo>
                <a:lnTo>
                  <a:pt x="8675584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инус 4"/>
          <p:cNvSpPr/>
          <p:nvPr/>
        </p:nvSpPr>
        <p:spPr>
          <a:xfrm>
            <a:off x="-214200" y="2000160"/>
            <a:ext cx="10001160" cy="46080"/>
          </a:xfrm>
          <a:custGeom>
            <a:avLst/>
            <a:gdLst/>
            <a:ahLst/>
            <a:rect l="l" t="t" r="r" b="b"/>
            <a:pathLst>
              <a:path w="10001251" h="46038">
                <a:moveTo>
                  <a:pt x="1325666" y="17605"/>
                </a:moveTo>
                <a:lnTo>
                  <a:pt x="8675585" y="17605"/>
                </a:lnTo>
                <a:lnTo>
                  <a:pt x="8675585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Helen\Desktop\ель\2011-11-14_183706.jpg"/>
          <p:cNvPicPr/>
          <p:nvPr/>
        </p:nvPicPr>
        <p:blipFill>
          <a:blip r:embed="rId1"/>
          <a:stretch/>
        </p:blipFill>
        <p:spPr>
          <a:xfrm>
            <a:off x="500040" y="428760"/>
            <a:ext cx="7858080" cy="157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Helen\Desktop\ель\2011-11-14_183714.jpg"/>
          <p:cNvPicPr/>
          <p:nvPr/>
        </p:nvPicPr>
        <p:blipFill>
          <a:blip r:embed="rId2"/>
          <a:stretch/>
        </p:blipFill>
        <p:spPr>
          <a:xfrm>
            <a:off x="264960" y="2814480"/>
            <a:ext cx="7950240" cy="145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1928880"/>
            <a:ext cx="9144000" cy="228600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0" y="1928880"/>
            <a:ext cx="2500200" cy="228600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500200" y="1928880"/>
            <a:ext cx="2500560" cy="228600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5000760" y="1928880"/>
            <a:ext cx="2500200" cy="228600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7"/>
          <p:cNvSpPr/>
          <p:nvPr/>
        </p:nvSpPr>
        <p:spPr>
          <a:xfrm>
            <a:off x="1785960" y="34290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8"/>
          <p:cNvSpPr/>
          <p:nvPr/>
        </p:nvSpPr>
        <p:spPr>
          <a:xfrm>
            <a:off x="214200" y="2071800"/>
            <a:ext cx="571680" cy="571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9"/>
          <p:cNvSpPr/>
          <p:nvPr/>
        </p:nvSpPr>
        <p:spPr>
          <a:xfrm>
            <a:off x="2571840" y="200016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0"/>
          <p:cNvSpPr/>
          <p:nvPr/>
        </p:nvSpPr>
        <p:spPr>
          <a:xfrm>
            <a:off x="5072040" y="200016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1"/>
          <p:cNvSpPr/>
          <p:nvPr/>
        </p:nvSpPr>
        <p:spPr>
          <a:xfrm>
            <a:off x="4286160" y="350028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6715080" y="350028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3"/>
          <p:cNvSpPr/>
          <p:nvPr/>
        </p:nvSpPr>
        <p:spPr>
          <a:xfrm>
            <a:off x="7643880" y="200016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4"/>
          <p:cNvSpPr/>
          <p:nvPr/>
        </p:nvSpPr>
        <p:spPr>
          <a:xfrm>
            <a:off x="214200" y="34290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5"/>
          <p:cNvSpPr/>
          <p:nvPr/>
        </p:nvSpPr>
        <p:spPr>
          <a:xfrm>
            <a:off x="1785960" y="200016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6"/>
          <p:cNvSpPr/>
          <p:nvPr/>
        </p:nvSpPr>
        <p:spPr>
          <a:xfrm>
            <a:off x="2643120" y="34290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7"/>
          <p:cNvSpPr/>
          <p:nvPr/>
        </p:nvSpPr>
        <p:spPr>
          <a:xfrm>
            <a:off x="4286160" y="200016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8"/>
          <p:cNvSpPr/>
          <p:nvPr/>
        </p:nvSpPr>
        <p:spPr>
          <a:xfrm>
            <a:off x="5143680" y="350028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9"/>
          <p:cNvSpPr/>
          <p:nvPr/>
        </p:nvSpPr>
        <p:spPr>
          <a:xfrm>
            <a:off x="6786720" y="200016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0"/>
          <p:cNvSpPr/>
          <p:nvPr/>
        </p:nvSpPr>
        <p:spPr>
          <a:xfrm>
            <a:off x="7715160" y="350028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1"/>
          <p:cNvSpPr/>
          <p:nvPr/>
        </p:nvSpPr>
        <p:spPr>
          <a:xfrm>
            <a:off x="3500280" y="2714760"/>
            <a:ext cx="500400" cy="5000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2"/>
          <p:cNvSpPr/>
          <p:nvPr/>
        </p:nvSpPr>
        <p:spPr>
          <a:xfrm>
            <a:off x="1000080" y="2786040"/>
            <a:ext cx="500040" cy="5000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3"/>
          <p:cNvSpPr/>
          <p:nvPr/>
        </p:nvSpPr>
        <p:spPr>
          <a:xfrm>
            <a:off x="6000840" y="2714760"/>
            <a:ext cx="500040" cy="5000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4"/>
          <p:cNvSpPr/>
          <p:nvPr/>
        </p:nvSpPr>
        <p:spPr>
          <a:xfrm>
            <a:off x="8643960" y="2786040"/>
            <a:ext cx="500040" cy="5000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2792520" y="3571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идумай свой у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286000" y="4714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 интернета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chool-collection.edu.ru/catalog/rubr/000008fe-a000-4ddd-5ff6-510047601064/81315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23:15Z</dcterms:created>
  <dc:creator>Helen</dc:creator>
  <dc:description/>
  <dc:language>en-US</dc:language>
  <cp:lastModifiedBy>Админ</cp:lastModifiedBy>
  <dcterms:modified xsi:type="dcterms:W3CDTF">2023-01-18T23:14:31Z</dcterms:modified>
  <cp:revision>6</cp:revision>
  <dc:subject/>
  <dc:title>Слайд 1</dc:title>
</cp:coreProperties>
</file>