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8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DEA-F1C6-401F-8191-D7728395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7D87-6F3D-4187-879F-64A7C239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97AF-7A2D-4824-BD8F-AF2C7090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A1F-DAEB-4793-AA12-38A77BBE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EA30-9D1D-4A46-A9B9-FC072739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9F01-9471-417B-B268-D7BF0650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3DE5-2854-4E75-B7CE-8973DC9D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D0A2-46E7-4F73-BBC9-9AEA416D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5DFC-5C85-4772-BD4F-4F7D5973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D205-1A5B-4A40-8E88-3C38993B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C8DF-0A63-462A-B757-50FA10C7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BCDB-07C5-4AF2-A0F2-F314ADB5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CDC1-21C0-41C6-B7D0-5938B3E1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89B6-E34B-4B72-A5CE-F015A5BF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1A48-9ECA-4381-A565-90AC1A07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048D-5A44-4479-9A77-27494F27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1E81-C119-4CA5-BE56-8CBD0716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260F5-9792-414D-92BF-31DFD418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B797D-066B-42DF-92B4-78E47E78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0205D-0EFA-4B35-8FBE-8672AB11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0DB20-F9B3-43A0-9C42-A3DDAD7D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0A53D-0319-4BA8-80CF-F9EA9AB1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254-38E4-4A64-AB86-B90DC5D9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F236A-325C-4C1C-A071-F4E89A0A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AC5BD-E31A-4689-B999-50094150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B2EA9-7FF4-413A-9869-DE4573F2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3659-BCA2-47B3-9E77-8348CD59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8355E-B0D9-483C-A637-A850003C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505E6-C9B1-4A1B-A814-394F085A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50CAA-2C27-4096-8C53-3FA76144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474F-D5CE-49B9-86CC-BD38CAD0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285-F78E-449A-90B0-374AFD76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AA5-EAF4-4892-9F19-7C835FB4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874-098D-47F9-884B-DCABB123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68B-32E4-495D-A505-1AA7CAFE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C44E-3CB6-48FC-9EBC-86DD5C38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AE7C-29BF-489D-9FD0-DADCD360AC27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336C-A309-4495-8839-42E0C8B78E82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D17C-2FD1-493B-A452-1663A63AB42E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05228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Грибоедов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42640" y="2852280"/>
            <a:ext cx="76057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Горе от ум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365040"/>
            <a:ext cx="8047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ма новы, но предрассудки стары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дуйтесь, не истребя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годы их, ни моды, ни пожары»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4" name="Объект 3" descr=""/>
          <p:cNvPicPr/>
          <p:nvPr/>
        </p:nvPicPr>
        <p:blipFill>
          <a:blip r:embed="rId1"/>
          <a:stretch/>
        </p:blipFill>
        <p:spPr>
          <a:xfrm>
            <a:off x="1001880" y="1825560"/>
            <a:ext cx="3139920" cy="4351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Чацкого, произнесённые после рассуждения Скалозуба и Фамусова о том, что после пожара Москва стала лучше, ведь построили новые до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5" descr=""/>
          <p:cNvPicPr/>
          <p:nvPr/>
        </p:nvPicPr>
        <p:blipFill>
          <a:blip r:embed="rId2"/>
          <a:srcRect l="48222" t="0" r="0" b="7865"/>
          <a:stretch/>
        </p:blipFill>
        <p:spPr>
          <a:xfrm>
            <a:off x="6905520" y="3933720"/>
            <a:ext cx="209736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365040"/>
            <a:ext cx="8047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мои лета не должно сме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ё суждение иметь»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23640" y="1825200"/>
            <a:ext cx="4190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Молчалина, ярко характеризующие его характе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Объект 3" descr=""/>
          <p:cNvPicPr/>
          <p:nvPr/>
        </p:nvPicPr>
        <p:blipFill>
          <a:blip r:embed="rId1"/>
          <a:stretch/>
        </p:blipFill>
        <p:spPr>
          <a:xfrm>
            <a:off x="4629240" y="1825560"/>
            <a:ext cx="39751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65040"/>
            <a:ext cx="8047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инуй нас пуще всех печал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арский гнев, и барская любовь»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690560"/>
            <a:ext cx="419076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лика Ли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Объект 3" descr=""/>
          <p:cNvPicPr/>
          <p:nvPr/>
        </p:nvPicPr>
        <p:blipFill>
          <a:blip r:embed="rId1"/>
          <a:srcRect l="14348" t="23200" r="8740" b="0"/>
          <a:stretch/>
        </p:blipFill>
        <p:spPr>
          <a:xfrm>
            <a:off x="5076720" y="1916280"/>
            <a:ext cx="3167280" cy="28936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"/>
          <p:cNvPicPr/>
          <p:nvPr/>
        </p:nvPicPr>
        <p:blipFill>
          <a:blip r:embed="rId2"/>
          <a:srcRect l="-614" t="23622" r="6526" b="10228"/>
          <a:stretch/>
        </p:blipFill>
        <p:spPr>
          <a:xfrm>
            <a:off x="250920" y="3213000"/>
            <a:ext cx="57369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365040"/>
            <a:ext cx="8047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202124"/>
                </a:solidFill>
                <a:latin typeface="Times New Roman"/>
                <a:ea typeface="Times New Roman"/>
              </a:rPr>
              <a:t>"...Да умный человек не может быть не плутом...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920" y="1690560"/>
            <a:ext cx="426384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етил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Объект 3" descr=""/>
          <p:cNvPicPr/>
          <p:nvPr/>
        </p:nvPicPr>
        <p:blipFill>
          <a:blip r:embed="rId1"/>
          <a:stretch/>
        </p:blipFill>
        <p:spPr>
          <a:xfrm>
            <a:off x="4491000" y="1557360"/>
            <a:ext cx="30402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047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20 цитат из «Горя от ума», которые до сих пор актуальны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8" name="Объект 3" descr=""/>
          <p:cNvPicPr/>
          <p:nvPr/>
        </p:nvPicPr>
        <p:blipFill>
          <a:blip r:embed="rId1"/>
          <a:srcRect l="27448" t="45435" r="29458" b="45837"/>
          <a:stretch/>
        </p:blipFill>
        <p:spPr>
          <a:xfrm>
            <a:off x="69840" y="720720"/>
            <a:ext cx="3313080" cy="289080"/>
          </a:xfrm>
          <a:prstGeom prst="rect">
            <a:avLst/>
          </a:prstGeom>
          <a:ln w="0">
            <a:noFill/>
          </a:ln>
        </p:spPr>
      </p:pic>
      <p:pic>
        <p:nvPicPr>
          <p:cNvPr id="169" name="Объект 4" descr=""/>
          <p:cNvPicPr/>
          <p:nvPr/>
        </p:nvPicPr>
        <p:blipFill>
          <a:blip r:embed="rId2"/>
          <a:srcRect l="39121" t="43200" r="38373" b="45534"/>
          <a:stretch/>
        </p:blipFill>
        <p:spPr>
          <a:xfrm>
            <a:off x="85680" y="1015920"/>
            <a:ext cx="863640" cy="4320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5" descr=""/>
          <p:cNvPicPr/>
          <p:nvPr/>
        </p:nvPicPr>
        <p:blipFill>
          <a:blip r:embed="rId3"/>
          <a:srcRect l="26377" t="39463" r="28738" b="42977"/>
          <a:stretch/>
        </p:blipFill>
        <p:spPr>
          <a:xfrm>
            <a:off x="20520" y="2562120"/>
            <a:ext cx="3089520" cy="5414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6" descr=""/>
          <p:cNvPicPr/>
          <p:nvPr/>
        </p:nvPicPr>
        <p:blipFill>
          <a:blip r:embed="rId4"/>
          <a:srcRect l="21651" t="44731" r="24801" b="46492"/>
          <a:stretch/>
        </p:blipFill>
        <p:spPr>
          <a:xfrm>
            <a:off x="85680" y="3191040"/>
            <a:ext cx="4897440" cy="3603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7" descr=""/>
          <p:cNvPicPr/>
          <p:nvPr/>
        </p:nvPicPr>
        <p:blipFill>
          <a:blip r:embed="rId5"/>
          <a:srcRect l="27166" t="41217" r="29527" b="41217"/>
          <a:stretch/>
        </p:blipFill>
        <p:spPr>
          <a:xfrm>
            <a:off x="58680" y="3597120"/>
            <a:ext cx="396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8" descr=""/>
          <p:cNvPicPr/>
          <p:nvPr/>
        </p:nvPicPr>
        <p:blipFill>
          <a:blip r:embed="rId6"/>
          <a:srcRect l="18112" t="45683" r="21252" b="42026"/>
          <a:stretch/>
        </p:blipFill>
        <p:spPr>
          <a:xfrm>
            <a:off x="3240" y="4349880"/>
            <a:ext cx="5545080" cy="5047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0" descr=""/>
          <p:cNvPicPr/>
          <p:nvPr/>
        </p:nvPicPr>
        <p:blipFill>
          <a:blip r:embed="rId7"/>
          <a:srcRect l="23647" t="41217" r="27088" b="46492"/>
          <a:stretch/>
        </p:blipFill>
        <p:spPr>
          <a:xfrm>
            <a:off x="3240" y="4884840"/>
            <a:ext cx="3273480" cy="4586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1" descr=""/>
          <p:cNvPicPr/>
          <p:nvPr/>
        </p:nvPicPr>
        <p:blipFill>
          <a:blip r:embed="rId8"/>
          <a:srcRect l="25588" t="34188" r="26377" b="39463"/>
          <a:stretch/>
        </p:blipFill>
        <p:spPr>
          <a:xfrm>
            <a:off x="98280" y="5343480"/>
            <a:ext cx="4392720" cy="10796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2" descr=""/>
          <p:cNvPicPr/>
          <p:nvPr/>
        </p:nvPicPr>
        <p:blipFill>
          <a:blip r:embed="rId9"/>
          <a:srcRect l="33077" t="35923" r="34641" b="41847"/>
          <a:stretch/>
        </p:blipFill>
        <p:spPr>
          <a:xfrm>
            <a:off x="33480" y="1471680"/>
            <a:ext cx="2952720" cy="9349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3" descr=""/>
          <p:cNvPicPr/>
          <p:nvPr/>
        </p:nvPicPr>
        <p:blipFill>
          <a:blip r:embed="rId10"/>
          <a:srcRect l="20474" t="38653" r="22038" b="43786"/>
          <a:stretch/>
        </p:blipFill>
        <p:spPr>
          <a:xfrm>
            <a:off x="4064040" y="3521160"/>
            <a:ext cx="4968720" cy="6811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4" descr=""/>
          <p:cNvPicPr/>
          <p:nvPr/>
        </p:nvPicPr>
        <p:blipFill>
          <a:blip r:embed="rId11"/>
          <a:srcRect l="31886" t="39463" r="34251" b="42977"/>
          <a:stretch/>
        </p:blipFill>
        <p:spPr>
          <a:xfrm>
            <a:off x="5981760" y="676440"/>
            <a:ext cx="3095640" cy="72072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5" descr=""/>
          <p:cNvPicPr/>
          <p:nvPr/>
        </p:nvPicPr>
        <p:blipFill>
          <a:blip r:embed="rId12"/>
          <a:srcRect l="31100" t="39463" r="32675" b="42977"/>
          <a:stretch/>
        </p:blipFill>
        <p:spPr>
          <a:xfrm>
            <a:off x="5824440" y="1406520"/>
            <a:ext cx="3313080" cy="7192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6" descr=""/>
          <p:cNvPicPr/>
          <p:nvPr/>
        </p:nvPicPr>
        <p:blipFill>
          <a:blip r:embed="rId13"/>
          <a:srcRect l="24801" t="28919" r="27163" b="35948"/>
          <a:stretch/>
        </p:blipFill>
        <p:spPr>
          <a:xfrm>
            <a:off x="5562720" y="2158920"/>
            <a:ext cx="3514680" cy="11527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7" descr=""/>
          <p:cNvPicPr/>
          <p:nvPr/>
        </p:nvPicPr>
        <p:blipFill>
          <a:blip r:embed="rId14"/>
          <a:srcRect l="20075" t="37702" r="22440" b="42977"/>
          <a:stretch/>
        </p:blipFill>
        <p:spPr>
          <a:xfrm>
            <a:off x="4462560" y="5462640"/>
            <a:ext cx="4687920" cy="7063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8" descr=""/>
          <p:cNvPicPr/>
          <p:nvPr/>
        </p:nvPicPr>
        <p:blipFill>
          <a:blip r:embed="rId15"/>
          <a:srcRect l="21651" t="30679" r="23226" b="35948"/>
          <a:stretch/>
        </p:blipFill>
        <p:spPr>
          <a:xfrm>
            <a:off x="5824440" y="4280040"/>
            <a:ext cx="3208320" cy="8697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9" descr=""/>
          <p:cNvPicPr/>
          <p:nvPr/>
        </p:nvPicPr>
        <p:blipFill>
          <a:blip r:embed="rId16"/>
          <a:srcRect l="18500" t="44731" r="21651" b="46492"/>
          <a:stretch/>
        </p:blipFill>
        <p:spPr>
          <a:xfrm>
            <a:off x="3668760" y="6386400"/>
            <a:ext cx="5472000" cy="3603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20" descr=""/>
          <p:cNvPicPr/>
          <p:nvPr/>
        </p:nvPicPr>
        <p:blipFill>
          <a:blip r:embed="rId17"/>
          <a:srcRect l="29527" t="39463" r="31100" b="42977"/>
          <a:stretch/>
        </p:blipFill>
        <p:spPr>
          <a:xfrm>
            <a:off x="2855880" y="1536840"/>
            <a:ext cx="2951280" cy="7189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1" descr=""/>
          <p:cNvPicPr/>
          <p:nvPr/>
        </p:nvPicPr>
        <p:blipFill>
          <a:blip r:embed="rId18"/>
          <a:srcRect l="25588" t="44731" r="26377" b="48246"/>
          <a:stretch/>
        </p:blipFill>
        <p:spPr>
          <a:xfrm>
            <a:off x="1036800" y="1062000"/>
            <a:ext cx="4692600" cy="30816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2" descr=""/>
          <p:cNvPicPr/>
          <p:nvPr/>
        </p:nvPicPr>
        <p:blipFill>
          <a:blip r:embed="rId19"/>
          <a:srcRect l="19926" t="35948" r="21836" b="37702"/>
          <a:stretch/>
        </p:blipFill>
        <p:spPr>
          <a:xfrm>
            <a:off x="3110040" y="2211480"/>
            <a:ext cx="245268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470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ие ребята, сегодня мы вспомним героев комедии А.С.Грибоедова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оре от ума»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ю удачи!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11280" y="2349360"/>
            <a:ext cx="790416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сказать: кому принадлежит цита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"/>
          <p:cNvPicPr/>
          <p:nvPr/>
        </p:nvPicPr>
        <p:blipFill>
          <a:blip r:embed="rId1"/>
          <a:stretch/>
        </p:blipFill>
        <p:spPr>
          <a:xfrm>
            <a:off x="2050920" y="0"/>
            <a:ext cx="473724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365040"/>
            <a:ext cx="8047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частливые часов не наблюдают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3640" y="1825200"/>
            <a:ext cx="4190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Софья говорит Лизе о своём ночном свидании с Молчалин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Объект 3" descr=""/>
          <p:cNvPicPr/>
          <p:nvPr/>
        </p:nvPicPr>
        <p:blipFill>
          <a:blip r:embed="rId2"/>
          <a:stretch/>
        </p:blipFill>
        <p:spPr>
          <a:xfrm>
            <a:off x="4629240" y="1989000"/>
            <a:ext cx="39751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4" descr=""/>
          <p:cNvPicPr/>
          <p:nvPr/>
        </p:nvPicPr>
        <p:blipFill>
          <a:blip r:embed="rId1"/>
          <a:stretch/>
        </p:blipFill>
        <p:spPr>
          <a:xfrm>
            <a:off x="324000" y="0"/>
            <a:ext cx="835164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365040"/>
            <a:ext cx="8047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ычай мой такой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ано, так с плеч долой»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3" name="Объект 3" descr=""/>
          <p:cNvPicPr/>
          <p:nvPr/>
        </p:nvPicPr>
        <p:blipFill>
          <a:blip r:embed="rId2"/>
          <a:stretch/>
        </p:blipFill>
        <p:spPr>
          <a:xfrm>
            <a:off x="108000" y="1825560"/>
            <a:ext cx="3384360" cy="3633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говорит Фамусов, и это характеризует его как человека, привыкшего работать лишь бы поскорее справ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47480" y="1557360"/>
            <a:ext cx="419076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за о Скалозубе, советуя Софье выйти за него замуж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65040"/>
            <a:ext cx="8351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... И золотой мешок, и метит в генералы»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7" name="Объект 3" descr=""/>
          <p:cNvPicPr/>
          <p:nvPr/>
        </p:nvPicPr>
        <p:blipFill>
          <a:blip r:embed="rId1"/>
          <a:stretch/>
        </p:blipFill>
        <p:spPr>
          <a:xfrm>
            <a:off x="4984920" y="1825560"/>
            <a:ext cx="3174840" cy="43513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757320" cy="51213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"/>
          <p:cNvPicPr/>
          <p:nvPr/>
        </p:nvPicPr>
        <p:blipFill>
          <a:blip r:embed="rId3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365040"/>
            <a:ext cx="8047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лажен, кто верует, тепло ему на свете!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94920" y="1825200"/>
            <a:ext cx="4119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лика Чацкого во время первого разговора с Софь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Объект 6" descr=""/>
          <p:cNvPicPr/>
          <p:nvPr/>
        </p:nvPicPr>
        <p:blipFill>
          <a:blip r:embed="rId1"/>
          <a:stretch/>
        </p:blipFill>
        <p:spPr>
          <a:xfrm>
            <a:off x="5154480" y="1557360"/>
            <a:ext cx="308952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0680" y="404280"/>
            <a:ext cx="80467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росили бы, как делали отцы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лись бы, на старших глядя»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94920" y="1730160"/>
            <a:ext cx="411948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усов в споре с Чацки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Объект 3" descr=""/>
          <p:cNvPicPr/>
          <p:nvPr/>
        </p:nvPicPr>
        <p:blipFill>
          <a:blip r:embed="rId1"/>
          <a:stretch/>
        </p:blipFill>
        <p:spPr>
          <a:xfrm>
            <a:off x="4427640" y="2133720"/>
            <a:ext cx="4321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365040"/>
            <a:ext cx="8047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ужить бы рад, прислуживаться тошно»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7" name="Объект 3" descr=""/>
          <p:cNvPicPr/>
          <p:nvPr/>
        </p:nvPicPr>
        <p:blipFill>
          <a:blip r:embed="rId1"/>
          <a:stretch/>
        </p:blipFill>
        <p:spPr>
          <a:xfrm>
            <a:off x="628560" y="2055960"/>
            <a:ext cx="3886200" cy="3890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Чацкого, в которых отражено его мнение о государственной служб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4" descr=""/>
          <p:cNvPicPr/>
          <p:nvPr/>
        </p:nvPicPr>
        <p:blipFill>
          <a:blip r:embed="rId2"/>
          <a:stretch/>
        </p:blipFill>
        <p:spPr>
          <a:xfrm>
            <a:off x="0" y="507960"/>
            <a:ext cx="914400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47080" cy="15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дин Молчалин мне не св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 затем, что деловой»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690560"/>
            <a:ext cx="419076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усов в разговоре со Скалозубом, рассуждая о том, что родню надо держать ближе к себе, например, продвигать по служб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Объект 3" descr=""/>
          <p:cNvPicPr/>
          <p:nvPr/>
        </p:nvPicPr>
        <p:blipFill>
          <a:blip r:embed="rId1"/>
          <a:stretch/>
        </p:blipFill>
        <p:spPr>
          <a:xfrm>
            <a:off x="4427640" y="1690560"/>
            <a:ext cx="43210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1:00:21Z</dcterms:created>
  <dc:creator>Андрей</dc:creator>
  <dc:description/>
  <cp:keywords/>
  <dc:language>en-US</dc:language>
  <cp:lastModifiedBy>PC</cp:lastModifiedBy>
  <dcterms:modified xsi:type="dcterms:W3CDTF">2023-01-02T14:57:27Z</dcterms:modified>
  <cp:revision>172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11049</vt:lpwstr>
  </property>
</Properties>
</file>