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8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778-88D6-4068-8387-DBE4B5AD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ADD-9B55-4EC2-B6EA-7BB4EFAD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D97-D6AC-44AC-89D1-22267ACC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C9A-A007-4B03-9440-8414ED55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E2C-77B2-4748-9F6F-698E614C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5155-4D27-4AA3-B826-800F768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6B4-E20F-449C-AAC2-B015E177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ECC-E47A-4337-83CD-00737F6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FA2C-BF30-480D-8557-AE18B3A3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ADF-ED97-49EF-91CD-F4C13D0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B695-070D-47CC-B2D0-63B0E21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2A1-E578-4974-A98D-1CC478F0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7DE-481B-46AE-92C4-EBDCF1F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6AF-1C36-42D9-8440-0D386BE0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7ABA-0D81-4DE1-8DCE-43FD4DD2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271-E222-4F3A-80D3-6ADCEBAA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757B-2225-49F1-AB02-983D5EB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E902-0DA0-4FE5-8AB0-1F8DC04D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7032-322F-45FC-90BF-F24DA9DF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9AA8F-84B5-4AA2-A7D7-A2FD5281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AA2E-BFE5-4F45-8F61-E27A2AB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060C-B4FC-40B6-B375-8BA1636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6B5-7E0B-46DD-9875-21CD944C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E298-BEC3-414A-BE36-D5FB737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F575-EE06-4A3C-97B8-01985A2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55E0-8142-4019-B09D-9CFD055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2C15-CEE8-4BF0-A288-E317DF0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C780-9DA8-4A07-9069-534BCBD2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0B43-0AD7-4F62-B635-47205E54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2040-0807-42FB-BE28-A188BF90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017-D654-4A28-A498-3C05569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5C4-5C68-476B-8C8F-202BA4F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F89-8B23-4290-A23D-39329DFD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CB0-3BEB-468D-BDE0-87983CC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CB7-618B-4CAB-B192-147396D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60C-4D5E-4265-B955-7897F92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BA7-7D93-409F-90AD-931FF801DF67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29E-B318-4626-AC51-57D5FF21592C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F92-7FFD-4E51-AB27-242BD7F695DD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0522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Грибоедов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2640" y="2852280"/>
            <a:ext cx="7605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оре от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ма новы, но предрассудки стар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дуйтесь, не истреб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оды их, ни моды, ни пожары»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" name="Объект 3" descr=""/>
          <p:cNvPicPr/>
          <p:nvPr/>
        </p:nvPicPr>
        <p:blipFill>
          <a:blip r:embed="rId1"/>
          <a:stretch/>
        </p:blipFill>
        <p:spPr>
          <a:xfrm>
            <a:off x="1001880" y="1825560"/>
            <a:ext cx="3139920" cy="4351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Чацкого, произнесённые после рассуждения Скалозуба и Фамусова о том, что после пожара Москва стала лучше, ведь построили новые д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5" descr=""/>
          <p:cNvPicPr/>
          <p:nvPr/>
        </p:nvPicPr>
        <p:blipFill>
          <a:blip r:embed="rId2"/>
          <a:srcRect l="48222" t="0" r="0" b="7865"/>
          <a:stretch/>
        </p:blipFill>
        <p:spPr>
          <a:xfrm>
            <a:off x="6905520" y="3933720"/>
            <a:ext cx="20973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ои лета не должно сме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суждение иметь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825200"/>
            <a:ext cx="4190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Молчалина, ярко характеризующие его характе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4629240" y="1825560"/>
            <a:ext cx="3975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инуй нас пуще всех печа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арский гнев, и барская любовь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6905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 Ли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Объект 3" descr=""/>
          <p:cNvPicPr/>
          <p:nvPr/>
        </p:nvPicPr>
        <p:blipFill>
          <a:blip r:embed="rId1"/>
          <a:srcRect l="14348" t="23200" r="8740" b="0"/>
          <a:stretch/>
        </p:blipFill>
        <p:spPr>
          <a:xfrm>
            <a:off x="5076720" y="1916280"/>
            <a:ext cx="3167280" cy="28936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2"/>
          <a:srcRect l="-614" t="23622" r="6526" b="10228"/>
          <a:stretch/>
        </p:blipFill>
        <p:spPr>
          <a:xfrm>
            <a:off x="250920" y="3213000"/>
            <a:ext cx="5736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"...Да умный человек не может быть не плутом..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690560"/>
            <a:ext cx="4263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ти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4491000" y="1557360"/>
            <a:ext cx="3040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04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20 цитат из «Горя от ума», которые до сих пор актуальны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8" name="Объект 3" descr=""/>
          <p:cNvPicPr/>
          <p:nvPr/>
        </p:nvPicPr>
        <p:blipFill>
          <a:blip r:embed="rId1"/>
          <a:srcRect l="27448" t="45435" r="29458" b="45837"/>
          <a:stretch/>
        </p:blipFill>
        <p:spPr>
          <a:xfrm>
            <a:off x="69840" y="720720"/>
            <a:ext cx="3313080" cy="289080"/>
          </a:xfrm>
          <a:prstGeom prst="rect">
            <a:avLst/>
          </a:prstGeom>
          <a:ln w="0">
            <a:noFill/>
          </a:ln>
        </p:spPr>
      </p:pic>
      <p:pic>
        <p:nvPicPr>
          <p:cNvPr id="169" name="Объект 4" descr=""/>
          <p:cNvPicPr/>
          <p:nvPr/>
        </p:nvPicPr>
        <p:blipFill>
          <a:blip r:embed="rId2"/>
          <a:srcRect l="39121" t="43200" r="38373" b="45534"/>
          <a:stretch/>
        </p:blipFill>
        <p:spPr>
          <a:xfrm>
            <a:off x="85680" y="1015920"/>
            <a:ext cx="863640" cy="432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"/>
          <p:cNvPicPr/>
          <p:nvPr/>
        </p:nvPicPr>
        <p:blipFill>
          <a:blip r:embed="rId3"/>
          <a:srcRect l="26377" t="39463" r="28738" b="42977"/>
          <a:stretch/>
        </p:blipFill>
        <p:spPr>
          <a:xfrm>
            <a:off x="20520" y="2562120"/>
            <a:ext cx="3089520" cy="541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4"/>
          <a:srcRect l="21651" t="44731" r="24801" b="46492"/>
          <a:stretch/>
        </p:blipFill>
        <p:spPr>
          <a:xfrm>
            <a:off x="85680" y="3191040"/>
            <a:ext cx="48974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"/>
          <p:cNvPicPr/>
          <p:nvPr/>
        </p:nvPicPr>
        <p:blipFill>
          <a:blip r:embed="rId5"/>
          <a:srcRect l="27166" t="41217" r="29527" b="41217"/>
          <a:stretch/>
        </p:blipFill>
        <p:spPr>
          <a:xfrm>
            <a:off x="58680" y="3597120"/>
            <a:ext cx="396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8" descr=""/>
          <p:cNvPicPr/>
          <p:nvPr/>
        </p:nvPicPr>
        <p:blipFill>
          <a:blip r:embed="rId6"/>
          <a:srcRect l="18112" t="45683" r="21252" b="42026"/>
          <a:stretch/>
        </p:blipFill>
        <p:spPr>
          <a:xfrm>
            <a:off x="3240" y="4349880"/>
            <a:ext cx="554508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"/>
          <p:cNvPicPr/>
          <p:nvPr/>
        </p:nvPicPr>
        <p:blipFill>
          <a:blip r:embed="rId7"/>
          <a:srcRect l="23647" t="41217" r="27088" b="46492"/>
          <a:stretch/>
        </p:blipFill>
        <p:spPr>
          <a:xfrm>
            <a:off x="3240" y="4884840"/>
            <a:ext cx="3273480" cy="4586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"/>
          <p:cNvPicPr/>
          <p:nvPr/>
        </p:nvPicPr>
        <p:blipFill>
          <a:blip r:embed="rId8"/>
          <a:srcRect l="25588" t="34188" r="26377" b="39463"/>
          <a:stretch/>
        </p:blipFill>
        <p:spPr>
          <a:xfrm>
            <a:off x="98280" y="5343480"/>
            <a:ext cx="439272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"/>
          <p:cNvPicPr/>
          <p:nvPr/>
        </p:nvPicPr>
        <p:blipFill>
          <a:blip r:embed="rId9"/>
          <a:srcRect l="33077" t="35923" r="34641" b="41847"/>
          <a:stretch/>
        </p:blipFill>
        <p:spPr>
          <a:xfrm>
            <a:off x="33480" y="1471680"/>
            <a:ext cx="2952720" cy="934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"/>
          <p:cNvPicPr/>
          <p:nvPr/>
        </p:nvPicPr>
        <p:blipFill>
          <a:blip r:embed="rId10"/>
          <a:srcRect l="20474" t="38653" r="22038" b="43786"/>
          <a:stretch/>
        </p:blipFill>
        <p:spPr>
          <a:xfrm>
            <a:off x="4064040" y="3521160"/>
            <a:ext cx="4968720" cy="681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4" descr=""/>
          <p:cNvPicPr/>
          <p:nvPr/>
        </p:nvPicPr>
        <p:blipFill>
          <a:blip r:embed="rId11"/>
          <a:srcRect l="31886" t="39463" r="34251" b="42977"/>
          <a:stretch/>
        </p:blipFill>
        <p:spPr>
          <a:xfrm>
            <a:off x="5981760" y="6764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"/>
          <p:cNvPicPr/>
          <p:nvPr/>
        </p:nvPicPr>
        <p:blipFill>
          <a:blip r:embed="rId12"/>
          <a:srcRect l="31100" t="39463" r="32675" b="42977"/>
          <a:stretch/>
        </p:blipFill>
        <p:spPr>
          <a:xfrm>
            <a:off x="5824440" y="1406520"/>
            <a:ext cx="3313080" cy="719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6" descr=""/>
          <p:cNvPicPr/>
          <p:nvPr/>
        </p:nvPicPr>
        <p:blipFill>
          <a:blip r:embed="rId13"/>
          <a:srcRect l="24801" t="28919" r="27163" b="35948"/>
          <a:stretch/>
        </p:blipFill>
        <p:spPr>
          <a:xfrm>
            <a:off x="5562720" y="2158920"/>
            <a:ext cx="351468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7" descr=""/>
          <p:cNvPicPr/>
          <p:nvPr/>
        </p:nvPicPr>
        <p:blipFill>
          <a:blip r:embed="rId14"/>
          <a:srcRect l="20075" t="37702" r="22440" b="42977"/>
          <a:stretch/>
        </p:blipFill>
        <p:spPr>
          <a:xfrm>
            <a:off x="4462560" y="5462640"/>
            <a:ext cx="4687920" cy="706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8" descr=""/>
          <p:cNvPicPr/>
          <p:nvPr/>
        </p:nvPicPr>
        <p:blipFill>
          <a:blip r:embed="rId15"/>
          <a:srcRect l="21651" t="30679" r="23226" b="35948"/>
          <a:stretch/>
        </p:blipFill>
        <p:spPr>
          <a:xfrm>
            <a:off x="5824440" y="4280040"/>
            <a:ext cx="3208320" cy="869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9" descr=""/>
          <p:cNvPicPr/>
          <p:nvPr/>
        </p:nvPicPr>
        <p:blipFill>
          <a:blip r:embed="rId16"/>
          <a:srcRect l="18500" t="44731" r="21651" b="46492"/>
          <a:stretch/>
        </p:blipFill>
        <p:spPr>
          <a:xfrm>
            <a:off x="3668760" y="6386400"/>
            <a:ext cx="5472000" cy="3603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0" descr=""/>
          <p:cNvPicPr/>
          <p:nvPr/>
        </p:nvPicPr>
        <p:blipFill>
          <a:blip r:embed="rId17"/>
          <a:srcRect l="29527" t="39463" r="31100" b="42977"/>
          <a:stretch/>
        </p:blipFill>
        <p:spPr>
          <a:xfrm>
            <a:off x="2855880" y="1536840"/>
            <a:ext cx="2951280" cy="718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1" descr=""/>
          <p:cNvPicPr/>
          <p:nvPr/>
        </p:nvPicPr>
        <p:blipFill>
          <a:blip r:embed="rId18"/>
          <a:srcRect l="25588" t="44731" r="26377" b="48246"/>
          <a:stretch/>
        </p:blipFill>
        <p:spPr>
          <a:xfrm>
            <a:off x="1036800" y="1062000"/>
            <a:ext cx="4692600" cy="3081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2" descr=""/>
          <p:cNvPicPr/>
          <p:nvPr/>
        </p:nvPicPr>
        <p:blipFill>
          <a:blip r:embed="rId19"/>
          <a:srcRect l="19926" t="35948" r="21836" b="37702"/>
          <a:stretch/>
        </p:blipFill>
        <p:spPr>
          <a:xfrm>
            <a:off x="3110040" y="2211480"/>
            <a:ext cx="2452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47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ребята, сегодня мы вспомним героев комедии А.С.Грибоедо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е от ума»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удачи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349360"/>
            <a:ext cx="79041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казать: кому принадлежит цита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2050920" y="0"/>
            <a:ext cx="47372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астливые часов не наблюдают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3640" y="1825200"/>
            <a:ext cx="4190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офья говорит Лизе о своём ночном свидании с Молчали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2"/>
          <a:stretch/>
        </p:blipFill>
        <p:spPr>
          <a:xfrm>
            <a:off x="4629240" y="1989000"/>
            <a:ext cx="39751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ычай мой такой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о, так с плеч долой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2"/>
          <a:stretch/>
        </p:blipFill>
        <p:spPr>
          <a:xfrm>
            <a:off x="108000" y="1825560"/>
            <a:ext cx="3384360" cy="363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говорит Фамусов, и это характеризует его как человека, привыкшего работать лишь бы поскорее справ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47480" y="15573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а о Скалозубе, советуя Софье выйти за него заму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8351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И золотой мешок, и метит в генералы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4984920" y="1825560"/>
            <a:ext cx="3174840" cy="43513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757320" cy="5121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"/>
          <p:cNvPicPr/>
          <p:nvPr/>
        </p:nvPicPr>
        <p:blipFill>
          <a:blip r:embed="rId3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жен, кто верует, тепло ему на свете!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4920" y="1825200"/>
            <a:ext cx="4119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 Чацкого во время первого разговора с Софь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Объект 6" descr=""/>
          <p:cNvPicPr/>
          <p:nvPr/>
        </p:nvPicPr>
        <p:blipFill>
          <a:blip r:embed="rId1"/>
          <a:stretch/>
        </p:blipFill>
        <p:spPr>
          <a:xfrm>
            <a:off x="5154480" y="1557360"/>
            <a:ext cx="3089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0680" y="404280"/>
            <a:ext cx="80467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осили бы, как делали отцы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лись бы, на старших глядя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4920" y="1730160"/>
            <a:ext cx="41194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усов в споре с Чацк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65040"/>
            <a:ext cx="8047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ужить бы рад, прислуживаться тошно»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628560" y="2055960"/>
            <a:ext cx="3886200" cy="389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Чацкого, в которых отражено его мнение о государственной служ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0" y="5079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4708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ин Молчалин мне не св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 затем, что деловой»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690560"/>
            <a:ext cx="4190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усов в разговоре со Скалозубом, рассуждая о том, что родню надо держать ближе к себе, например, продвигать по служ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4427640" y="1690560"/>
            <a:ext cx="43210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1:00:21Z</dcterms:created>
  <dc:creator>Андрей</dc:creator>
  <dc:description/>
  <cp:keywords/>
  <dc:language>en-US</dc:language>
  <cp:lastModifiedBy>PC</cp:lastModifiedBy>
  <dcterms:modified xsi:type="dcterms:W3CDTF">2023-01-02T14:57:27Z</dcterms:modified>
  <cp:revision>17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