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570-4315-4713-82E3-33F66959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2E3-2F30-4D5C-8205-E634CF57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274-6B0A-4DF3-8960-D204E063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A19E-B245-4597-83D1-84129C8B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14E9-F245-4A34-B20D-B17DD7D1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188C-A30D-46FA-8F00-5CA8FF74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9398-4702-473D-AE6D-17DBBB71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CB91-9644-4AF4-A8EB-242E1B6E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185C-57AF-4483-9C43-CE9ACD51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F08C-49E0-42A7-8B8E-833B6F1A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67F2-F070-4A7D-8494-3B2D6251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9AC5-6060-40C6-BD7A-2DE0C0EB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10EC-A0F3-4564-92DD-74A6EC11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C197-E2CA-4C2B-B50C-927E7BBD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845A-D574-4C3D-9986-53AF8108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8463-AA9E-45CF-99BC-22AF6F11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C320-D887-482D-A66E-81D0AF12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4E0-FE09-4AC5-B3AD-19D4BE5B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B20-2328-4CC0-BAAC-1F139C40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CDD-2C28-4EA6-8F84-4827B4CE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531-B11C-462C-ABD2-D08F7831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46B-6FF3-4843-BE67-44C46385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8AF-B8DD-4FDA-81AA-3F89E050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0A9-3A60-4F7D-8FBB-792D4B3B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3640" cy="31068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3640" cy="918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60000"/>
            <a:ext cx="3733560" cy="900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9200"/>
            <a:ext cx="3733560" cy="180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08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/>
          <p:cNvSpPr/>
          <p:nvPr/>
        </p:nvSpPr>
        <p:spPr>
          <a:xfrm>
            <a:off x="7373880" y="588960"/>
            <a:ext cx="1599840" cy="36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6880" cy="62028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080" cy="62028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000" cy="62028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6640" cy="62028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080" cy="58536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560" cy="58536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2320" indent="-219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360" indent="-20016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rgbClr val="a04da3"/>
              </a:solidFill>
              <a:latin typeface="Georgia"/>
            </a:endParaRPr>
          </a:p>
          <a:p>
            <a:pPr lvl="4" marL="1389240" indent="-1825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rgbClr val="a04da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rgbClr val="a04da3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2320" indent="-219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360" indent="-20016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rgbClr val="a04da3"/>
              </a:solidFill>
              <a:latin typeface="Georgia"/>
            </a:endParaRPr>
          </a:p>
          <a:p>
            <a:pPr lvl="4" marL="1389240" indent="-1825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rgbClr val="a04da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rgbClr val="a04da3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6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FF283C-0A85-47F9-BFAC-0DB10129D99C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6" name="Прямоугольник 28"/>
          <p:cNvSpPr/>
          <p:nvPr/>
        </p:nvSpPr>
        <p:spPr>
          <a:xfrm>
            <a:off x="0" y="0"/>
            <a:ext cx="9143640" cy="31068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7" name="Прямоугольник 29"/>
          <p:cNvSpPr/>
          <p:nvPr/>
        </p:nvSpPr>
        <p:spPr>
          <a:xfrm>
            <a:off x="0" y="307800"/>
            <a:ext cx="9143640" cy="918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8" name="Прямоугольник 30"/>
          <p:cNvSpPr/>
          <p:nvPr/>
        </p:nvSpPr>
        <p:spPr>
          <a:xfrm flipV="1">
            <a:off x="5410080" y="360000"/>
            <a:ext cx="3733560" cy="900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9" name="Прямоугольник 31"/>
          <p:cNvSpPr/>
          <p:nvPr/>
        </p:nvSpPr>
        <p:spPr>
          <a:xfrm flipV="1">
            <a:off x="5410080" y="439200"/>
            <a:ext cx="3733560" cy="180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0" name="Скругленный прямоугольник 32"/>
          <p:cNvSpPr/>
          <p:nvPr/>
        </p:nvSpPr>
        <p:spPr>
          <a:xfrm>
            <a:off x="5407200" y="496800"/>
            <a:ext cx="3063600" cy="2808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1" name="Скругленный прямоугольник 33"/>
          <p:cNvSpPr/>
          <p:nvPr/>
        </p:nvSpPr>
        <p:spPr>
          <a:xfrm>
            <a:off x="7373880" y="588960"/>
            <a:ext cx="1599840" cy="36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2" name="Прямоугольник 34"/>
          <p:cNvSpPr/>
          <p:nvPr/>
        </p:nvSpPr>
        <p:spPr>
          <a:xfrm>
            <a:off x="9085320" y="-1440"/>
            <a:ext cx="56880" cy="62028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3" name="Прямоугольник 35"/>
          <p:cNvSpPr/>
          <p:nvPr/>
        </p:nvSpPr>
        <p:spPr>
          <a:xfrm>
            <a:off x="9043920" y="-1440"/>
            <a:ext cx="28080" cy="62028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Прямоугольник 36"/>
          <p:cNvSpPr/>
          <p:nvPr/>
        </p:nvSpPr>
        <p:spPr>
          <a:xfrm>
            <a:off x="9024840" y="-1440"/>
            <a:ext cx="9000" cy="62028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Прямоугольник 37"/>
          <p:cNvSpPr/>
          <p:nvPr/>
        </p:nvSpPr>
        <p:spPr>
          <a:xfrm>
            <a:off x="8975880" y="-1440"/>
            <a:ext cx="26640" cy="62028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38"/>
          <p:cNvSpPr/>
          <p:nvPr/>
        </p:nvSpPr>
        <p:spPr>
          <a:xfrm>
            <a:off x="8915400" y="0"/>
            <a:ext cx="55080" cy="58536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39"/>
          <p:cNvSpPr/>
          <p:nvPr/>
        </p:nvSpPr>
        <p:spPr>
          <a:xfrm>
            <a:off x="8874000" y="0"/>
            <a:ext cx="7560" cy="58536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6"/>
          </p:nvPr>
        </p:nvSpPr>
        <p:spPr>
          <a:xfrm>
            <a:off x="8174160" y="1440"/>
            <a:ext cx="7617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1C019C-AE0F-4CA0-AD09-3FED9D2478AB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a04da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rgbClr val="a04da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a04da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a04da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a04da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a04da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a04da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a04da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F:/&#1042;.%20&#1042;&#1099;&#1089;&#1086;&#1094;&#1082;&#1080;&#1081;/&#1042;&#1083;&#1072;&#1076;&#1080;&#1084;&#1080;&#1088;_&#1042;&#1099;&#1089;&#1086;&#1094;&#1082;&#1080;&#1081;_-_&#1056;&#1072;&#1081;&#1089;&#1082;&#1080;&#1077;_&#1071;&#1073;&#1083;&#1086;&#1082;&#1080;_(&#1053;&#1086;&#1074;&#1099;&#1081;_&#1047;&#1074;%20mm&#1091;&#1082;).wav" TargetMode="External"/><Relationship Id="rId3" Type="http://schemas.microsoft.com/office/2007/relationships/media" Target="file:///F:/&#1042;.%20&#1042;&#1099;&#1089;&#1086;&#1094;&#1082;&#1080;&#1081;/&#1042;&#1083;&#1072;&#1076;&#1080;&#1084;&#1080;&#1088;_&#1042;&#1099;&#1089;&#1086;&#1094;&#1082;&#1080;&#1081;_-_&#1056;&#1072;&#1081;&#1089;&#1082;&#1080;&#1077;_&#1071;&#1073;&#1083;&#1086;&#1082;&#1080;_(&#1053;&#1086;&#1074;&#1099;&#1081;_&#1047;&#1074;%20mm&#1091;&#1082;)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«Я, конечно, вернусь…»</a:t>
            </a: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езентация к уроку-литературной гостиной в 11 классе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ыполнила: учитель русского языка Кулик Е.С.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2" name="Picture 2" descr="C:\Users\1\Desktop\фото ВВ\30.jpg"/>
          <p:cNvPicPr/>
          <p:nvPr/>
        </p:nvPicPr>
        <p:blipFill>
          <a:blip r:embed="rId1"/>
          <a:stretch/>
        </p:blipFill>
        <p:spPr>
          <a:xfrm>
            <a:off x="357120" y="1500120"/>
            <a:ext cx="414288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6"/>
          <p:cNvSpPr/>
          <p:nvPr/>
        </p:nvSpPr>
        <p:spPr>
          <a:xfrm>
            <a:off x="533520" y="5257800"/>
            <a:ext cx="81529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956 по 1960 гг. Высоцкий - студент актёрского отделения Школы - студии МХАТ им. В. И. Немировича -Данчен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Users\1\Desktop\фото ВВ\16.jpg"/>
          <p:cNvPicPr/>
          <p:nvPr/>
        </p:nvPicPr>
        <p:blipFill>
          <a:blip r:embed="rId1"/>
          <a:stretch/>
        </p:blipFill>
        <p:spPr>
          <a:xfrm>
            <a:off x="762120" y="1066680"/>
            <a:ext cx="2638080" cy="3850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1\Desktop\фото ВВ\17.jpg"/>
          <p:cNvPicPr/>
          <p:nvPr/>
        </p:nvPicPr>
        <p:blipFill>
          <a:blip r:embed="rId2"/>
          <a:stretch/>
        </p:blipFill>
        <p:spPr>
          <a:xfrm>
            <a:off x="4419720" y="1066680"/>
            <a:ext cx="401904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4191120" y="915840"/>
            <a:ext cx="4571640" cy="264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59 год - первая театральная работа (роль Порфирия Петровича в учебном спектакле «Преступление и наказание») и первой ролью в кино (фильм «Сверстницы», эпизодическая роль студента Пет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4191120" y="4092480"/>
            <a:ext cx="466200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60 году произошло первое упоминание о Высоцком в центральной печати, в статье Л. Сергеева «Девятнадцать из МХАТ» («Советская культура», 1960, 28 ию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1\Desktop\фото ВВ\20.jpg"/>
          <p:cNvPicPr/>
          <p:nvPr/>
        </p:nvPicPr>
        <p:blipFill>
          <a:blip r:embed="rId1"/>
          <a:stretch/>
        </p:blipFill>
        <p:spPr>
          <a:xfrm>
            <a:off x="380880" y="1219320"/>
            <a:ext cx="365724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5"/>
          <p:cNvSpPr/>
          <p:nvPr/>
        </p:nvSpPr>
        <p:spPr>
          <a:xfrm>
            <a:off x="4572000" y="1371600"/>
            <a:ext cx="4495320" cy="411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месте с актёрами Теа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Таганке ездил с гастрол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границу в Болгарию, Венгрию, Югославию (БИТЕФ), Францию, Германию, Польшу. Получив разрешение выехать к жене во Францию с частным визитом, сумел также побывать несколько раз в США (в том числе и с концертами 1979 года), Канаде, Таити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Users\1\Desktop\фото ВВ\61.jpg"/>
          <p:cNvPicPr/>
          <p:nvPr/>
        </p:nvPicPr>
        <p:blipFill>
          <a:blip r:embed="rId1"/>
          <a:stretch/>
        </p:blipFill>
        <p:spPr>
          <a:xfrm>
            <a:off x="304920" y="990720"/>
            <a:ext cx="4046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3733920" y="2057400"/>
            <a:ext cx="518112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64 году Высоцкий поступил на работу в Московский театр драмы и комедии на Таганке под руководством главного режиссера  Ю.П. Любимова, где проработал до конца жизни (по июль  1980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Users\1\Desktop\фото ВВ\30.jpg"/>
          <p:cNvPicPr/>
          <p:nvPr/>
        </p:nvPicPr>
        <p:blipFill>
          <a:blip r:embed="rId1"/>
          <a:stretch/>
        </p:blipFill>
        <p:spPr>
          <a:xfrm>
            <a:off x="457200" y="942840"/>
            <a:ext cx="3123720" cy="53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3"/>
          <p:cNvSpPr/>
          <p:nvPr/>
        </p:nvSpPr>
        <p:spPr>
          <a:xfrm>
            <a:off x="533520" y="609480"/>
            <a:ext cx="8000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ябрь 1971 года - премьера в театре на Таганке спектакля «Гамлет» , режиссёр Ю. Любимов (главная и любимая р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. Высоцко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Users\1\Desktop\фото ВВ\33.jpg"/>
          <p:cNvPicPr/>
          <p:nvPr/>
        </p:nvPicPr>
        <p:blipFill>
          <a:blip r:embed="rId1"/>
          <a:stretch/>
        </p:blipFill>
        <p:spPr>
          <a:xfrm>
            <a:off x="1600200" y="1905120"/>
            <a:ext cx="6063840" cy="46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2"/>
          <p:cNvSpPr/>
          <p:nvPr/>
        </p:nvSpPr>
        <p:spPr>
          <a:xfrm>
            <a:off x="457200" y="4191120"/>
            <a:ext cx="838152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..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амлет - любимая роль. Нелегко она мне далась, да и теперь выкладываешься каждый раз на пределе. Иногда кажется: нет, это в последний раз, больше не выдержу... Я не играю принца Датского. Я стараюсь показать современного человека. Да, может быть,- себя. Но какой же это был трудный путь к себ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! ..» (В. Высоцкий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1\Desktop\фото ВВ\34.jpg"/>
          <p:cNvPicPr/>
          <p:nvPr/>
        </p:nvPicPr>
        <p:blipFill>
          <a:blip r:embed="rId1"/>
          <a:stretch/>
        </p:blipFill>
        <p:spPr>
          <a:xfrm>
            <a:off x="2133720" y="762120"/>
            <a:ext cx="4857480" cy="33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C:\Users\1\Desktop\фото ВВ\38.jpg"/>
          <p:cNvPicPr/>
          <p:nvPr/>
        </p:nvPicPr>
        <p:blipFill>
          <a:blip r:embed="rId1"/>
          <a:stretch/>
        </p:blipFill>
        <p:spPr>
          <a:xfrm>
            <a:off x="-54000" y="835200"/>
            <a:ext cx="9253080" cy="58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1\Desktop\фото ВВ\39.jpg"/>
          <p:cNvPicPr/>
          <p:nvPr/>
        </p:nvPicPr>
        <p:blipFill>
          <a:blip r:embed="rId1"/>
          <a:stretch/>
        </p:blipFill>
        <p:spPr>
          <a:xfrm>
            <a:off x="228600" y="762120"/>
            <a:ext cx="8570520" cy="59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Users\1\Desktop\фото ВВ\41.jpg"/>
          <p:cNvPicPr/>
          <p:nvPr/>
        </p:nvPicPr>
        <p:blipFill>
          <a:blip r:embed="rId1"/>
          <a:srcRect l="831" t="0" r="-364" b="0"/>
          <a:stretch/>
        </p:blipFill>
        <p:spPr>
          <a:xfrm>
            <a:off x="0" y="762120"/>
            <a:ext cx="9143640" cy="60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Users\1\Desktop\фото ВВ\44.jpg"/>
          <p:cNvPicPr/>
          <p:nvPr/>
        </p:nvPicPr>
        <p:blipFill>
          <a:blip r:embed="rId1"/>
          <a:srcRect l="0" t="0" r="1635" b="0"/>
          <a:stretch/>
        </p:blipFill>
        <p:spPr>
          <a:xfrm>
            <a:off x="-19080" y="646200"/>
            <a:ext cx="9162720" cy="62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9" descr="Рисунок1"/>
          <p:cNvPicPr/>
          <p:nvPr/>
        </p:nvPicPr>
        <p:blipFill>
          <a:blip r:embed="rId1"/>
          <a:srcRect l="0" t="0" r="0" b="8887"/>
          <a:stretch/>
        </p:blipFill>
        <p:spPr>
          <a:xfrm>
            <a:off x="0" y="0"/>
            <a:ext cx="9143640" cy="7009920"/>
          </a:xfrm>
          <a:prstGeom prst="rect">
            <a:avLst/>
          </a:prstGeom>
          <a:ln w="9525">
            <a:noFill/>
          </a:ln>
        </p:spPr>
      </p:pic>
      <p:sp>
        <p:nvSpPr>
          <p:cNvPr id="114" name="WordArt 10"/>
          <p:cNvSpPr txBox="1"/>
          <p:nvPr/>
        </p:nvSpPr>
        <p:spPr>
          <a:xfrm>
            <a:off x="228600" y="533520"/>
            <a:ext cx="6781320" cy="266652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  <a:scene3d>
              <a:camera prst="legacyPerspectiveTopLeft"/>
              <a:lightRig dir="r" rig="legacyNormal3"/>
            </a:scene3d>
            <a:sp3d extrusionH="201600" prstMaterial="legacyMetal">
              <a:extrusionClr>
                <a:srgbClr val="ffffff"/>
              </a:extrusionClr>
            </a:sp3d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Владимир Семёнович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Высоцкий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1"/>
          <p:cNvSpPr txBox="1"/>
          <p:nvPr/>
        </p:nvSpPr>
        <p:spPr>
          <a:xfrm>
            <a:off x="2286000" y="3505320"/>
            <a:ext cx="2895120" cy="105696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  <a:scene3d>
              <a:camera prst="legacyPerspectiveTopLeft"/>
              <a:lightRig dir="r" rig="legacyNormal3"/>
            </a:scene3d>
            <a:sp3d extrusionH="201600" prstMaterial="legacyMetal">
              <a:extrusionClr>
                <a:srgbClr val="ffffff"/>
              </a:extrusionClr>
            </a:sp3d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1938 - 1980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23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0"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  <p:cond delay="0" evt="onStopAudio"/>
                  </p:endCondLst>
                </p:cTn>
                <p:tgtEl>
                  <p:spTgt spid="116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Users\1\Desktop\фото ВВ\45.jpg"/>
          <p:cNvPicPr/>
          <p:nvPr/>
        </p:nvPicPr>
        <p:blipFill>
          <a:blip r:embed="rId1"/>
          <a:stretch/>
        </p:blipFill>
        <p:spPr>
          <a:xfrm>
            <a:off x="76320" y="783360"/>
            <a:ext cx="8991360" cy="607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380880" y="762120"/>
            <a:ext cx="83815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67 год. На экраны выходит фильм «Вертикаль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ём В. Высоцкий сыграл рол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радиста экспедиции Волод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именно с этого кинофильма  началось признание Высоцкого и как актёра 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C:\Users\1\Desktop\фото ВВ\40.jpg"/>
          <p:cNvPicPr/>
          <p:nvPr/>
        </p:nvPicPr>
        <p:blipFill>
          <a:blip r:embed="rId1"/>
          <a:stretch/>
        </p:blipFill>
        <p:spPr>
          <a:xfrm>
            <a:off x="2057400" y="2585880"/>
            <a:ext cx="5124240" cy="38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Admin\Downloads\Konkin_Kult_40_06.jpg"/>
          <p:cNvPicPr/>
          <p:nvPr/>
        </p:nvPicPr>
        <p:blipFill>
          <a:blip r:embed="rId1"/>
          <a:stretch/>
        </p:blipFill>
        <p:spPr>
          <a:xfrm>
            <a:off x="762120" y="679320"/>
            <a:ext cx="7619760" cy="5498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1\Desktop\фото ВВ\27.jpg"/>
          <p:cNvPicPr/>
          <p:nvPr/>
        </p:nvPicPr>
        <p:blipFill>
          <a:blip r:embed="rId1"/>
          <a:stretch/>
        </p:blipFill>
        <p:spPr>
          <a:xfrm>
            <a:off x="304920" y="874800"/>
            <a:ext cx="865548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6"/>
          <p:cNvSpPr/>
          <p:nvPr/>
        </p:nvSpPr>
        <p:spPr>
          <a:xfrm>
            <a:off x="457200" y="4896000"/>
            <a:ext cx="82292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несколько лет после знакомства состоялась свадьб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ина с Владимиром  прожила 12 лет. Все эти годы она замедляла бешеный ритм жизни Высоц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Users\1\Desktop\фото ВВ\28.jpg"/>
          <p:cNvPicPr/>
          <p:nvPr/>
        </p:nvPicPr>
        <p:blipFill>
          <a:blip r:embed="rId1"/>
          <a:stretch/>
        </p:blipFill>
        <p:spPr>
          <a:xfrm>
            <a:off x="457200" y="914400"/>
            <a:ext cx="824184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2"/>
          <p:cNvSpPr/>
          <p:nvPr/>
        </p:nvSpPr>
        <p:spPr>
          <a:xfrm>
            <a:off x="0" y="838080"/>
            <a:ext cx="9143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цкий дал более 1000 концертов в СССР и за рубеж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Users\1\Desktop\фото ВВ\62.jpg"/>
          <p:cNvPicPr/>
          <p:nvPr/>
        </p:nvPicPr>
        <p:blipFill>
          <a:blip r:embed="rId1"/>
          <a:stretch/>
        </p:blipFill>
        <p:spPr>
          <a:xfrm>
            <a:off x="2895480" y="1371600"/>
            <a:ext cx="328428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57200" y="4245120"/>
            <a:ext cx="815292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соцкий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был  поэт -  со  своей  темой, своим голосом. В нем много  было… от  природы, от Бога, это разрывало его. Страдание  было  главным  в  его творчестве,  страдание  и  способ  его  выражения… Он был  очен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даренный человек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улат Окуджа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Users\1\Desktop\фото ВВ\66.jpg"/>
          <p:cNvPicPr/>
          <p:nvPr/>
        </p:nvPicPr>
        <p:blipFill>
          <a:blip r:embed="rId1"/>
          <a:stretch/>
        </p:blipFill>
        <p:spPr>
          <a:xfrm>
            <a:off x="2971800" y="838080"/>
            <a:ext cx="3387240" cy="33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457200" y="5181480"/>
            <a:ext cx="845784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8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  - Присуждена Государственная  премия СССР  (посмертно) за «Создание образа Г. Е. Жеглова в телефильме «Место встречи изменить нельзя» и авторское исполнение песе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304920" y="609480"/>
            <a:ext cx="373356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8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 – В издательстве «Современник» выходит книга стихов В.Высоцкого «Нер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4038480" y="609480"/>
            <a:ext cx="48765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8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  -  Именем В. Высоцкого названа план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1\Desktop\фото ВВ\67.jpg"/>
          <p:cNvPicPr/>
          <p:nvPr/>
        </p:nvPicPr>
        <p:blipFill>
          <a:blip r:embed="rId1"/>
          <a:stretch/>
        </p:blipFill>
        <p:spPr>
          <a:xfrm>
            <a:off x="809640" y="2090880"/>
            <a:ext cx="75229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4800600" y="1765440"/>
            <a:ext cx="4419360" cy="3747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AutoNum type="arabicPlain" startAt="25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юля 1980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4 часа  утра сердц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имира Семёновича Высоцкого останов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хоронен Поэ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аганьковском кладбищ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 памятника А.И. Рукавиш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C:\Users\1\Desktop\фото ВВ\65.jpg"/>
          <p:cNvPicPr/>
          <p:nvPr/>
        </p:nvPicPr>
        <p:blipFill>
          <a:blip r:embed="rId1"/>
          <a:stretch/>
        </p:blipFill>
        <p:spPr>
          <a:xfrm>
            <a:off x="380880" y="685800"/>
            <a:ext cx="418428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1\Desktop\фото ВВ\68.jpg"/>
          <p:cNvPicPr/>
          <p:nvPr/>
        </p:nvPicPr>
        <p:blipFill>
          <a:blip r:embed="rId1"/>
          <a:srcRect l="0" t="7661" r="0" b="0"/>
          <a:stretch/>
        </p:blipFill>
        <p:spPr>
          <a:xfrm>
            <a:off x="609480" y="762120"/>
            <a:ext cx="7924320" cy="58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752480" y="1066680"/>
            <a:ext cx="62481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09480" y="4648320"/>
            <a:ext cx="7848360" cy="173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Соплеменники, окажите честь. 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Зачеркните «был». Напишите - «есть!»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В.Высоцкий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1\Desktop\фото ВВ\Рисунок1.jpg"/>
          <p:cNvPicPr/>
          <p:nvPr/>
        </p:nvPicPr>
        <p:blipFill>
          <a:blip r:embed="rId1"/>
          <a:stretch/>
        </p:blipFill>
        <p:spPr>
          <a:xfrm>
            <a:off x="2971800" y="914400"/>
            <a:ext cx="3193560" cy="37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Users\1\Desktop\фото ВВ\6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6"/>
          <p:cNvSpPr/>
          <p:nvPr/>
        </p:nvSpPr>
        <p:spPr>
          <a:xfrm>
            <a:off x="304920" y="4648320"/>
            <a:ext cx="4419360" cy="19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на Максим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чик с немецкого языка, начальник  бю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ИИ ХИММАШ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4952880" y="4648320"/>
            <a:ext cx="373356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е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ен Владимирович, военный связист, ветеран ВОв, полк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1\Desktop\фото ВВ\2.jpg"/>
          <p:cNvPicPr/>
          <p:nvPr/>
        </p:nvPicPr>
        <p:blipFill>
          <a:blip r:embed="rId1"/>
          <a:stretch/>
        </p:blipFill>
        <p:spPr>
          <a:xfrm>
            <a:off x="1371600" y="838080"/>
            <a:ext cx="2214360" cy="3868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1\Desktop\фото ВВ\Рисунок3.jpg"/>
          <p:cNvPicPr/>
          <p:nvPr/>
        </p:nvPicPr>
        <p:blipFill>
          <a:blip r:embed="rId2"/>
          <a:stretch/>
        </p:blipFill>
        <p:spPr>
          <a:xfrm>
            <a:off x="5638680" y="914400"/>
            <a:ext cx="21823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914400" y="762120"/>
            <a:ext cx="71625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 Владимир Высоцкий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5 января 193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3"/>
          <p:cNvSpPr/>
          <p:nvPr/>
        </p:nvSpPr>
        <p:spPr>
          <a:xfrm>
            <a:off x="380880" y="4876920"/>
            <a:ext cx="845784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ннее детство Владимир провёл в московской коммунальной квартире на 1-й Мещанской улице: «…На тридцать восемь комнаток всего одна уборная…» - напишет в 1975 г. Высоцкий о своём раннем дет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Users\1\Desktop\фото ВВ\Рисунок4.jpg"/>
          <p:cNvPicPr/>
          <p:nvPr/>
        </p:nvPicPr>
        <p:blipFill>
          <a:blip r:embed="rId1"/>
          <a:stretch/>
        </p:blipFill>
        <p:spPr>
          <a:xfrm>
            <a:off x="493560" y="1600200"/>
            <a:ext cx="8040240" cy="28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1\Desktop\фото ВВ\8.png"/>
          <p:cNvPicPr/>
          <p:nvPr/>
        </p:nvPicPr>
        <p:blipFill>
          <a:blip r:embed="rId1"/>
          <a:stretch/>
        </p:blipFill>
        <p:spPr>
          <a:xfrm>
            <a:off x="-30240" y="798480"/>
            <a:ext cx="8868960" cy="57542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"/>
          <p:cNvSpPr/>
          <p:nvPr/>
        </p:nvSpPr>
        <p:spPr>
          <a:xfrm>
            <a:off x="4724280" y="1066680"/>
            <a:ext cx="3885840" cy="19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47-49 годах жил в Эберсвальде (Германия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месту службы отц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юный Володя научился играть на фортепи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9"/>
          <p:cNvSpPr/>
          <p:nvPr/>
        </p:nvSpPr>
        <p:spPr>
          <a:xfrm>
            <a:off x="533520" y="4906800"/>
            <a:ext cx="830556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то время семья Высоцких живёт в Большом Каретном переулке, 15. (В настоящее время на доме установлена мемориальная доска). Этот переулок увековечен в его песне: «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де твои семнадцать лет? На Большом Карет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1\Desktop\фото ВВ\11.png"/>
          <p:cNvPicPr/>
          <p:nvPr/>
        </p:nvPicPr>
        <p:blipFill>
          <a:blip r:embed="rId1"/>
          <a:stretch/>
        </p:blipFill>
        <p:spPr>
          <a:xfrm>
            <a:off x="1447920" y="990720"/>
            <a:ext cx="6314760" cy="37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5"/>
          <p:cNvSpPr/>
          <p:nvPr/>
        </p:nvSpPr>
        <p:spPr>
          <a:xfrm>
            <a:off x="5029200" y="4876920"/>
            <a:ext cx="36572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55 году В. Высоцкий закончил среднюю шко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Users\1\Desktop\фото ВВ\12.png"/>
          <p:cNvPicPr/>
          <p:nvPr/>
        </p:nvPicPr>
        <p:blipFill>
          <a:blip r:embed="rId1"/>
          <a:stretch/>
        </p:blipFill>
        <p:spPr>
          <a:xfrm>
            <a:off x="304920" y="1066680"/>
            <a:ext cx="4173120" cy="510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1\Desktop\фото ВВ\13.png"/>
          <p:cNvPicPr/>
          <p:nvPr/>
        </p:nvPicPr>
        <p:blipFill>
          <a:blip r:embed="rId2"/>
          <a:stretch/>
        </p:blipFill>
        <p:spPr>
          <a:xfrm>
            <a:off x="4724280" y="1066680"/>
            <a:ext cx="4136760" cy="33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6"/>
          <p:cNvSpPr/>
          <p:nvPr/>
        </p:nvSpPr>
        <p:spPr>
          <a:xfrm>
            <a:off x="457200" y="5029200"/>
            <a:ext cx="800064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 1955 году по настоянию родственников, поступил на механический факультет Московского инженерно-строительного института им. Куйбышева, из которого ушёл после первого семес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1\Desktop\фото ВВ\114.jpg"/>
          <p:cNvPicPr/>
          <p:nvPr/>
        </p:nvPicPr>
        <p:blipFill>
          <a:blip r:embed="rId1"/>
          <a:stretch/>
        </p:blipFill>
        <p:spPr>
          <a:xfrm>
            <a:off x="3200400" y="838080"/>
            <a:ext cx="2858760" cy="41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1485</TotalTime>
  <Application>LibreOffice/7.4.7.2$Linux_X86_64 LibreOffice_project/40$Build-2</Application>
  <AppVersion>15.0000</AppVersion>
  <Words>689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старшина</dc:creator>
  <dc:description/>
  <dc:language>en-US</dc:language>
  <cp:lastModifiedBy>Пользователь</cp:lastModifiedBy>
  <cp:lastPrinted>1601-01-01T00:00:00Z</cp:lastPrinted>
  <dcterms:modified xsi:type="dcterms:W3CDTF">2023-01-02T14:57:07Z</dcterms:modified>
  <cp:revision>2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0</vt:r8>
  </property>
  <property fmtid="{D5CDD505-2E9C-101B-9397-08002B2CF9AE}" pid="5" name="Version">
    <vt:r8>1</vt:r8>
  </property>
</Properties>
</file>