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52C-070A-4B8A-B08D-5839D8AC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FE5-3142-4FC6-8B1F-0849A623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4E7-AA20-47B1-AF3E-2DE03A6B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DCB-3CB6-4C9F-B4F7-62ED981D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F27-C322-4AE8-9855-C23691AE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6B0E-5487-433C-BB64-CFCD82C5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8FF-A3AA-44DC-9460-52BB842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C15A-0E41-45FA-B906-6E320A1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23A3-7839-49C7-8ED7-5D89087F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3633-4F47-413A-B087-D1CFCD8D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F06F-B9DC-4080-AC5F-7B12F9F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949-F1AD-461D-A23F-C2D4290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942-9CB8-44D9-AE90-6094701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1A99-12D5-43F2-9A3C-BD4D9BE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169-1BCA-44AE-A56B-A52B4BEF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0A5-D989-4392-AED5-1A7A6823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1C21-428F-4225-9C2B-E663EEC9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68F-915C-4D10-B05B-97903F9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14D-0C30-411C-9BD7-E0609CA2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E33-54E1-4233-B28B-61ACABD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A34-88DD-4574-937E-B85F516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B8A-12A6-41FA-A89B-491F670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DAA-01CC-492A-A67C-C6416ED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863-AD95-4ECF-BAB0-E8A99F5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3640" cy="31068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3640" cy="91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60000"/>
            <a:ext cx="3733560" cy="900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9200"/>
            <a:ext cx="3733560" cy="180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08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/>
          <p:cNvSpPr/>
          <p:nvPr/>
        </p:nvSpPr>
        <p:spPr>
          <a:xfrm>
            <a:off x="7373880" y="588960"/>
            <a:ext cx="1599840" cy="36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68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0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000" cy="62028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6640" cy="62028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080" cy="58536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560" cy="58536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2320" indent="-219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360" indent="-200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-182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2320" indent="-219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360" indent="-200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-182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28D823-3949-4256-BADE-703CE4CEFE12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6" name="Прямоугольник 28"/>
          <p:cNvSpPr/>
          <p:nvPr/>
        </p:nvSpPr>
        <p:spPr>
          <a:xfrm>
            <a:off x="0" y="0"/>
            <a:ext cx="9143640" cy="31068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7" name="Прямоугольник 29"/>
          <p:cNvSpPr/>
          <p:nvPr/>
        </p:nvSpPr>
        <p:spPr>
          <a:xfrm>
            <a:off x="0" y="307800"/>
            <a:ext cx="9143640" cy="91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Прямоугольник 30"/>
          <p:cNvSpPr/>
          <p:nvPr/>
        </p:nvSpPr>
        <p:spPr>
          <a:xfrm flipV="1">
            <a:off x="5410080" y="360000"/>
            <a:ext cx="3733560" cy="900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Прямоугольник 31"/>
          <p:cNvSpPr/>
          <p:nvPr/>
        </p:nvSpPr>
        <p:spPr>
          <a:xfrm flipV="1">
            <a:off x="5410080" y="439200"/>
            <a:ext cx="3733560" cy="180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0" name="Скругленный прямоугольник 32"/>
          <p:cNvSpPr/>
          <p:nvPr/>
        </p:nvSpPr>
        <p:spPr>
          <a:xfrm>
            <a:off x="5407200" y="496800"/>
            <a:ext cx="3063600" cy="2808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1" name="Скругленный прямоугольник 33"/>
          <p:cNvSpPr/>
          <p:nvPr/>
        </p:nvSpPr>
        <p:spPr>
          <a:xfrm>
            <a:off x="7373880" y="588960"/>
            <a:ext cx="1599840" cy="36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2" name="Прямоугольник 34"/>
          <p:cNvSpPr/>
          <p:nvPr/>
        </p:nvSpPr>
        <p:spPr>
          <a:xfrm>
            <a:off x="9085320" y="-1440"/>
            <a:ext cx="568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9043920" y="-1440"/>
            <a:ext cx="280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Прямоугольник 36"/>
          <p:cNvSpPr/>
          <p:nvPr/>
        </p:nvSpPr>
        <p:spPr>
          <a:xfrm>
            <a:off x="9024840" y="-1440"/>
            <a:ext cx="9000" cy="62028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Прямоугольник 37"/>
          <p:cNvSpPr/>
          <p:nvPr/>
        </p:nvSpPr>
        <p:spPr>
          <a:xfrm>
            <a:off x="8975880" y="-1440"/>
            <a:ext cx="26640" cy="62028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38"/>
          <p:cNvSpPr/>
          <p:nvPr/>
        </p:nvSpPr>
        <p:spPr>
          <a:xfrm>
            <a:off x="8915400" y="0"/>
            <a:ext cx="55080" cy="58536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39"/>
          <p:cNvSpPr/>
          <p:nvPr/>
        </p:nvSpPr>
        <p:spPr>
          <a:xfrm>
            <a:off x="8874000" y="0"/>
            <a:ext cx="7560" cy="58536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8174160" y="1440"/>
            <a:ext cx="761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93D0C-0B9B-49C6-8FD7-217F727CA2FA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F:/&#1042;.%20&#1042;&#1099;&#1089;&#1086;&#1094;&#1082;&#1080;&#1081;/&#1042;&#1083;&#1072;&#1076;&#1080;&#1084;&#1080;&#1088;_&#1042;&#1099;&#1089;&#1086;&#1094;&#1082;&#1080;&#1081;_-_&#1056;&#1072;&#1081;&#1089;&#1082;&#1080;&#1077;_&#1071;&#1073;&#1083;&#1086;&#1082;&#1080;_(&#1053;&#1086;&#1074;&#1099;&#1081;_&#1047;&#1074;%20mm&#1091;&#1082;).wav" TargetMode="External"/><Relationship Id="rId3" Type="http://schemas.microsoft.com/office/2007/relationships/media" Target="file:///F:/&#1042;.%20&#1042;&#1099;&#1089;&#1086;&#1094;&#1082;&#1080;&#1081;/&#1042;&#1083;&#1072;&#1076;&#1080;&#1084;&#1080;&#1088;_&#1042;&#1099;&#1089;&#1086;&#1094;&#1082;&#1080;&#1081;_-_&#1056;&#1072;&#1081;&#1089;&#1082;&#1080;&#1077;_&#1071;&#1073;&#1083;&#1086;&#1082;&#1080;_(&#1053;&#1086;&#1074;&#1099;&#1081;_&#1047;&#1074;%20mm&#1091;&#1082;)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Я, конечно, вернусь…»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езентация к уроку-литературной гостиной в 11 классе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ыполнила: учитель русского языка Кулик Е.С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Picture 2" descr="C:\Users\1\Desktop\фото ВВ\30.jpg"/>
          <p:cNvPicPr/>
          <p:nvPr/>
        </p:nvPicPr>
        <p:blipFill>
          <a:blip r:embed="rId1"/>
          <a:stretch/>
        </p:blipFill>
        <p:spPr>
          <a:xfrm>
            <a:off x="357120" y="1500120"/>
            <a:ext cx="41428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533520" y="5257800"/>
            <a:ext cx="81529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956 по 1960 гг. Высоцкий - студент актёрского отделения Школы - студии МХАТ им. В. И. Немировича -Данче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1\Desktop\фото ВВ\16.jpg"/>
          <p:cNvPicPr/>
          <p:nvPr/>
        </p:nvPicPr>
        <p:blipFill>
          <a:blip r:embed="rId1"/>
          <a:stretch/>
        </p:blipFill>
        <p:spPr>
          <a:xfrm>
            <a:off x="762120" y="1066680"/>
            <a:ext cx="2638080" cy="3850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1\Desktop\фото ВВ\17.jpg"/>
          <p:cNvPicPr/>
          <p:nvPr/>
        </p:nvPicPr>
        <p:blipFill>
          <a:blip r:embed="rId2"/>
          <a:stretch/>
        </p:blipFill>
        <p:spPr>
          <a:xfrm>
            <a:off x="4419720" y="1066680"/>
            <a:ext cx="40190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191120" y="915840"/>
            <a:ext cx="457164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59 год - первая театральная работа (роль Порфирия Петровича в учебном спектакле «Преступление и наказание») и первой ролью в кино (фильм «Сверстницы», эпизодическая роль студента Пе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191120" y="4092480"/>
            <a:ext cx="46620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60 году произошло первое упоминание о Высоцком в центральной печати, в статье Л. Сергеева «Девятнадцать из МХАТ» («Советская культура», 1960, 28 ию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1\Desktop\фото ВВ\20.jpg"/>
          <p:cNvPicPr/>
          <p:nvPr/>
        </p:nvPicPr>
        <p:blipFill>
          <a:blip r:embed="rId1"/>
          <a:stretch/>
        </p:blipFill>
        <p:spPr>
          <a:xfrm>
            <a:off x="380880" y="1219320"/>
            <a:ext cx="365724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4572000" y="1371600"/>
            <a:ext cx="449532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с актёрами Теа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Таганке ездил с гастро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границу в Болгарию, Венгрию, Югославию (БИТЕФ), Францию, Германию, Польшу. Получив разрешение выехать к жене во Францию с частным визитом, сумел также побывать несколько раз в США (в том числе и с концертами 1979 года), Канаде, Таит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1\Desktop\фото ВВ\61.jpg"/>
          <p:cNvPicPr/>
          <p:nvPr/>
        </p:nvPicPr>
        <p:blipFill>
          <a:blip r:embed="rId1"/>
          <a:stretch/>
        </p:blipFill>
        <p:spPr>
          <a:xfrm>
            <a:off x="304920" y="990720"/>
            <a:ext cx="4046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3733920" y="2057400"/>
            <a:ext cx="51811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64 году Высоцкий поступил на работу в Московский театр драмы и комедии на Таганке под руководством главного режиссера  Ю.П. Любимова, где проработал до конца жизни (по июль  198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1\Desktop\фото ВВ\30.jpg"/>
          <p:cNvPicPr/>
          <p:nvPr/>
        </p:nvPicPr>
        <p:blipFill>
          <a:blip r:embed="rId1"/>
          <a:stretch/>
        </p:blipFill>
        <p:spPr>
          <a:xfrm>
            <a:off x="457200" y="942840"/>
            <a:ext cx="3123720" cy="53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533520" y="609480"/>
            <a:ext cx="8000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ябрь 1971 года - премьера в театре на Таганке спектакля «Гамлет» , режиссёр Ю. Любимов (главная и любимая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Высоцк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1\Desktop\фото ВВ\33.jpg"/>
          <p:cNvPicPr/>
          <p:nvPr/>
        </p:nvPicPr>
        <p:blipFill>
          <a:blip r:embed="rId1"/>
          <a:stretch/>
        </p:blipFill>
        <p:spPr>
          <a:xfrm>
            <a:off x="1600200" y="1905120"/>
            <a:ext cx="6063840" cy="46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2"/>
          <p:cNvSpPr/>
          <p:nvPr/>
        </p:nvSpPr>
        <p:spPr>
          <a:xfrm>
            <a:off x="457200" y="4191120"/>
            <a:ext cx="83815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..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амлет - любимая роль. Нелегко она мне далась, да и теперь выкладываешься каждый раз на пределе. Иногда кажется: нет, это в последний раз, больше не выдержу... Я не играю принца Датского. Я стараюсь показать современного человека. Да, может быть,- себя. Но какой же это был трудный путь к себ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 ..» (В. Высоцк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1\Desktop\фото ВВ\34.jpg"/>
          <p:cNvPicPr/>
          <p:nvPr/>
        </p:nvPicPr>
        <p:blipFill>
          <a:blip r:embed="rId1"/>
          <a:stretch/>
        </p:blipFill>
        <p:spPr>
          <a:xfrm>
            <a:off x="2133720" y="762120"/>
            <a:ext cx="485748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1\Desktop\фото ВВ\38.jpg"/>
          <p:cNvPicPr/>
          <p:nvPr/>
        </p:nvPicPr>
        <p:blipFill>
          <a:blip r:embed="rId1"/>
          <a:stretch/>
        </p:blipFill>
        <p:spPr>
          <a:xfrm>
            <a:off x="-54000" y="835200"/>
            <a:ext cx="9253080" cy="58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1\Desktop\фото ВВ\39.jpg"/>
          <p:cNvPicPr/>
          <p:nvPr/>
        </p:nvPicPr>
        <p:blipFill>
          <a:blip r:embed="rId1"/>
          <a:stretch/>
        </p:blipFill>
        <p:spPr>
          <a:xfrm>
            <a:off x="228600" y="762120"/>
            <a:ext cx="8570520" cy="59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1\Desktop\фото ВВ\41.jpg"/>
          <p:cNvPicPr/>
          <p:nvPr/>
        </p:nvPicPr>
        <p:blipFill>
          <a:blip r:embed="rId1"/>
          <a:srcRect l="831" t="0" r="-364" b="0"/>
          <a:stretch/>
        </p:blipFill>
        <p:spPr>
          <a:xfrm>
            <a:off x="0" y="762120"/>
            <a:ext cx="9143640" cy="60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1\Desktop\фото ВВ\44.jpg"/>
          <p:cNvPicPr/>
          <p:nvPr/>
        </p:nvPicPr>
        <p:blipFill>
          <a:blip r:embed="rId1"/>
          <a:srcRect l="0" t="0" r="1635" b="0"/>
          <a:stretch/>
        </p:blipFill>
        <p:spPr>
          <a:xfrm>
            <a:off x="-19080" y="646200"/>
            <a:ext cx="9162720" cy="62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Рисунок1"/>
          <p:cNvPicPr/>
          <p:nvPr/>
        </p:nvPicPr>
        <p:blipFill>
          <a:blip r:embed="rId1"/>
          <a:srcRect l="0" t="0" r="0" b="8887"/>
          <a:stretch/>
        </p:blipFill>
        <p:spPr>
          <a:xfrm>
            <a:off x="0" y="0"/>
            <a:ext cx="9143640" cy="7009920"/>
          </a:xfrm>
          <a:prstGeom prst="rect">
            <a:avLst/>
          </a:prstGeom>
          <a:ln w="9525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228600" y="533520"/>
            <a:ext cx="6781320" cy="2666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legacyPerspectiveTopLeft"/>
              <a:lightRig dir="r" rig="legacyNormal3"/>
            </a:scene3d>
            <a:sp3d extrusionH="201600" prstMaterial="legacyMetal">
              <a:extrusionClr>
                <a:srgbClr val="ffffff"/>
              </a:extrusionClr>
            </a:sp3d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Владимир Семёнович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Высоцкий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2286000" y="3505320"/>
            <a:ext cx="2895120" cy="10569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legacyPerspectiveTopLeft"/>
              <a:lightRig dir="r" rig="legacyNormal3"/>
            </a:scene3d>
            <a:sp3d extrusionH="201600" prstMaterial="legacyMetal">
              <a:extrusionClr>
                <a:srgbClr val="ffffff"/>
              </a:extrusionClr>
            </a:sp3d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938 - 1980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1\Desktop\фото ВВ\45.jpg"/>
          <p:cNvPicPr/>
          <p:nvPr/>
        </p:nvPicPr>
        <p:blipFill>
          <a:blip r:embed="rId1"/>
          <a:stretch/>
        </p:blipFill>
        <p:spPr>
          <a:xfrm>
            <a:off x="76320" y="783360"/>
            <a:ext cx="8991360" cy="60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80880" y="762120"/>
            <a:ext cx="83815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7 год. На экраны выходит фильм «Вертикал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ём В. Высоцкий сыграл ро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радиста экспедиции Воло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менно с этого кинофильма  началось признание Высоцкого и как актёра 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1\Desktop\фото ВВ\40.jpg"/>
          <p:cNvPicPr/>
          <p:nvPr/>
        </p:nvPicPr>
        <p:blipFill>
          <a:blip r:embed="rId1"/>
          <a:stretch/>
        </p:blipFill>
        <p:spPr>
          <a:xfrm>
            <a:off x="2057400" y="2585880"/>
            <a:ext cx="5124240" cy="38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Admin\Downloads\Konkin_Kult_40_06.jpg"/>
          <p:cNvPicPr/>
          <p:nvPr/>
        </p:nvPicPr>
        <p:blipFill>
          <a:blip r:embed="rId1"/>
          <a:stretch/>
        </p:blipFill>
        <p:spPr>
          <a:xfrm>
            <a:off x="762120" y="679320"/>
            <a:ext cx="7619760" cy="549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1\Desktop\фото ВВ\27.jpg"/>
          <p:cNvPicPr/>
          <p:nvPr/>
        </p:nvPicPr>
        <p:blipFill>
          <a:blip r:embed="rId1"/>
          <a:stretch/>
        </p:blipFill>
        <p:spPr>
          <a:xfrm>
            <a:off x="304920" y="874800"/>
            <a:ext cx="86554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57200" y="4896000"/>
            <a:ext cx="8229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несколько лет после знакомства состоялась свадь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ина с Владимиром  прожила 12 лет. Все эти годы она замедляла бешеный ритм жизни Высоц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1\Desktop\фото ВВ\28.jpg"/>
          <p:cNvPicPr/>
          <p:nvPr/>
        </p:nvPicPr>
        <p:blipFill>
          <a:blip r:embed="rId1"/>
          <a:stretch/>
        </p:blipFill>
        <p:spPr>
          <a:xfrm>
            <a:off x="457200" y="914400"/>
            <a:ext cx="82418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2"/>
          <p:cNvSpPr/>
          <p:nvPr/>
        </p:nvSpPr>
        <p:spPr>
          <a:xfrm>
            <a:off x="0" y="838080"/>
            <a:ext cx="914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цкий дал более 1000 концертов в СССР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1\Desktop\фото ВВ\62.jpg"/>
          <p:cNvPicPr/>
          <p:nvPr/>
        </p:nvPicPr>
        <p:blipFill>
          <a:blip r:embed="rId1"/>
          <a:stretch/>
        </p:blipFill>
        <p:spPr>
          <a:xfrm>
            <a:off x="2895480" y="1371600"/>
            <a:ext cx="32842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4245120"/>
            <a:ext cx="81529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соцки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был  поэт -  со  своей  темой, своим голосом. В нем много  было… от  природы, от Бога, это разрывало его. Страдание  было  главным  в  его творчестве,  страдание  и  способ  его  выражения… Он был  очен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аренный челове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лат Окудж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1\Desktop\фото ВВ\66.jpg"/>
          <p:cNvPicPr/>
          <p:nvPr/>
        </p:nvPicPr>
        <p:blipFill>
          <a:blip r:embed="rId1"/>
          <a:stretch/>
        </p:blipFill>
        <p:spPr>
          <a:xfrm>
            <a:off x="2971800" y="838080"/>
            <a:ext cx="3387240" cy="33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57200" y="5181480"/>
            <a:ext cx="84578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 - Присуждена Государственная  премия СССР  (посмертно) за «Создание образа Г. Е. Жеглова в телефильме «Место встречи изменить нельзя» и авторское исполнение пес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04920" y="609480"/>
            <a:ext cx="3733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– В издательстве «Современник» выходит книга стихов В.Высоцкого «Нер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4038480" y="609480"/>
            <a:ext cx="4876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 -  Именем В. Высоцкого названа пла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1\Desktop\фото ВВ\67.jpg"/>
          <p:cNvPicPr/>
          <p:nvPr/>
        </p:nvPicPr>
        <p:blipFill>
          <a:blip r:embed="rId1"/>
          <a:stretch/>
        </p:blipFill>
        <p:spPr>
          <a:xfrm>
            <a:off x="809640" y="2090880"/>
            <a:ext cx="75229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4800600" y="1765440"/>
            <a:ext cx="441936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AutoNum type="arabicPlain" startAt="25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юля 1980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4 часа  утра серд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а Семёновича Высоцкого остано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хоронен Поэ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аганьковском кладб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амятника А.И. Рукавиш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1\Desktop\фото ВВ\65.jpg"/>
          <p:cNvPicPr/>
          <p:nvPr/>
        </p:nvPicPr>
        <p:blipFill>
          <a:blip r:embed="rId1"/>
          <a:stretch/>
        </p:blipFill>
        <p:spPr>
          <a:xfrm>
            <a:off x="380880" y="685800"/>
            <a:ext cx="418428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1\Desktop\фото ВВ\68.jpg"/>
          <p:cNvPicPr/>
          <p:nvPr/>
        </p:nvPicPr>
        <p:blipFill>
          <a:blip r:embed="rId1"/>
          <a:srcRect l="0" t="7661" r="0" b="0"/>
          <a:stretch/>
        </p:blipFill>
        <p:spPr>
          <a:xfrm>
            <a:off x="609480" y="762120"/>
            <a:ext cx="79243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52480" y="1066680"/>
            <a:ext cx="62481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4648320"/>
            <a:ext cx="7848360" cy="17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оплеменники, окажите честь.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черкните «был». Напишите - «есть!»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В.Высоцк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1\Desktop\фото ВВ\Рисунок1.jpg"/>
          <p:cNvPicPr/>
          <p:nvPr/>
        </p:nvPicPr>
        <p:blipFill>
          <a:blip r:embed="rId1"/>
          <a:stretch/>
        </p:blipFill>
        <p:spPr>
          <a:xfrm>
            <a:off x="2971800" y="914400"/>
            <a:ext cx="3193560" cy="37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1\Desktop\фото ВВ\6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304920" y="4648320"/>
            <a:ext cx="441936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Максим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чик с немецкого языка, начальник 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ИИ ХИММАШ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952880" y="4648320"/>
            <a:ext cx="3733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н Владимирович, военный связист, ветеран ВОв, 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1\Desktop\фото ВВ\2.jpg"/>
          <p:cNvPicPr/>
          <p:nvPr/>
        </p:nvPicPr>
        <p:blipFill>
          <a:blip r:embed="rId1"/>
          <a:stretch/>
        </p:blipFill>
        <p:spPr>
          <a:xfrm>
            <a:off x="1371600" y="838080"/>
            <a:ext cx="2214360" cy="3868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фото ВВ\Рисунок3.jpg"/>
          <p:cNvPicPr/>
          <p:nvPr/>
        </p:nvPicPr>
        <p:blipFill>
          <a:blip r:embed="rId2"/>
          <a:stretch/>
        </p:blipFill>
        <p:spPr>
          <a:xfrm>
            <a:off x="5638680" y="914400"/>
            <a:ext cx="2182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14400" y="762120"/>
            <a:ext cx="7162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ладимир Высоцкий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января 193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380880" y="4876920"/>
            <a:ext cx="84578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нее детство Владимир провёл в московской коммунальной квартире на 1-й Мещанской улице: «…На тридцать восемь комнаток всего одна уборная…» - напишет в 1975 г. Высоцкий о своём раннем дет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1\Desktop\фото ВВ\Рисунок4.jpg"/>
          <p:cNvPicPr/>
          <p:nvPr/>
        </p:nvPicPr>
        <p:blipFill>
          <a:blip r:embed="rId1"/>
          <a:stretch/>
        </p:blipFill>
        <p:spPr>
          <a:xfrm>
            <a:off x="493560" y="1600200"/>
            <a:ext cx="8040240" cy="28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1\Desktop\фото ВВ\8.png"/>
          <p:cNvPicPr/>
          <p:nvPr/>
        </p:nvPicPr>
        <p:blipFill>
          <a:blip r:embed="rId1"/>
          <a:stretch/>
        </p:blipFill>
        <p:spPr>
          <a:xfrm>
            <a:off x="-30240" y="798480"/>
            <a:ext cx="8868960" cy="57542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4724280" y="1066680"/>
            <a:ext cx="388584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7-49 годах жил в Эберсвальде (Германия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месту службы отц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юный Володя научился играть на фортепи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9"/>
          <p:cNvSpPr/>
          <p:nvPr/>
        </p:nvSpPr>
        <p:spPr>
          <a:xfrm>
            <a:off x="533520" y="4906800"/>
            <a:ext cx="8305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 время семья Высоцких живёт в Большом Каретном переулке, 15. (В настоящее время на доме установлена мемориальная доска). Этот переулок увековечен в его песне: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де твои семнадцать лет? На Большом Карет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1\Desktop\фото ВВ\11.png"/>
          <p:cNvPicPr/>
          <p:nvPr/>
        </p:nvPicPr>
        <p:blipFill>
          <a:blip r:embed="rId1"/>
          <a:stretch/>
        </p:blipFill>
        <p:spPr>
          <a:xfrm>
            <a:off x="1447920" y="990720"/>
            <a:ext cx="6314760" cy="37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5"/>
          <p:cNvSpPr/>
          <p:nvPr/>
        </p:nvSpPr>
        <p:spPr>
          <a:xfrm>
            <a:off x="5029200" y="4876920"/>
            <a:ext cx="3657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5 году В. Высоцкий закончил среднюю шк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1\Desktop\фото ВВ\12.png"/>
          <p:cNvPicPr/>
          <p:nvPr/>
        </p:nvPicPr>
        <p:blipFill>
          <a:blip r:embed="rId1"/>
          <a:stretch/>
        </p:blipFill>
        <p:spPr>
          <a:xfrm>
            <a:off x="304920" y="1066680"/>
            <a:ext cx="4173120" cy="51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1\Desktop\фото ВВ\13.png"/>
          <p:cNvPicPr/>
          <p:nvPr/>
        </p:nvPicPr>
        <p:blipFill>
          <a:blip r:embed="rId2"/>
          <a:stretch/>
        </p:blipFill>
        <p:spPr>
          <a:xfrm>
            <a:off x="4724280" y="1066680"/>
            <a:ext cx="413676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457200" y="5029200"/>
            <a:ext cx="8000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1955 году по настоянию родственников, поступил на механический факультет Московского инженерно-строительного института им. Куйбышева, из которого ушёл после первого семе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1\Desktop\фото ВВ\114.jpg"/>
          <p:cNvPicPr/>
          <p:nvPr/>
        </p:nvPicPr>
        <p:blipFill>
          <a:blip r:embed="rId1"/>
          <a:stretch/>
        </p:blipFill>
        <p:spPr>
          <a:xfrm>
            <a:off x="3200400" y="838080"/>
            <a:ext cx="2858760" cy="41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485</TotalTime>
  <Application>LibreOffice/7.4.7.2$Linux_X86_64 LibreOffice_project/40$Build-2</Application>
  <AppVersion>15.0000</AppVersion>
  <Words>689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старшина</dc:creator>
  <dc:description/>
  <dc:language>en-US</dc:language>
  <cp:lastModifiedBy>Пользователь</cp:lastModifiedBy>
  <cp:lastPrinted>1601-01-01T00:00:00Z</cp:lastPrinted>
  <dcterms:modified xsi:type="dcterms:W3CDTF">2023-01-02T14:57:07Z</dcterms:modified>
  <cp:revision>2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  <property fmtid="{D5CDD505-2E9C-101B-9397-08002B2CF9AE}" pid="5" name="Version">
    <vt:r8>1</vt:r8>
  </property>
</Properties>
</file>