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0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33.wmf" ContentType="image/x-wmf"/>
  <Override PartName="/ppt/media/image13.png" ContentType="image/png"/>
  <Override PartName="/ppt/media/image5.png" ContentType="image/png"/>
  <Override PartName="/ppt/media/image35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36.wmf" ContentType="image/x-wmf"/>
  <Override PartName="/ppt/media/image16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5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FBC-FBCE-41C0-AE57-2C51D290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88A-BB1D-4770-BB99-8F684029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A86-B611-4BD2-9FF8-21F37479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DD0-DF09-494D-A8D2-95C8D33C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DB43-E967-4238-8AA0-58847580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5EA7-807E-495E-B74E-3DAF7CBE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306C-8EBC-493E-AA58-A4DFC371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0461-7E5D-429E-8349-05EDC13B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2688-B776-47F8-9D0B-B155D9A1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DA1C-1CCE-430F-AE70-EC6922EE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8A4D-B200-482F-91A5-125F29D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80B-8637-439C-87A4-516D4F54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F5DB-2753-4343-AFD9-2133D1B8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B57D-B7B7-41EB-AB20-5989A941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B7AC-A614-4CC4-8433-48EAB41E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DFFC-4D31-4027-83A2-ABA534ED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3B23-776F-4875-8A60-5D998964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555-4A18-46DD-93BD-6334D299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E19-6668-454C-A5B1-1949A60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23A-88E6-486E-B550-37DE3D92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866-A237-4F3D-AFAA-7669C0EF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B96-F139-440D-96CF-2FD6CB49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1DD-1F52-4E05-9D1D-252EA79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A12-9E75-45CC-9408-3F7EF28F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6628-4626-447E-9A6F-F405D5D63923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762E-ED8B-4B87-9EB1-4ACB5EC9C5E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5e3c"/>
                </a:solidFill>
                <a:latin typeface="Calibri"/>
              </a:rPr>
              <a:t>Родительское собрание на тему: «Чтение – это важн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57760" y="4571640"/>
            <a:ext cx="3914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Тойгильдина Галина Василье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МБОУ «СОШ№24 г. Йошкар-Ол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 Гёте: «Добрые люди и не подозревают, каких трудов и времени стоит научиться читать. Я сам на это употребил 80 лет и всё не могу сказать, что достиг цел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Амосов: «Для человеческого организма благоприятен только режим напряжения. Силы при напряжении возрастаю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ван Фёдоров «Азбу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4" descr="http://urokirus.com/online/images/stories/fedorov.jpg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5" descr="http://expositions.nlr.ru/ABC/images/5.jpg"/>
          <p:cNvPicPr/>
          <p:nvPr/>
        </p:nvPicPr>
        <p:blipFill>
          <a:blip r:embed="rId2"/>
          <a:stretch/>
        </p:blipFill>
        <p:spPr>
          <a:xfrm>
            <a:off x="5202360" y="1600200"/>
            <a:ext cx="293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Ф. Бурцев «Буквар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http://im2-tub-ru.yandex.net/i?id=310068641-63-72&amp;n=21"/>
          <p:cNvPicPr/>
          <p:nvPr/>
        </p:nvPicPr>
        <p:blipFill>
          <a:blip r:embed="rId1"/>
          <a:stretch/>
        </p:blipFill>
        <p:spPr>
          <a:xfrm>
            <a:off x="2500200" y="235728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.Д. Ушинский «Детский ми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7" descr="http://webhp.ksu.ks.ua/joomla/person/Ushinsky.gif"/>
          <p:cNvPicPr/>
          <p:nvPr/>
        </p:nvPicPr>
        <p:blipFill>
          <a:blip r:embed="rId1"/>
          <a:stretch/>
        </p:blipFill>
        <p:spPr>
          <a:xfrm>
            <a:off x="1143000" y="1714680"/>
            <a:ext cx="3071880" cy="414324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9" descr="http://nashaucheba.ru/docs/23/22524/conv_1/file1_html_4225b47e.png"/>
          <p:cNvPicPr/>
          <p:nvPr/>
        </p:nvPicPr>
        <p:blipFill>
          <a:blip r:embed="rId2"/>
          <a:stretch/>
        </p:blipFill>
        <p:spPr>
          <a:xfrm>
            <a:off x="4846680" y="1600200"/>
            <a:ext cx="364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– это важ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ига будит эмо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071800" y="1785960"/>
            <a:ext cx="412596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олог И. Пав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П.Павлов утверждал, что эмоции являются для человека своеобразным и весьма сильным энергетическим источником. Читая книгу, ребёнок радуется, переживает, удивляется, сострадает, и всё это – эмоции, они нуж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нет положительных «зарядов», легко могут пойти в ход и отрицательные. Наступает эмоциональный «голод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4" descr="http://s020.radikal.ru/i707/1212/eb/37de9e38add4.jpg"/>
          <p:cNvPicPr/>
          <p:nvPr/>
        </p:nvPicPr>
        <p:blipFill>
          <a:blip r:embed="rId1"/>
          <a:stretch/>
        </p:blipFill>
        <p:spPr>
          <a:xfrm>
            <a:off x="722160" y="160020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вышает интелл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ебёнок систематически не читает, то он упускает около 14% доступной ем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ение сегодня – способ соответствовать времени, его скоростям и жёстким требова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5357880" y="1549440"/>
            <a:ext cx="3214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могает в учё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рошо читающий ребёнок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стро улавливает смысл прочитанного, выделяет главно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учше отвечает на вопросы по прочитанном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ет большую орфографическую «зоркость»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ладает большим объёмом информаци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учше ориентируется во всех предметах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ет навыки поиска и обобщения информ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219560" y="1857240"/>
            <a:ext cx="381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иги формируют самообразовательные навы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щившись к чтению, ребёнок освобождается от зависимости и опеки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ёнок знает, какой бы вопрос не возник, ответ можно найти в волшебнице-книге, которая мудрее все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хема 3" descr=""/>
          <p:cNvPicPr/>
          <p:nvPr/>
        </p:nvPicPr>
        <p:blipFill>
          <a:blip r:embed="rId1"/>
          <a:stretch/>
        </p:blipFill>
        <p:spPr>
          <a:xfrm>
            <a:off x="841320" y="2279520"/>
            <a:ext cx="61326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Голодному не надо давать рыбу. Он ее скушает за день. Надо ему дать удочку и научить его ловить рыбу и тогда он сможет ловить ее каждый день и перестанет быть голодным». (Древняя китайская мудрос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буждает к нравственным поступ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знь, окружающая действительность не всегда «изобилует» уроками высокой нравственности. И вера в доброе, светлое, поддерживается образами любимых героев, на которых хочется походить, поступки которых восхищ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нига – ценный источник знаний о нормах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929120" y="1785960"/>
            <a:ext cx="3500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воспитать книгоче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 каждого своя высота, и то, что для одного – обычное дело, для другого – рекорд и подви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всё получается с первых попыток, причина неудачи может корениться не в идее, а в её реализ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учше не заставлять, а показывать приме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жде, чем сдаваться, попробуй победи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одитель сделает – ребёнок повтори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т своих идей – посоветуйся с сосед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блемы наших детей – продолжение наших проблем, только они более замет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сли мы прощаем себе лень, ошибки, то и к детям нужно быть снисходительны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имся читать рационально и осмысл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Пословиц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Антоним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Вставка бук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Слова на тем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Составьте пословиц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Мини-бестселле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«Лабирин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и кни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нига – носитель и хранитель национального наследия, воспитатель духовности, «противовес» многим негативным процессам в окружающем ребёнка ми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йте сами, читаёте вместе с детьми и вы одухотворите свою жизнь прекрасными образ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путь нелёгок, но он прекрасен, поскольку ведёт к вершинам нравственности и понимания высокого предназначения Человека в этом мир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ttp://www.president-school.ru/files/picter_rassilka/img422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ttp://im2-tub-ru.yandex.net/i?id=238048497-59-72&amp;n=2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urokirus.com/online/images/stories/fedorov.jp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s020.radikal.ru/i707/1212/eb/37de9e38add4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expositions.nlr.ru/ABC/images/5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ebhp.ksu.ks.ua/joomla/person/Ushinsky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ttp://nashaucheba.ru/docs/23/22524/conv_1/file1_html_4225b47e.p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ttp://im2-tub-ru.yandex.net/i?id=310068641-63-72&amp;n=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. Сухомлинский в период исследования причин умственной отсталости школьников заметил, что если в младших классах дети мало уделяли времени процессу чтения и обработки полученной информации, то у них складывалась структура малодеятельности мозг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003640" y="1600200"/>
            <a:ext cx="332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3" descr="http://www.president-school.ru/files/picter_rassilka/img422.jpg"/>
          <p:cNvPicPr/>
          <p:nvPr/>
        </p:nvPicPr>
        <p:blipFill>
          <a:blip r:embed="rId1"/>
          <a:stretch/>
        </p:blipFill>
        <p:spPr>
          <a:xfrm>
            <a:off x="928800" y="1000080"/>
            <a:ext cx="75722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C:\Documents and Settings\СОШ №2 к. биологии\Мои документы\Мои рисунки\фоны\GE089_72A.jpg"/>
          <p:cNvPicPr/>
          <p:nvPr/>
        </p:nvPicPr>
        <p:blipFill>
          <a:blip r:embed="rId1"/>
          <a:stretch/>
        </p:blipFill>
        <p:spPr>
          <a:xfrm>
            <a:off x="785880" y="588960"/>
            <a:ext cx="7691400" cy="5769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f5e3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00"/>
              </a:solidFill>
              <a:latin typeface="Calibri"/>
            </a:endParaRPr>
          </a:p>
        </p:txBody>
      </p:sp>
      <p:pic>
        <p:nvPicPr>
          <p:cNvPr id="103" name="Picture 4" descr="91263"/>
          <p:cNvPicPr/>
          <p:nvPr/>
        </p:nvPicPr>
        <p:blipFill>
          <a:blip r:embed="rId2"/>
          <a:stretch/>
        </p:blipFill>
        <p:spPr>
          <a:xfrm>
            <a:off x="0" y="357120"/>
            <a:ext cx="8858160" cy="5929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92149"/>
          <p:cNvPicPr/>
          <p:nvPr/>
        </p:nvPicPr>
        <p:blipFill>
          <a:blip r:embed="rId3"/>
          <a:stretch/>
        </p:blipFill>
        <p:spPr>
          <a:xfrm>
            <a:off x="5778360" y="-365040"/>
            <a:ext cx="3657600" cy="4638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77910"/>
          <p:cNvPicPr/>
          <p:nvPr/>
        </p:nvPicPr>
        <p:blipFill>
          <a:blip r:embed="rId4"/>
          <a:stretch/>
        </p:blipFill>
        <p:spPr>
          <a:xfrm>
            <a:off x="1671480" y="1785960"/>
            <a:ext cx="5926320" cy="3929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age1136"/>
          <p:cNvPicPr/>
          <p:nvPr/>
        </p:nvPicPr>
        <p:blipFill>
          <a:blip r:embed="rId5"/>
          <a:stretch/>
        </p:blipFill>
        <p:spPr>
          <a:xfrm>
            <a:off x="-6480" y="4206960"/>
            <a:ext cx="2365560" cy="265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689"/>
          <p:cNvPicPr/>
          <p:nvPr/>
        </p:nvPicPr>
        <p:blipFill>
          <a:blip r:embed="rId6"/>
          <a:stretch/>
        </p:blipFill>
        <p:spPr>
          <a:xfrm>
            <a:off x="357120" y="214200"/>
            <a:ext cx="38530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C:\Documents and Settings\СОШ №2 к. биологии\Мои документы\Мои рисунки\фоны\GE089_72A.jpg"/>
          <p:cNvPicPr/>
          <p:nvPr/>
        </p:nvPicPr>
        <p:blipFill>
          <a:blip r:embed="rId1"/>
          <a:stretch/>
        </p:blipFill>
        <p:spPr>
          <a:xfrm>
            <a:off x="571680" y="463680"/>
            <a:ext cx="7858080" cy="589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Рисунок1"/>
          <p:cNvPicPr/>
          <p:nvPr/>
        </p:nvPicPr>
        <p:blipFill>
          <a:blip r:embed="rId2"/>
          <a:stretch/>
        </p:blipFill>
        <p:spPr>
          <a:xfrm>
            <a:off x="214200" y="285840"/>
            <a:ext cx="1530360" cy="1595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b253494"/>
          <p:cNvPicPr/>
          <p:nvPr/>
        </p:nvPicPr>
        <p:blipFill>
          <a:blip r:embed="rId3"/>
          <a:stretch/>
        </p:blipFill>
        <p:spPr>
          <a:xfrm>
            <a:off x="5619600" y="792000"/>
            <a:ext cx="1390680" cy="4346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thumb_56557"/>
          <p:cNvPicPr/>
          <p:nvPr/>
        </p:nvPicPr>
        <p:blipFill>
          <a:blip r:embed="rId4"/>
          <a:stretch/>
        </p:blipFill>
        <p:spPr>
          <a:xfrm>
            <a:off x="4175280" y="390600"/>
            <a:ext cx="1062000" cy="352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1000264302"/>
          <p:cNvPicPr/>
          <p:nvPr/>
        </p:nvPicPr>
        <p:blipFill>
          <a:blip r:embed="rId5"/>
          <a:stretch/>
        </p:blipFill>
        <p:spPr>
          <a:xfrm>
            <a:off x="407880" y="2646360"/>
            <a:ext cx="1390680" cy="394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103513-Krokodil_Gena"/>
          <p:cNvPicPr/>
          <p:nvPr/>
        </p:nvPicPr>
        <p:blipFill>
          <a:blip r:embed="rId6"/>
          <a:stretch/>
        </p:blipFill>
        <p:spPr>
          <a:xfrm>
            <a:off x="7364520" y="2292480"/>
            <a:ext cx="1139760" cy="3773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eduard_uspenskij--dyadya_fedor__pes_i_kot"/>
          <p:cNvPicPr/>
          <p:nvPr/>
        </p:nvPicPr>
        <p:blipFill>
          <a:blip r:embed="rId7"/>
          <a:stretch/>
        </p:blipFill>
        <p:spPr>
          <a:xfrm>
            <a:off x="5419800" y="3645000"/>
            <a:ext cx="1493640" cy="4760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1000505498"/>
          <p:cNvPicPr/>
          <p:nvPr/>
        </p:nvPicPr>
        <p:blipFill>
          <a:blip r:embed="rId8"/>
          <a:stretch/>
        </p:blipFill>
        <p:spPr>
          <a:xfrm>
            <a:off x="2109960" y="201600"/>
            <a:ext cx="1535040" cy="5108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Club_93637"/>
          <p:cNvPicPr/>
          <p:nvPr/>
        </p:nvPicPr>
        <p:blipFill>
          <a:blip r:embed="rId9"/>
          <a:stretch/>
        </p:blipFill>
        <p:spPr>
          <a:xfrm>
            <a:off x="1785960" y="4048200"/>
            <a:ext cx="1712880" cy="387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solnce"/>
          <p:cNvPicPr/>
          <p:nvPr/>
        </p:nvPicPr>
        <p:blipFill>
          <a:blip r:embed="rId10"/>
          <a:stretch/>
        </p:blipFill>
        <p:spPr>
          <a:xfrm>
            <a:off x="7272360" y="-66600"/>
            <a:ext cx="1390680" cy="434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107800"/>
          <p:cNvPicPr/>
          <p:nvPr/>
        </p:nvPicPr>
        <p:blipFill>
          <a:blip r:embed="rId11"/>
          <a:stretch/>
        </p:blipFill>
        <p:spPr>
          <a:xfrm>
            <a:off x="7223040" y="4359240"/>
            <a:ext cx="1560600" cy="448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7" descr="41325"/>
          <p:cNvPicPr/>
          <p:nvPr/>
        </p:nvPicPr>
        <p:blipFill>
          <a:blip r:embed="rId12"/>
          <a:stretch/>
        </p:blipFill>
        <p:spPr>
          <a:xfrm>
            <a:off x="3833640" y="4578480"/>
            <a:ext cx="1281240" cy="370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book3"/>
          <p:cNvPicPr/>
          <p:nvPr/>
        </p:nvPicPr>
        <p:blipFill>
          <a:blip r:embed="rId13"/>
          <a:stretch/>
        </p:blipFill>
        <p:spPr>
          <a:xfrm>
            <a:off x="3693960" y="2365200"/>
            <a:ext cx="132264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чтении языком статис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еловек воспринимает глазами 20%  информации, из них 70% - посредством чт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1980 году объём информации удваивался  каждые 5-7 лет, к 1990 году удвоение происходило ежегод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2013 году объём информации по сравнению с 1990 годом возрастёт в 4 раза, к 2040 году – в 32 раз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тверждается , что наш современник, для того, чтобы быть в курсе научных новостей, в год должен прочитывать столько, сколько раньше он прочитывал за всю жизн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5% людей читают очень медленно 180-200 слов  в минуту (1 страницу за 1,5-2 минуты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едняя скорость чтения старшеклассников – 90-100 слов в минуту, студентов – 120-180, специалистов с высшим образованием – 200- 250 (степень усвоения при этом колеблется в пределах 20-60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за человека со средними навыками чтения делают на одной книжной странице 12-16 останов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традиционно читающего человека объём одномоментной фиксации  составляет 10 печатных знаков – 1,5-2 слова  одной стро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трясающе быстро читали Ж.Ж.Руссо, А.С.Пушкин, Наполеон, О.де Бальзак, Н.Г.Чернышевский, Л.Н.Толстой, В.И.Ленин, М.Горький, А.Энштейн, А.В.Луначарск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полеон читал со скоростью 2 тыс. слов в мину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. де Бальзак прочитывал роман в двести страниц за полчас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.Горький читал со скоростью 4 тыс. слов в мину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светитель Н.А.Рубакин в течение жизни прочитал более  200 тыс. книг (по 2 750 в год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8:10:34Z</dcterms:created>
  <dc:creator>Лена</dc:creator>
  <dc:description/>
  <dc:language>en-US</dc:language>
  <cp:lastModifiedBy>Егор</cp:lastModifiedBy>
  <dcterms:modified xsi:type="dcterms:W3CDTF">2018-01-28T15:49:27Z</dcterms:modified>
  <cp:revision>39</cp:revision>
  <dc:subject/>
  <dc:title>Семейное чтение</dc:title>
</cp:coreProperties>
</file>