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0.png" ContentType="image/png"/>
  <Override PartName="/ppt/media/image20.png" ContentType="image/png"/>
  <Override PartName="/ppt/media/image28.png" ContentType="image/png"/>
  <Override PartName="/ppt/media/image7.jpeg" ContentType="image/jpeg"/>
  <Override PartName="/ppt/media/image31.wmf" ContentType="image/x-wmf"/>
  <Override PartName="/ppt/media/image11.png" ContentType="image/png"/>
  <Override PartName="/ppt/media/image9.png" ContentType="image/png"/>
  <Override PartName="/ppt/media/image12.png" ContentType="image/png"/>
  <Override PartName="/ppt/media/image33.wmf" ContentType="image/x-wmf"/>
  <Override PartName="/ppt/media/image13.png" ContentType="image/png"/>
  <Override PartName="/ppt/media/image5.png" ContentType="image/png"/>
  <Override PartName="/ppt/media/image35.png" ContentType="image/png"/>
  <Override PartName="/ppt/media/image34.wmf" ContentType="image/x-wmf"/>
  <Override PartName="/ppt/media/image10.jpeg" ContentType="image/jpeg"/>
  <Override PartName="/ppt/media/image14.png" ContentType="image/png"/>
  <Override PartName="/ppt/media/image36.wmf" ContentType="image/x-wmf"/>
  <Override PartName="/ppt/media/image16.png" ContentType="image/png"/>
  <Override PartName="/ppt/media/image8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5.png" ContentType="image/png"/>
  <Override PartName="/ppt/media/image32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2A32-396A-4FA6-8775-79E3EB8D5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B3C1-E2C5-438B-A057-CC40CADB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C3CC-D616-4765-8B7F-DFE681753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7721-8680-4F82-A94E-E8699E953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18222-FD5D-4166-AB67-E85CD9F56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27C3D-057D-4862-B596-80E50DCC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F2E4-3289-47A4-98A5-007DCED7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42E9-BB81-4D97-9DC5-9DF50889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070B-F0D5-49A1-895A-CB08F99F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B4B8-761B-4F61-B069-715A0B36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04A8C-9B0A-48A3-802E-9809E768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DD04-1768-41A3-BF03-FE542201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805A-4261-4F65-ABB5-C4A875C8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8A2D-8ECB-4130-AEA2-4830C9A2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EA32-46D7-4A68-9C00-5258A496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85FE-CC5B-445B-9FA5-6D19D11DC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2F56C-8525-4817-9616-7CE8C44FA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D38C-41F1-42D1-8950-1CC15AB9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00CB-941D-44A1-B830-E498CE0E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A96E-5FC2-4875-BCA8-2F4308AE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61C8-E4D3-45F9-93F7-72315B79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395F-28A9-484B-8ECF-79F1FD51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2222-4564-4619-88A1-ECC87F6B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3EC1-46C6-42BA-97F6-BEE52953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1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4870-3B1E-41AC-A06C-3ED3B4D2CF5B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46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0" descr="a_e2d893b5.jpg"/>
          <p:cNvPicPr/>
          <p:nvPr/>
        </p:nvPicPr>
        <p:blipFill>
          <a:blip r:embed="rId5"/>
          <a:stretch/>
        </p:blipFill>
        <p:spPr>
          <a:xfrm>
            <a:off x="142920" y="142920"/>
            <a:ext cx="1428840" cy="1896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938640" y="6500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54B5-B0E1-481A-BB2F-1585FEEF0A37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5e3c"/>
                </a:solidFill>
                <a:latin typeface="Calibri"/>
              </a:rPr>
              <a:t>Родительское собрание на тему: «Чтение – это важн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857760" y="4571640"/>
            <a:ext cx="39146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alibri"/>
              </a:rPr>
              <a:t>Тойгильдина Галина Васильев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alibri"/>
              </a:rPr>
              <a:t>учитель начальных классо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3300"/>
                </a:solidFill>
                <a:latin typeface="Calibri"/>
              </a:rPr>
              <a:t>МБОУ «СОШ№24 г. Йошкар-Олы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. Гёте: «Добрые люди и не подозревают, каких трудов и времени стоит научиться читать. Я сам на это употребил 80 лет и всё не могу сказать, что достиг цел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.Амосов: «Для человеческого организма благоприятен только режим напряжения. Силы при напряжении возрастают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ван Фёдоров «Азбу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Содержимое 4" descr="http://urokirus.com/online/images/stories/fedorov.jpg"/>
          <p:cNvPicPr/>
          <p:nvPr/>
        </p:nvPicPr>
        <p:blipFill>
          <a:blip r:embed="rId1"/>
          <a:stretch/>
        </p:blipFill>
        <p:spPr>
          <a:xfrm>
            <a:off x="826920" y="1600200"/>
            <a:ext cx="3299040" cy="4525920"/>
          </a:xfrm>
          <a:prstGeom prst="rect">
            <a:avLst/>
          </a:prstGeom>
          <a:ln w="0">
            <a:noFill/>
          </a:ln>
        </p:spPr>
      </p:pic>
      <p:pic>
        <p:nvPicPr>
          <p:cNvPr id="132" name="Содержимое 5" descr="http://expositions.nlr.ru/ABC/images/5.jpg"/>
          <p:cNvPicPr/>
          <p:nvPr/>
        </p:nvPicPr>
        <p:blipFill>
          <a:blip r:embed="rId2"/>
          <a:stretch/>
        </p:blipFill>
        <p:spPr>
          <a:xfrm>
            <a:off x="5202360" y="1600200"/>
            <a:ext cx="2930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.Ф. Бурцев «Букварь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Содержимое 4" descr="http://im2-tub-ru.yandex.net/i?id=310068641-63-72&amp;n=21"/>
          <p:cNvPicPr/>
          <p:nvPr/>
        </p:nvPicPr>
        <p:blipFill>
          <a:blip r:embed="rId1"/>
          <a:stretch/>
        </p:blipFill>
        <p:spPr>
          <a:xfrm>
            <a:off x="2500200" y="2357280"/>
            <a:ext cx="42865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.Д. Ушинский «Детский мир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Содержимое 7" descr="http://webhp.ksu.ks.ua/joomla/person/Ushinsky.gif"/>
          <p:cNvPicPr/>
          <p:nvPr/>
        </p:nvPicPr>
        <p:blipFill>
          <a:blip r:embed="rId1"/>
          <a:stretch/>
        </p:blipFill>
        <p:spPr>
          <a:xfrm>
            <a:off x="1143000" y="1714680"/>
            <a:ext cx="3071880" cy="4143240"/>
          </a:xfrm>
          <a:prstGeom prst="rect">
            <a:avLst/>
          </a:prstGeom>
          <a:ln w="0">
            <a:noFill/>
          </a:ln>
        </p:spPr>
      </p:pic>
      <p:pic>
        <p:nvPicPr>
          <p:cNvPr id="137" name="Содержимое 9" descr="http://nashaucheba.ru/docs/23/22524/conv_1/file1_html_4225b47e.png"/>
          <p:cNvPicPr/>
          <p:nvPr/>
        </p:nvPicPr>
        <p:blipFill>
          <a:blip r:embed="rId2"/>
          <a:stretch/>
        </p:blipFill>
        <p:spPr>
          <a:xfrm>
            <a:off x="4846680" y="1600200"/>
            <a:ext cx="3641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ение – это важ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Содержимое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нига будит эмо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2071800" y="1785960"/>
            <a:ext cx="412596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изиолог И. Пав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.П.Павлов утверждал, что эмоции являются для человека своеобразным и весьма сильным энергетическим источником. Читая книгу, ребёнок радуется, переживает, удивляется, сострадает, и всё это – эмоции, они нуж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ли нет положительных «зарядов», легко могут пойти в ход и отрицательные. Наступает эмоциональный «голод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Содержимое 4" descr="http://s020.radikal.ru/i707/1212/eb/37de9e38add4.jpg"/>
          <p:cNvPicPr/>
          <p:nvPr/>
        </p:nvPicPr>
        <p:blipFill>
          <a:blip r:embed="rId1"/>
          <a:stretch/>
        </p:blipFill>
        <p:spPr>
          <a:xfrm>
            <a:off x="722160" y="1600200"/>
            <a:ext cx="3508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ение повышает интеллек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ребёнок систематически не читает, то он упускает около 14% доступной ему информ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ение сегодня – способ соответствовать времени, его скоростям и жёстким требования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5357880" y="1549440"/>
            <a:ext cx="321480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ение помогает в учёб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Хорошо читающий ребёнок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ыстро улавливает смысл прочитанного, выделяет главное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учше отвечает на вопросы по прочитанному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меет большую орфографическую «зоркость»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ладает большим объёмом информации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учше ориентируется во всех предметах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меет навыки поиска и обобщения информац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4219560" y="1857240"/>
            <a:ext cx="38178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ниги формируют самообразовательные навы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общившись к чтению, ребёнок освобождается от зависимости и опеки взрослы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бёнок знает, какой бы вопрос не возник, ответ можно найти в волшебнице-книге, которая мудрее все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Схема 3" descr=""/>
          <p:cNvPicPr/>
          <p:nvPr/>
        </p:nvPicPr>
        <p:blipFill>
          <a:blip r:embed="rId1"/>
          <a:stretch/>
        </p:blipFill>
        <p:spPr>
          <a:xfrm>
            <a:off x="841320" y="2279520"/>
            <a:ext cx="6132600" cy="29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Голодному не надо давать рыбу. Он ее скушает за день. Надо ему дать удочку и научить его ловить рыбу и тогда он сможет ловить ее каждый день и перестанет быть голодным». (Древняя китайская мудрость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ение побуждает к нравственным поступк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изнь, окружающая действительность не всегда «изобилует» уроками высокой нравственности. И вера в доброе, светлое, поддерживается образами любимых героев, на которых хочется походить, поступки которых восхищаю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нига – ценный источник знаний о нормах повед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4929120" y="1785960"/>
            <a:ext cx="350064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 воспитать книгоче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 каждого своя высота, и то, что для одного – обычное дело, для другого – рекорд и подвиг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 всё получается с первых попыток, причина неудачи может корениться не в идее, а в её реализаци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Лучше не заставлять, а показывать пример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ежде, чем сдаваться, попробуй победить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одитель сделает – ребёнок повторит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т своих идей – посоветуйся с соседом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облемы наших детей – продолжение наших проблем, только они более заметн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Если мы прощаем себе лень, ошибки, то и к детям нужно быть снисходительным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чимся читать рационально и осмыслен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пражнение «Пословиц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пражнение «Антоним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пражнение «Вставка букв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пражнение «Слова на тему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пражнение «Составьте пословицу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пражнение «Мини-бестселлер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пражнение «Лабиринт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ение и кни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нига – носитель и хранитель национального наследия, воспитатель духовности, «противовес» многим негативным процессам в окружающем ребёнка мир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итайте сами, читаёте вместе с детьми и вы одухотворите свою жизнь прекрасными образа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т путь нелёгок, но он прекрасен, поскольку ведёт к вершинам нравственности и понимания высокого предназначения Человека в этом мир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сурс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http://www.president-school.ru/files/picter_rassilka/img422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http://im2-tub-ru.yandex.net/i?id=238048497-59-72&amp;n=21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http://urokirus.com/online/images/stories/fedorov.jp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http://s020.radikal.ru/i707/1212/eb/37de9e38add4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http://expositions.nlr.ru/ABC/images/5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webhp.ksu.ks.ua/joomla/person/Ushinsky.gi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http://nashaucheba.ru/docs/23/22524/conv_1/file1_html_4225b47e.p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http://im2-tub-ru.yandex.net/i?id=310068641-63-72&amp;n=2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. Сухомлинский в период исследования причин умственной отсталости школьников заметил, что если в младших классах дети мало уделяли времени процессу чтения и обработки полученной информации, то у них складывалась структура малодеятельности мозг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5003640" y="1600200"/>
            <a:ext cx="3327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Содержимое 3" descr="http://www.president-school.ru/files/picter_rassilka/img422.jpg"/>
          <p:cNvPicPr/>
          <p:nvPr/>
        </p:nvPicPr>
        <p:blipFill>
          <a:blip r:embed="rId1"/>
          <a:stretch/>
        </p:blipFill>
        <p:spPr>
          <a:xfrm>
            <a:off x="928800" y="1000080"/>
            <a:ext cx="757224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9" descr="C:\Documents and Settings\СОШ №2 к. биологии\Мои документы\Мои рисунки\фоны\GE089_72A.jpg"/>
          <p:cNvPicPr/>
          <p:nvPr/>
        </p:nvPicPr>
        <p:blipFill>
          <a:blip r:embed="rId1"/>
          <a:stretch/>
        </p:blipFill>
        <p:spPr>
          <a:xfrm>
            <a:off x="785880" y="588960"/>
            <a:ext cx="7691400" cy="5769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f5e3c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00"/>
              </a:solidFill>
              <a:latin typeface="Calibri"/>
            </a:endParaRPr>
          </a:p>
        </p:txBody>
      </p:sp>
      <p:pic>
        <p:nvPicPr>
          <p:cNvPr id="103" name="Picture 4" descr="91263"/>
          <p:cNvPicPr/>
          <p:nvPr/>
        </p:nvPicPr>
        <p:blipFill>
          <a:blip r:embed="rId2"/>
          <a:stretch/>
        </p:blipFill>
        <p:spPr>
          <a:xfrm>
            <a:off x="0" y="357120"/>
            <a:ext cx="8858160" cy="5929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92149"/>
          <p:cNvPicPr/>
          <p:nvPr/>
        </p:nvPicPr>
        <p:blipFill>
          <a:blip r:embed="rId3"/>
          <a:stretch/>
        </p:blipFill>
        <p:spPr>
          <a:xfrm>
            <a:off x="5778360" y="-365040"/>
            <a:ext cx="3657600" cy="4638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77910"/>
          <p:cNvPicPr/>
          <p:nvPr/>
        </p:nvPicPr>
        <p:blipFill>
          <a:blip r:embed="rId4"/>
          <a:stretch/>
        </p:blipFill>
        <p:spPr>
          <a:xfrm>
            <a:off x="1671480" y="1785960"/>
            <a:ext cx="5926320" cy="3929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image1136"/>
          <p:cNvPicPr/>
          <p:nvPr/>
        </p:nvPicPr>
        <p:blipFill>
          <a:blip r:embed="rId5"/>
          <a:stretch/>
        </p:blipFill>
        <p:spPr>
          <a:xfrm>
            <a:off x="-6480" y="4206960"/>
            <a:ext cx="2365560" cy="2657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689"/>
          <p:cNvPicPr/>
          <p:nvPr/>
        </p:nvPicPr>
        <p:blipFill>
          <a:blip r:embed="rId6"/>
          <a:stretch/>
        </p:blipFill>
        <p:spPr>
          <a:xfrm>
            <a:off x="357120" y="214200"/>
            <a:ext cx="385308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9" descr="C:\Documents and Settings\СОШ №2 к. биологии\Мои документы\Мои рисунки\фоны\GE089_72A.jpg"/>
          <p:cNvPicPr/>
          <p:nvPr/>
        </p:nvPicPr>
        <p:blipFill>
          <a:blip r:embed="rId1"/>
          <a:stretch/>
        </p:blipFill>
        <p:spPr>
          <a:xfrm>
            <a:off x="571680" y="463680"/>
            <a:ext cx="7858080" cy="5894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0" descr="Рисунок1"/>
          <p:cNvPicPr/>
          <p:nvPr/>
        </p:nvPicPr>
        <p:blipFill>
          <a:blip r:embed="rId2"/>
          <a:stretch/>
        </p:blipFill>
        <p:spPr>
          <a:xfrm>
            <a:off x="214200" y="285840"/>
            <a:ext cx="1530360" cy="15955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5" descr="b253494"/>
          <p:cNvPicPr/>
          <p:nvPr/>
        </p:nvPicPr>
        <p:blipFill>
          <a:blip r:embed="rId3"/>
          <a:stretch/>
        </p:blipFill>
        <p:spPr>
          <a:xfrm>
            <a:off x="5619600" y="792000"/>
            <a:ext cx="1390680" cy="4346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thumb_56557"/>
          <p:cNvPicPr/>
          <p:nvPr/>
        </p:nvPicPr>
        <p:blipFill>
          <a:blip r:embed="rId4"/>
          <a:stretch/>
        </p:blipFill>
        <p:spPr>
          <a:xfrm>
            <a:off x="4175280" y="390600"/>
            <a:ext cx="1062000" cy="3529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1000264302"/>
          <p:cNvPicPr/>
          <p:nvPr/>
        </p:nvPicPr>
        <p:blipFill>
          <a:blip r:embed="rId5"/>
          <a:stretch/>
        </p:blipFill>
        <p:spPr>
          <a:xfrm>
            <a:off x="407880" y="2646360"/>
            <a:ext cx="1390680" cy="3943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103513-Krokodil_Gena"/>
          <p:cNvPicPr/>
          <p:nvPr/>
        </p:nvPicPr>
        <p:blipFill>
          <a:blip r:embed="rId6"/>
          <a:stretch/>
        </p:blipFill>
        <p:spPr>
          <a:xfrm>
            <a:off x="7364520" y="2292480"/>
            <a:ext cx="1139760" cy="3773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eduard_uspenskij--dyadya_fedor__pes_i_kot"/>
          <p:cNvPicPr/>
          <p:nvPr/>
        </p:nvPicPr>
        <p:blipFill>
          <a:blip r:embed="rId7"/>
          <a:stretch/>
        </p:blipFill>
        <p:spPr>
          <a:xfrm>
            <a:off x="5419800" y="3645000"/>
            <a:ext cx="1493640" cy="4760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5" descr="1000505498"/>
          <p:cNvPicPr/>
          <p:nvPr/>
        </p:nvPicPr>
        <p:blipFill>
          <a:blip r:embed="rId8"/>
          <a:stretch/>
        </p:blipFill>
        <p:spPr>
          <a:xfrm>
            <a:off x="2109960" y="201600"/>
            <a:ext cx="1535040" cy="51087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7" descr="Club_93637"/>
          <p:cNvPicPr/>
          <p:nvPr/>
        </p:nvPicPr>
        <p:blipFill>
          <a:blip r:embed="rId9"/>
          <a:stretch/>
        </p:blipFill>
        <p:spPr>
          <a:xfrm>
            <a:off x="1785960" y="4048200"/>
            <a:ext cx="1712880" cy="3870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3" descr="solnce"/>
          <p:cNvPicPr/>
          <p:nvPr/>
        </p:nvPicPr>
        <p:blipFill>
          <a:blip r:embed="rId10"/>
          <a:stretch/>
        </p:blipFill>
        <p:spPr>
          <a:xfrm>
            <a:off x="7272360" y="-66600"/>
            <a:ext cx="1390680" cy="4346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5" descr="107800"/>
          <p:cNvPicPr/>
          <p:nvPr/>
        </p:nvPicPr>
        <p:blipFill>
          <a:blip r:embed="rId11"/>
          <a:stretch/>
        </p:blipFill>
        <p:spPr>
          <a:xfrm>
            <a:off x="7223040" y="4359240"/>
            <a:ext cx="1560600" cy="4486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7" descr="41325"/>
          <p:cNvPicPr/>
          <p:nvPr/>
        </p:nvPicPr>
        <p:blipFill>
          <a:blip r:embed="rId12"/>
          <a:stretch/>
        </p:blipFill>
        <p:spPr>
          <a:xfrm>
            <a:off x="3833640" y="4578480"/>
            <a:ext cx="1281240" cy="3700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9" descr="book3"/>
          <p:cNvPicPr/>
          <p:nvPr/>
        </p:nvPicPr>
        <p:blipFill>
          <a:blip r:embed="rId13"/>
          <a:stretch/>
        </p:blipFill>
        <p:spPr>
          <a:xfrm>
            <a:off x="3693960" y="2365200"/>
            <a:ext cx="1322640" cy="40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 чтении языком статист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Человек воспринимает глазами 20%  информации, из них 70% - посредством чтени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 1980 году объём информации удваивался  каждые 5-7 лет, к 1990 году удвоение происходило ежегодно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 2013 году объём информации по сравнению с 1990 годом возрастёт в 4 раза, к 2040 году – в 32 раз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тверждается , что наш современник, для того, чтобы быть в курсе научных новостей, в год должен прочитывать столько, сколько раньше он прочитывал за всю жизнь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95% людей читают очень медленно 180-200 слов  в минуту (1 страницу за 1,5-2 минуты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редняя скорость чтения старшеклассников – 90-100 слов в минуту, студентов – 120-180, специалистов с высшим образованием – 200- 250 (степень усвоения при этом колеблется в пределах 20-60%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лаза человека со средними навыками чтения делают на одной книжной странице 12-16 остановок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 традиционно читающего человека объём одномоментной фиксации  составляет 10 печатных знаков – 1,5-2 слова  одной строк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трясающе быстро читали Ж.Ж.Руссо, А.С.Пушкин, Наполеон, О.де Бальзак, Н.Г.Чернышевский, Л.Н.Толстой, В.И.Ленин, М.Горький, А.Энштейн, А.В.Луначарски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полеон читал со скоростью 2 тыс. слов в минут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. де Бальзак прочитывал роман в двести страниц за полчас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.Горький читал со скоростью 4 тыс. слов в минут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светитель Н.А.Рубакин в течение жизни прочитал более  200 тыс. книг (по 2 750 в год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08:10:34Z</dcterms:created>
  <dc:creator>Лена</dc:creator>
  <dc:description/>
  <dc:language>en-US</dc:language>
  <cp:lastModifiedBy>Егор</cp:lastModifiedBy>
  <dcterms:modified xsi:type="dcterms:W3CDTF">2018-01-28T15:49:27Z</dcterms:modified>
  <cp:revision>39</cp:revision>
  <dc:subject/>
  <dc:title>Семейное чтение</dc:title>
</cp:coreProperties>
</file>