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79E1E-D917-4F41-AE64-D7243301B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169BB-3F74-4977-9AD7-4066D4CDA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2E91B-F89D-40B0-9568-E9D5E34FC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3F304-CB72-482A-B4A8-24FE7F4DF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C5D4B-632B-4BF4-840A-EEBE2C9CB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2B171-937B-4056-87CD-59FA68AE3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A22E4-B66E-4C19-B9E7-49D8A9267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C4C67-AF4B-439F-9268-E6E3A2342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CF8A0-FAEE-4EBB-A917-277622B98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A420B-7FD6-4074-9F0C-0CE1C6E26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CDB3B-1149-45AA-8A2E-8A563B889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95CCC-81E8-4B1E-B90E-32000BD35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33E82-C7BE-49AB-99F5-D9E73851F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8A96A-7CD1-42D5-A191-0CF4B18A3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66B74-7840-40A4-8901-107A1E157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D87F6-7280-4D47-9B92-39C4329DA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9855C-E1B1-4152-9A9A-9A7F38CEF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6A487-14C5-4E95-9D0C-375F3983C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B3DEF-517D-4CF8-A247-B2461B9C9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249EF-117E-43D1-BB48-605F855E2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1EF91-D8BE-4184-8C4E-710A90515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3D49C-5AD5-4211-96AC-B2F2644B4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9C8BD-82C0-476B-9DF8-2609032B8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AFFA7-3023-4F73-9125-CC6DAA8F7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EA084-9191-4472-952D-043B4F24CB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6" name="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62120" y="1709640"/>
              <a:ext cx="7696080" cy="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1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i="1" lang="en-US" sz="41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857640" y="639144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DC231-B5F1-4120-B238-3008180A09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2133360" y="4038480"/>
            <a:ext cx="701028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4859280" y="1773360"/>
            <a:ext cx="3384720" cy="22320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4859280" y="4000680"/>
            <a:ext cx="3384720" cy="19429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611280" y="1773360"/>
            <a:ext cx="4248000" cy="417672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250920" y="549360"/>
            <a:ext cx="7800840" cy="102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      </a:t>
            </a:r>
            <a:r>
              <a:rPr b="1" i="1" lang="en-US" sz="1800" spc="1" strike="noStrike">
                <a:ln w="0">
                  <a:noFill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Весна.  </a:t>
            </a:r>
            <a:endParaRPr b="1" i="1" lang="en-US" sz="1800" spc="1" strike="noStrike">
              <a:ln w="0">
                <a:noFill/>
              </a:ln>
              <a:solidFill>
                <a:srgbClr val="008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Пробуждение   природы </a:t>
            </a:r>
            <a:endParaRPr b="1" i="1" lang="en-US" sz="1800" spc="1" strike="noStrike">
              <a:ln w="0">
                <a:noFill/>
              </a:ln>
              <a:solidFill>
                <a:srgbClr val="008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advTm="6000"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1384200" y="6237360"/>
            <a:ext cx="39038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олодые побеги елоч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split dir="in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6381720"/>
            <a:ext cx="91440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есна вступает в свои права . Уж скоро с крыши потеч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7000">
    <p:split dir="out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79280" y="333360"/>
            <a:ext cx="8785440" cy="597528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879480" y="5583240"/>
            <a:ext cx="184320" cy="39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55640" y="5516640"/>
            <a:ext cx="806436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3300"/>
                </a:solidFill>
                <a:latin typeface="Arial"/>
              </a:rPr>
              <a:t>Этот желудь весной решил стать дубом. Появился первый росто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wheel spokes="1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7" name=""/>
          <p:cNvSpPr/>
          <p:nvPr/>
        </p:nvSpPr>
        <p:spPr>
          <a:xfrm>
            <a:off x="2050920" y="476280"/>
            <a:ext cx="6337440" cy="511488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195640" y="5805360"/>
            <a:ext cx="360036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Набухают почки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000">
    <p:cover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79280" y="6237360"/>
            <a:ext cx="5688000" cy="459720"/>
          </a:xfrm>
          <a:prstGeom prst="rect">
            <a:avLst/>
          </a:prstGeom>
          <a:solidFill>
            <a:srgbClr val="7267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Словно капельки весеннего солнц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cover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4000" y="6237360"/>
            <a:ext cx="55800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чки начинают раскрываться и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06560" y="6165720"/>
            <a:ext cx="63817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являются вот такие первые листочки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000"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9" name=""/>
          <p:cNvSpPr/>
          <p:nvPr/>
        </p:nvSpPr>
        <p:spPr>
          <a:xfrm>
            <a:off x="25560" y="0"/>
            <a:ext cx="911844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700360" y="6237360"/>
            <a:ext cx="61545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 вот такие первые листочк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push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-1080" y="6165720"/>
            <a:ext cx="89179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Первые молодые зеленые листочки- разве это не чудо?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circl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45" name=""/>
          <p:cNvSpPr/>
          <p:nvPr/>
        </p:nvSpPr>
        <p:spPr>
          <a:xfrm>
            <a:off x="108000" y="0"/>
            <a:ext cx="957564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484720" y="6308640"/>
            <a:ext cx="68284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Arial"/>
              </a:rPr>
              <a:t>А вскоре распускаются и первые цветочк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diamond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3" name=""/>
          <p:cNvSpPr/>
          <p:nvPr/>
        </p:nvSpPr>
        <p:spPr>
          <a:xfrm>
            <a:off x="0" y="18900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06920" y="6093000"/>
            <a:ext cx="70966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чало весны. Март месяц очень капризный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strips dir="l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68360" y="5877000"/>
            <a:ext cx="49482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Это весенний цветок первоцв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000">
    <p:wheel spokes="2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95280" y="6093000"/>
            <a:ext cx="33116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267fd"/>
                </a:solidFill>
                <a:latin typeface="Arial"/>
              </a:rPr>
              <a:t>Крокусы в бутона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000">
    <p:cover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55640" y="6165720"/>
            <a:ext cx="42480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Arial"/>
              </a:rPr>
              <a:t>Крокусы распустилис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000">
    <p:cover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03480" y="6040440"/>
            <a:ext cx="44157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 это первые подснежник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000">
    <p:cover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79280" y="5877000"/>
            <a:ext cx="481824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Еще подснежники. Весна идет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cover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84360" y="6165720"/>
            <a:ext cx="53704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о зима никак не хочет сдавать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push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08000" y="6308640"/>
            <a:ext cx="81374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негом покрывает появившиеся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тюльпан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push dir="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9360"/>
            <a:ext cx="9144000" cy="68486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93280" y="5896080"/>
            <a:ext cx="693036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о весна наступа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квозь снега пробиваются весенние цве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push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68360" y="5157720"/>
            <a:ext cx="7335720" cy="192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ай. Весной часто гремят грозы и льют дожд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Грозы еще нет, но в воздухе чувствуется ее приближ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push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75" name=""/>
          <p:cNvSpPr/>
          <p:nvPr/>
        </p:nvSpPr>
        <p:spPr>
          <a:xfrm>
            <a:off x="138240" y="0"/>
            <a:ext cx="886752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55640" y="5950080"/>
            <a:ext cx="26290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чалась гроз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000"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095480" y="5751360"/>
            <a:ext cx="74988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ни становятся длиннее, пригревает солнышк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чинает таять снег, половодье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strips dir="r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78" name=""/>
          <p:cNvSpPr/>
          <p:nvPr/>
        </p:nvSpPr>
        <p:spPr>
          <a:xfrm>
            <a:off x="1440" y="0"/>
            <a:ext cx="914112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25440" y="6021360"/>
            <a:ext cx="36478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Нарциссы под дожд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000">
    <p:diamond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50920" y="5967360"/>
            <a:ext cx="53499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Ветки деревьев после дождя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split dir="out" orient="ver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808920" y="6040440"/>
            <a:ext cx="31190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Трава после дожд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000">
    <p:split dir="in" orient="ver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95080" y="6040440"/>
            <a:ext cx="34862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аспускается сирен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000">
    <p:wheel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92560" y="5896080"/>
            <a:ext cx="47739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Цветут тюльпаны и нарцисс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000">
    <p:diamond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08000" y="6035760"/>
            <a:ext cx="64800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ff"/>
                </a:solidFill>
                <a:latin typeface="Arial"/>
              </a:rPr>
              <a:t>Скоро все зацветет буйным цвет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ff"/>
                </a:solidFill>
                <a:latin typeface="Arial"/>
              </a:rPr>
              <a:t>Это яблони в цвет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circl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9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356000" y="5661000"/>
            <a:ext cx="431964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Наконец –то пришла настоящая весна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newsflash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336666"/>
                </a:solidFill>
                <a:latin typeface="Arial Black"/>
              </a:rPr>
              <a:t>   </a:t>
            </a:r>
            <a:r>
              <a:rPr b="1" lang="en-US" sz="8800" spc="-1" strike="noStrike">
                <a:solidFill>
                  <a:srgbClr val="336666"/>
                </a:solidFill>
                <a:latin typeface="Arial Black"/>
              </a:rPr>
              <a:t>Конец</a:t>
            </a:r>
            <a:endParaRPr b="0" lang="en-US" sz="8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Фотографии использованы с сайта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mir tesen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"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826920" y="6308640"/>
            <a:ext cx="6697800" cy="459720"/>
          </a:xfrm>
          <a:prstGeom prst="rect">
            <a:avLst/>
          </a:prstGeom>
          <a:solidFill>
            <a:srgbClr val="97cd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Из-под снега пробивается</a:t>
            </a: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первая трав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4208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4427640" y="6237360"/>
            <a:ext cx="4630680" cy="459720"/>
          </a:xfrm>
          <a:prstGeom prst="rect">
            <a:avLst/>
          </a:prstGeom>
          <a:solidFill>
            <a:srgbClr val="97cd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 первые весенние цветоч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000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79480" y="6308640"/>
            <a:ext cx="6046920" cy="4597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прель.Начинает распускаться верб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cover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095480" y="6237360"/>
            <a:ext cx="6099120" cy="8254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начала появляются пушистые почк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split dir="out" orient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08000" y="6237360"/>
            <a:ext cx="5724360" cy="45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атем верба вот так зацветае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split dir="out" orient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78040" y="5967360"/>
            <a:ext cx="7154640" cy="825480"/>
          </a:xfrm>
          <a:prstGeom prst="rect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У хвойных растений появляются почки рос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на верхушках ветв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2T08:59:10Z</dcterms:created>
  <dc:creator>ЗОЯ</dc:creator>
  <dc:description/>
  <dc:language>en-US</dc:language>
  <cp:lastModifiedBy>Алексей</cp:lastModifiedBy>
  <dcterms:modified xsi:type="dcterms:W3CDTF">2023-01-03T06:52:06Z</dcterms:modified>
  <cp:revision>39</cp:revision>
  <dc:subject/>
  <dc:title>Фотоальбом</dc:title>
</cp:coreProperties>
</file>