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D28-A4B6-4EB7-8997-83695451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277-331F-4039-AB02-8556339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F1D-9CE0-4326-A235-809D7430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EEB-CEDA-4F3E-85CF-11C89DBB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EF8-1553-443F-A3CE-85577249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0E0-F067-4E68-BD37-6CB239B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B869-0D11-4663-916F-48F8E51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CA3D-F7F1-443D-880E-D11250D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CE0-1FEB-4617-8663-A1D362E3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9736-0359-4F3A-9F65-664E99B1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88CC-F0B4-4BA8-916C-688218B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66D-6B5B-4E7D-9912-5CFEF16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91B6-8806-4184-9244-DE5AD88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B3B-E1FF-4368-AA4B-1E98C69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BC1-2693-4BEC-8C7E-7B9FE29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E081-3130-4B26-ADF7-45C12904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B58-E8B4-4351-8230-B276B17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3D3-3748-4455-8C6B-1874D6E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A32-120A-4C38-A640-D65531C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D1D-C99D-44A8-83D7-54C3E8A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846-D958-4365-8E57-9F7477AC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770-0955-4E12-AAD8-860E043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727-251C-4224-B2FD-7629D26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5F-208C-4144-BBF1-AAB643F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E72-4FFB-4BD2-B9C2-B11CAE98D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8320-DBEC-4E86-8BAE-3DB1AB19E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133360" y="40384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59280" y="4000680"/>
            <a:ext cx="3384720" cy="1942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424800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50920" y="549360"/>
            <a:ext cx="7800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сна. 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буждение   природы 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84200" y="6237360"/>
            <a:ext cx="3903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дые побеги 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8172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 вступает в свои права . Уж скоро с крыши поте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97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79480" y="5583240"/>
            <a:ext cx="184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516640"/>
            <a:ext cx="80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Этот желудь весной решил стать дубом. Появился первый р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76280"/>
            <a:ext cx="6337440" cy="5114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5805360"/>
            <a:ext cx="360036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бухают поч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237360"/>
            <a:ext cx="5688000" cy="459720"/>
          </a:xfrm>
          <a:prstGeom prst="rect">
            <a:avLst/>
          </a:prstGeom>
          <a:solidFill>
            <a:srgbClr val="726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овно капельки весеннего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237360"/>
            <a:ext cx="55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ки начинают раскрываться 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560" y="6165720"/>
            <a:ext cx="638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являются вот такие первые листочки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25560" y="0"/>
            <a:ext cx="9118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6237360"/>
            <a:ext cx="615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от такие первые лис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1080" y="6165720"/>
            <a:ext cx="891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ые молодые зеленые листочки- разве это не чудо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0"/>
            <a:ext cx="9575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720" y="6308640"/>
            <a:ext cx="68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А вскоре распускаются и первые цве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900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920" y="6093000"/>
            <a:ext cx="709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 весны. Март месяц очень каприз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5877000"/>
            <a:ext cx="4948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весенний цветок перво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093000"/>
            <a:ext cx="331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67fd"/>
                </a:solidFill>
                <a:latin typeface="Arial"/>
              </a:rPr>
              <a:t>Крокусы в буто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6165720"/>
            <a:ext cx="42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Крокусы распуст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480" y="6040440"/>
            <a:ext cx="441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это первые подснеж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5877000"/>
            <a:ext cx="4818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ще подснежники. Весна ид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6165720"/>
            <a:ext cx="537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зима никак не хочет сд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6308640"/>
            <a:ext cx="813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егом покрывает появившие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тюльп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360"/>
            <a:ext cx="9144000" cy="684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280" y="5896080"/>
            <a:ext cx="693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весна насту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возь снега пробиваются весенние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5157720"/>
            <a:ext cx="7335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й. Весной часто гремят грозы и льют дож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озы еще нет, но в воздухе чувствуется ее прибл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38240" y="0"/>
            <a:ext cx="886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950080"/>
            <a:ext cx="262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г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5751360"/>
            <a:ext cx="749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и становятся длиннее, пригревает солны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ет таять снег, половодь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440" y="0"/>
            <a:ext cx="9141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5440" y="6021360"/>
            <a:ext cx="3647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рциссы под дож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5967360"/>
            <a:ext cx="5349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етки деревьев после дожд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920" y="6040440"/>
            <a:ext cx="3119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Трава после дож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5080" y="6040440"/>
            <a:ext cx="348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ускается си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2560" y="5896080"/>
            <a:ext cx="4773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ут тюльпаны и нарци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6035760"/>
            <a:ext cx="648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Скоро все зацветет буй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Это яблони в ц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5661000"/>
            <a:ext cx="4319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конец –то пришла настоящая вес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1" lang="en-US" sz="8800" spc="-1" strike="noStrike">
                <a:solidFill>
                  <a:srgbClr val="336666"/>
                </a:solidFill>
                <a:latin typeface="Arial Black"/>
              </a:rPr>
              <a:t>Конец</a:t>
            </a:r>
            <a:endParaRPr b="0" lang="en-US" sz="8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тографии использованы с сай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r tes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308640"/>
            <a:ext cx="669780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-под снега пробивается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ервая т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27640" y="6237360"/>
            <a:ext cx="4630680" cy="459720"/>
          </a:xfrm>
          <a:prstGeom prst="rect">
            <a:avLst/>
          </a:pr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ервые весенние цве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6308640"/>
            <a:ext cx="60469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.Начинает распускаться вер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5480" y="6237360"/>
            <a:ext cx="60991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ачала появляются пушистые по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6237360"/>
            <a:ext cx="5724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верба вот так зацве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040" y="5967360"/>
            <a:ext cx="7154640" cy="8254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 хвойных растений появляются почки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верхушках вет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8:59:10Z</dcterms:created>
  <dc:creator>ЗОЯ</dc:creator>
  <dc:description/>
  <dc:language>en-US</dc:language>
  <cp:lastModifiedBy>Алексей</cp:lastModifiedBy>
  <dcterms:modified xsi:type="dcterms:W3CDTF">2023-01-03T06:52:06Z</dcterms:modified>
  <cp:revision>39</cp:revision>
  <dc:subject/>
  <dc:title>Фотоальбом</dc:title>
</cp:coreProperties>
</file>