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074-1B2B-4F8D-8DEC-F38164B0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341-3264-4EA0-AA96-1D0FD712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058-3234-4FB2-8173-4A4FD1B7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AB0-A804-4AC8-867D-803A6622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E004-CE16-455C-8695-C5C46002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99E-9F4F-4AC2-9739-504EEDA9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595-A3D8-4671-B8B1-0D237703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DC47-F72C-4F79-AB9C-1B3D964C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152A-EEC7-4457-A915-C2CC3009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35DC-1E90-4418-B9CA-CBB38740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2F53-7438-4B22-9E9D-1CAABE25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530-9206-4B3E-97FD-587698F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1978-6FC1-49E3-9A49-6BC7B2B9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1E6D-7278-4435-BBFA-85D6B3C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CC5A-3FBD-4489-871D-9598339D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77F1-85BF-4043-87D4-475D06F1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89C5-FFD2-465A-ACCB-6121E467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5A8-C6B5-445D-B634-8583AD8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E24-E9CF-4358-9393-88A9402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7AB-BB5C-461F-AB90-77906FF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A93-8DC3-45E5-8F85-64BE94F8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C9B-9929-4983-A38F-90E6728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6F9-6A3F-4C18-9CF1-88709FD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171-343A-446A-A76B-707B2BDE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7ff"/>
            </a:gs>
            <a:gs pos="50000">
              <a:srgbClr val="f4fcff"/>
            </a:gs>
            <a:gs pos="100000">
              <a:srgbClr val="e5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AC4C-24CA-4F86-B08C-DD22B68D7F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7ff"/>
            </a:gs>
            <a:gs pos="50000">
              <a:srgbClr val="f4fcff"/>
            </a:gs>
            <a:gs pos="100000">
              <a:srgbClr val="e5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FB3E-2F42-43CB-88FC-169819ABCEFD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881000"/>
            <a:ext cx="838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_AlgeriusRough"/>
              </a:rPr>
              <a:t>Логические элементы.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759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_AlgeriusRough"/>
              </a:rPr>
              <a:t>Логические функции.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042920" y="1197000"/>
            <a:ext cx="73915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ствует частице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,  N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значается черточкой над именем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менно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иначе называется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РИЦА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версия логической переменной истинна  если сама  переменная ложна,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, наоборот, инверсия ложна если переменная истинна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201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3) Логическая операция ИНВЕРСИЯ</a:t>
            </a:r>
            <a:endParaRPr b="0" lang="en-US" sz="4000" spc="-1" strike="noStrike">
              <a:solidFill>
                <a:srgbClr val="0066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4284720" y="2276640"/>
                <a:ext cx="7286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116000" y="260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ИНВЕРСИЯ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19320" y="20574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771640" y="1773360"/>
          <a:ext cx="3353040" cy="119520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Не 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32"/>
          <p:cNvSpPr/>
          <p:nvPr/>
        </p:nvSpPr>
        <p:spPr>
          <a:xfrm>
            <a:off x="755640" y="39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Логический элемент  ИНВЕРТОР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4140360" y="5013360"/>
            <a:ext cx="1904760" cy="1371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2895480" y="563868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>
            <a:off x="6019920" y="5715000"/>
            <a:ext cx="1218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8"/>
          <p:cNvSpPr/>
          <p:nvPr/>
        </p:nvSpPr>
        <p:spPr>
          <a:xfrm>
            <a:off x="2133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7391520" y="5181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е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 Логическая операция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ИМПЛИКАЦИЯ (условное высказывание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24000" y="1341360"/>
            <a:ext cx="85690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русском языке этой логической операции соответствуют союз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…, то;  когда …, тогда;  коль скоро …, то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 т.п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ражение, начинающееся после союзо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, когда, коль скоро,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зываются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снованием условного высказывания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ражение, стоящее после сло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о, тогд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называется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следствием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логических формулах операция импликация обозначается знаком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,   А</a:t>
            </a:r>
            <a:r>
              <a:rPr b="0" lang="ru-RU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24000" y="333360"/>
            <a:ext cx="882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Если выглянет солнце, то станет тепло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усть А – «Выглянет солнце», В – «Станет тепло»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 </a:t>
            </a:r>
            <a:r>
              <a:rPr b="0" lang="ru-RU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187280" y="27813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ИМПЛИКАЦИЯ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08000" y="4365720"/>
          <a:ext cx="5029200" cy="19047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</a:t>
                      </a: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</a:t>
            </a:r>
            <a:r>
              <a:rPr b="1" i="1" lang="ru-RU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)  Логическая операция  ЭКВИВАЛЕНТНОСТЬ</a:t>
            </a:r>
            <a:r>
              <a:rPr b="1" i="1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9280" y="1268280"/>
            <a:ext cx="8642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Языковый аналог – союз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и только если;    тогда и только тогда, когда 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Эквивалентность обозначается знаком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 или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_AlgeriusRough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Людоед голоден тогда и только тогда, когда он давно не ел»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Пусть А – «людоед голоден», В – «он давно не ел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Тогда логическая формула этого высказывания выглядит так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660066"/>
                </a:solidFill>
                <a:latin typeface="Symbol"/>
                <a:ea typeface="Symbol"/>
              </a:rPr>
              <a:t>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0920" y="45813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аблица истинности логической операции    Эквивалентност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03640" y="4952880"/>
          <a:ext cx="5029200" cy="190512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</a:t>
                      </a: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476280"/>
            <a:ext cx="856908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рядок всех пяти логических операций по убыванию старшинства следующий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рицание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Конъюнкция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omic Sans MS"/>
              </a:rPr>
              <a:t>Дизъюнкция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Импликация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omic Sans MS"/>
              </a:rPr>
              <a:t>Эквивалентность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24000" y="-21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_AlgeriusRough"/>
              </a:rPr>
              <a:t>Логика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2920" y="692280"/>
            <a:ext cx="9001080" cy="66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Times New Roman"/>
              </a:rPr>
              <a:t>Логика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0" lang="ru-RU" sz="2700" spc="-1" strike="noStrike">
                <a:solidFill>
                  <a:srgbClr val="000066"/>
                </a:solidFill>
                <a:latin typeface="Times New Roman"/>
              </a:rPr>
              <a:t> совокупность правил, которым подчиняется процесс мышления, или наука о  формах и способах мышления.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Times New Roman"/>
              </a:rPr>
              <a:t>Высказывание (суждение)</a:t>
            </a:r>
            <a:r>
              <a:rPr b="0" lang="ru-RU" sz="2700" spc="-1" strike="noStrike">
                <a:solidFill>
                  <a:srgbClr val="000066"/>
                </a:solidFill>
                <a:latin typeface="Times New Roman"/>
              </a:rPr>
              <a:t> – это повествовательное предложение, в котором что-либо утверждается или отрицается. По поводу любого высказывания можно сказать истинно оно или ложно.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«Лед – твердое состояние воды».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(истин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«Треугольник – это геометрическая фигура»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(истинное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                                                                       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«Париж – столица Китая»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(лож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«Посмотрите на доску», «Внимание!», «Кто отсутствует?»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 (не являются высказываниями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24000" y="333360"/>
            <a:ext cx="8820000" cy="87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Высказывания бываю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щими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частными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единичным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щее высказывание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начинается (или можно начать) со слов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все, всякий, каждый, ни один. 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Частное высказывание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начинается (или можно начать) со слов: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екоторые, большинство и т.п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о всех других случаях высказывание является единичным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Все рыбы умеют плавать».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обще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«Некоторые медведи – бурые».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част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«Буква А – гласная».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единич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_AlgeriusRough"/>
              </a:rPr>
              <a:t>Логика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50920" y="907920"/>
            <a:ext cx="8893080" cy="63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ие величины: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нятия, выражаемые словами: ИСТИНА, ЛОЖЬ 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rue, false)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тинность высказывания выражается через логические величины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ая переменная: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имволически обозначенная логическая величина. Есл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А,В,Х – переменные логические величины,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 это значит, что они могут принимать значения только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ТИНА или ЛОЖЬ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ая функция 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…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 от набора логических переменных) -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зывается функция, которая может принимать только два значения : ложь(0) и истина (1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ения логической функции для разных сочетаний значений входных переменных обычно задаются 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блицей истинности логической функции.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число столбцов в таблице не менее N+1, где N - число входных переменных;  число строк в таблице Q=2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04840"/>
            <a:ext cx="8664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)</a:t>
            </a:r>
            <a:r>
              <a:rPr b="1" i="1" lang="ru-RU" sz="4000" spc="-1" strike="noStrike">
                <a:solidFill>
                  <a:srgbClr val="006600"/>
                </a:solidFill>
                <a:latin typeface="Arial Black"/>
                <a:ea typeface="Times New Roman"/>
              </a:rPr>
              <a:t>  Логическая операция   КОНЬЮНКЦИЯ</a:t>
            </a: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1773360"/>
            <a:ext cx="7924680" cy="49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соответствует союзу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,  AN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обозначается знаками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^,    &amp;,   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иначе называется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ОГИЧЕСКОЕ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МНОЖЕ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кон  конъюнкции :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ъюнкция двух логических переменных истина тогда и только тогда, когда оба высказывания истинны.    A*B*C=1, только если А=1, B=1, С=1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КОНЪЮНКЦИЯ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19320" y="20574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24000" y="1628640"/>
          <a:ext cx="502920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&amp;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39"/>
          <p:cNvSpPr/>
          <p:nvPr/>
        </p:nvSpPr>
        <p:spPr>
          <a:xfrm>
            <a:off x="684360" y="4221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Логический элемент КОНЪЮНКТОР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4114800" y="5029200"/>
            <a:ext cx="1905120" cy="1371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2"/>
          <p:cNvSpPr/>
          <p:nvPr/>
        </p:nvSpPr>
        <p:spPr>
          <a:xfrm>
            <a:off x="2895480" y="53341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2895480" y="60199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6019920" y="5715000"/>
            <a:ext cx="1218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43434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&amp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1981080" y="4876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1981080" y="5715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31520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&amp;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143000" y="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0"/>
            <a:ext cx="865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 Логическая операция   </a:t>
            </a: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ДИЗЪЮНКЦИЯ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84360" y="1484280"/>
            <a:ext cx="80010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ствует союзу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,  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бозначается знаком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,  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наче называется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ОГИЧЕСКОЕ СЛОЖЕ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кон дизъюнкции: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зъюнкция двух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их переменных ложна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и только тогда,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гда оба высказывания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жны.    AvBvC=0,  только если  A=0, B=0, C=0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1476360" y="260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ДИЗЪЮНКЦИЯ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219320" y="20574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124000" y="1557360"/>
          <a:ext cx="502920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+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34"/>
          <p:cNvSpPr/>
          <p:nvPr/>
        </p:nvSpPr>
        <p:spPr>
          <a:xfrm>
            <a:off x="900000" y="4076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Логический элемент ДИЗЪЮНКТОР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114800" y="5029200"/>
            <a:ext cx="1905120" cy="1371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36"/>
          <p:cNvSpPr/>
          <p:nvPr/>
        </p:nvSpPr>
        <p:spPr>
          <a:xfrm>
            <a:off x="2895480" y="53341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2895480" y="60199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38"/>
          <p:cNvSpPr/>
          <p:nvPr/>
        </p:nvSpPr>
        <p:spPr>
          <a:xfrm>
            <a:off x="6019920" y="5715000"/>
            <a:ext cx="1218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43434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1981080" y="4876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41"/>
          <p:cNvSpPr/>
          <p:nvPr/>
        </p:nvSpPr>
        <p:spPr>
          <a:xfrm>
            <a:off x="1981080" y="5715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42"/>
          <p:cNvSpPr/>
          <p:nvPr/>
        </p:nvSpPr>
        <p:spPr>
          <a:xfrm>
            <a:off x="731520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6:19:47Z</dcterms:created>
  <dc:creator>Администратор</dc:creator>
  <dc:description/>
  <dc:language>en-US</dc:language>
  <cp:lastModifiedBy>Windows User</cp:lastModifiedBy>
  <dcterms:modified xsi:type="dcterms:W3CDTF">2023-01-03T08:40:09Z</dcterms:modified>
  <cp:revision>12</cp:revision>
  <dc:subject/>
  <dc:title>Логические элементы.</dc:title>
</cp:coreProperties>
</file>