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3C6-8FF0-4B38-8245-C9C8D6A7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227-10C4-428D-AA68-2E372D34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010-6E16-490E-AAEF-F3E66611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1F3-271E-43BA-BFFF-F4821BD7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3AE-8ACC-432F-9F57-A5F91BEC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B600-C5DD-43A5-870D-D13BC1A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1CF8-3116-47B3-998E-BC756EE0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D52C-515C-4337-AD15-E0D45B4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26C5-9434-467D-B00B-345B2D9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C34C-0E8C-446D-9CCA-00A7F349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A0F4-C514-40CB-B699-F944047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EF3-A6F3-4CFA-8604-0010E3E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39A-FDAF-46C6-8C4E-44F9E8DC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9925-4FA2-4326-869D-0572F1B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104A-21D4-4E67-AD79-8CF79966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E675-3121-4869-B432-2ABD9F95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F07-9FCF-49BD-BE61-4C5A4701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1E6-B8C5-46B8-AE39-EAAF290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2B10-BF0D-4CB5-A23C-819D5EAF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112-FF7F-4DEC-BD49-2F34B7C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4B0-CD9E-4369-80C8-6BB16A52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9A0-4B6B-4DBE-829D-B8A51A4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3C1-0D6D-4232-9B38-71951956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4C7-FF8F-4747-8111-5FA17C5D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7ff"/>
            </a:gs>
            <a:gs pos="50000">
              <a:srgbClr val="f4fcff"/>
            </a:gs>
            <a:gs pos="100000">
              <a:srgbClr val="e5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B82-D98C-4874-BCAC-48F21648F4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7ff"/>
            </a:gs>
            <a:gs pos="50000">
              <a:srgbClr val="f4fcff"/>
            </a:gs>
            <a:gs pos="100000">
              <a:srgbClr val="e5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0290-425F-41B9-9365-1B4358A039B7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881000"/>
            <a:ext cx="838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_AlgeriusRough"/>
              </a:rPr>
              <a:t>Логические элементы.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759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_AlgeriusRough"/>
              </a:rPr>
              <a:t>Логические функции.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1042920" y="1197000"/>
            <a:ext cx="73915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ветствует частице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,  NO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значается черточкой над именем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менно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иначе называется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РИЦА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версия логической переменной истинна  если сама  переменная ложна,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, наоборот, инверсия ложна если переменная истинна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2012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3) Логическая операция ИНВЕРСИЯ</a:t>
            </a:r>
            <a:endParaRPr b="0" lang="en-US" sz="4000" spc="-1" strike="noStrike">
              <a:solidFill>
                <a:srgbClr val="0066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4284720" y="2276640"/>
                <a:ext cx="7286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116000" y="260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ИНВЕРСИЯ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19320" y="20574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771640" y="1773360"/>
          <a:ext cx="3353040" cy="119520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Не 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32"/>
          <p:cNvSpPr/>
          <p:nvPr/>
        </p:nvSpPr>
        <p:spPr>
          <a:xfrm>
            <a:off x="755640" y="39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Логический элемент  ИНВЕРТОР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4140360" y="5013360"/>
            <a:ext cx="1904760" cy="1371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2895480" y="563868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>
            <a:off x="6019920" y="5715000"/>
            <a:ext cx="12189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8"/>
          <p:cNvSpPr/>
          <p:nvPr/>
        </p:nvSpPr>
        <p:spPr>
          <a:xfrm>
            <a:off x="2133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7391520" y="5181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е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 Black"/>
              </a:rPr>
              <a:t>             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 Логическая операция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ИМПЛИКАЦИЯ (условное высказывание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24000" y="1341360"/>
            <a:ext cx="85690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русском языке этой логической операции соответствуют союз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…, то;  когда …, тогда;  коль скоро …, то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 т.п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ражение, начинающееся после союзо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, когда, коль скоро,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зываются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основанием условного высказывания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ражение, стоящее после слов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о, тогд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называется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следствием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логических формулах операция импликация обозначается знаком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,   А</a:t>
            </a:r>
            <a:r>
              <a:rPr b="0" lang="ru-RU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324000" y="333360"/>
            <a:ext cx="8820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Если выглянет солнце, то станет тепло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усть А – «Выглянет солнце», В – «Станет тепло»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 </a:t>
            </a:r>
            <a:r>
              <a:rPr b="0" lang="ru-RU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187280" y="27813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ИМПЛИКАЦИЯ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08000" y="4365720"/>
          <a:ext cx="5029200" cy="19047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</a:t>
                      </a: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17928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</a:t>
            </a:r>
            <a:r>
              <a:rPr b="1" i="1" lang="ru-RU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)  Логическая операция  ЭКВИВАЛЕНТНОСТЬ</a:t>
            </a:r>
            <a:r>
              <a:rPr b="1" i="1" lang="ru-RU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79280" y="1268280"/>
            <a:ext cx="8642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Языковый аналог – союз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и только если;    тогда и только тогда, когда …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Эквивалентность обозначается знаком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 или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↔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_AlgeriusRough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Людоед голоден тогда и только тогда, когда он давно не ел»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Пусть А – «людоед голоден», В – «он давно не ел»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Тогда логическая формула этого высказывания выглядит так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660066"/>
                </a:solidFill>
                <a:latin typeface="Symbol"/>
                <a:ea typeface="Symbol"/>
              </a:rPr>
              <a:t>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0920" y="45813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аблица истинности логической операции    Эквивалентность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03640" y="4952880"/>
          <a:ext cx="5029200" cy="190512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</a:t>
                      </a: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476280"/>
            <a:ext cx="856908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орядок всех пяти логических операций по убыванию старшинства следующий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рицание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Конъюнкция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omic Sans MS"/>
              </a:rPr>
              <a:t>Дизъюнкция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mic Sans MS"/>
              </a:rPr>
              <a:t>Импликация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Comic Sans MS"/>
              </a:rPr>
              <a:t>Эквивалентность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24000" y="-21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_AlgeriusRough"/>
              </a:rPr>
              <a:t>Логика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2920" y="692280"/>
            <a:ext cx="9001080" cy="66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Times New Roman"/>
              </a:rPr>
              <a:t>Логика</a:t>
            </a:r>
            <a:r>
              <a:rPr b="1" lang="ru-RU" sz="27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0" lang="ru-RU" sz="2700" spc="-1" strike="noStrike">
                <a:solidFill>
                  <a:srgbClr val="000066"/>
                </a:solidFill>
                <a:latin typeface="Times New Roman"/>
              </a:rPr>
              <a:t> совокупность правил, которым подчиняется процесс мышления, или наука о  формах и способах мышления.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Times New Roman"/>
              </a:rPr>
              <a:t>Высказывание (суждение)</a:t>
            </a:r>
            <a:r>
              <a:rPr b="0" lang="ru-RU" sz="2700" spc="-1" strike="noStrike">
                <a:solidFill>
                  <a:srgbClr val="000066"/>
                </a:solidFill>
                <a:latin typeface="Times New Roman"/>
              </a:rPr>
              <a:t> – это повествовательное предложение, в котором что-либо утверждается или отрицается. По поводу любого высказывания можно сказать истинно оно или ложно.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«Лед – твердое состояние воды».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(истин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«Треугольник – это геометрическая фигура»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(истинное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                                                                       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«Париж – столица Китая» 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(лож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«Посмотрите на доску», «Внимание!», «Кто отсутствует?»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 (не являются высказываниями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24000" y="333360"/>
            <a:ext cx="8820000" cy="87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Высказывания бываю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щими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частными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единичным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щее высказывание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начинается (или можно начать) со слов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все, всякий, каждый, ни один. 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Частное высказывание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Times New Roman"/>
              </a:rPr>
              <a:t>начинается (или можно начать) со слов: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некоторые, большинство и т.п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о всех других случаях высказывание является единичным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Все рыбы умеют плавать».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обще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«Некоторые медведи – бурые».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част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«Буква А – гласная».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1932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001932"/>
                </a:solidFill>
                <a:latin typeface="Comic Sans MS"/>
              </a:rPr>
              <a:t>единичное высказывание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654520" indent="-565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_AlgeriusRough"/>
              </a:rPr>
              <a:t>Логика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50920" y="907920"/>
            <a:ext cx="8893080" cy="63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ие величины: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нятия, выражаемые словами: ИСТИНА, ЛОЖЬ (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rue, false)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тинность высказывания выражается через логические величины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ая переменная: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имволически обозначенная логическая величина. Есл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А,В,Х – переменные логические величины,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 это значит, что они могут принимать значения только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ТИНА или ЛОЖЬ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ая функция 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…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 от набора логических переменных) -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зывается функция, которая может принимать только два значения : ложь(0) и истина (1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начения логической функции для разных сочетаний значений входных переменных обычно задаются 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блицей истинности логической функции.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число столбцов в таблице не менее N+1, где N - число входных переменных;  число строк в таблице Q=2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04840"/>
            <a:ext cx="8664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)</a:t>
            </a:r>
            <a:r>
              <a:rPr b="1" i="1" lang="ru-RU" sz="4000" spc="-1" strike="noStrike">
                <a:solidFill>
                  <a:srgbClr val="006600"/>
                </a:solidFill>
                <a:latin typeface="Arial Black"/>
                <a:ea typeface="Times New Roman"/>
              </a:rPr>
              <a:t>  Логическая операция   КОНЬЮНКЦИЯ</a:t>
            </a:r>
            <a:r>
              <a:rPr b="0" lang="ru-RU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6600"/>
              </a:solidFill>
              <a:latin typeface="Arial Black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1773360"/>
            <a:ext cx="7924680" cy="49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соответствует союзу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,  AN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обозначается знаками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^,    &amp;,   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иначе называется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ОГИЧЕСКОЕ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МНОЖЕ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кон  конъюнкции :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ъюнкция двух логических переменных истина тогда и только тогда, когда оба высказывания истинны.    A*B*C=1, только если А=1, B=1, С=1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КОНЪЮНКЦИЯ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219320" y="20574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24000" y="1628640"/>
          <a:ext cx="502920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&amp;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39"/>
          <p:cNvSpPr/>
          <p:nvPr/>
        </p:nvSpPr>
        <p:spPr>
          <a:xfrm>
            <a:off x="684360" y="4221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Логический элемент КОНЪЮНКТОР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1"/>
          <p:cNvSpPr/>
          <p:nvPr/>
        </p:nvSpPr>
        <p:spPr>
          <a:xfrm>
            <a:off x="4114800" y="5029200"/>
            <a:ext cx="1905120" cy="1371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2"/>
          <p:cNvSpPr/>
          <p:nvPr/>
        </p:nvSpPr>
        <p:spPr>
          <a:xfrm>
            <a:off x="2895480" y="53341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2895480" y="60199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4"/>
          <p:cNvSpPr/>
          <p:nvPr/>
        </p:nvSpPr>
        <p:spPr>
          <a:xfrm>
            <a:off x="6019920" y="5715000"/>
            <a:ext cx="12189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43434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&amp;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1981080" y="4876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1981080" y="5715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315200" y="5486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&amp;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143000" y="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0"/>
            <a:ext cx="865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 Логическая операция   </a:t>
            </a: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ДИЗЪЮНКЦИЯ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84360" y="1484280"/>
            <a:ext cx="80010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ветствует союзу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,  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бозначается знаком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,  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наче называется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ОГИЧЕСКОЕ СЛОЖЕНИЕ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кон дизъюнкции: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изъюнкция двух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гических переменных ложна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и только тогда,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гда оба высказывания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жны.    AvBvC=0,  только если  A=0, B=0, C=0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1476360" y="260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Таблица истинности логической операции    ДИЗЪЮНКЦИЯ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219320" y="20574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124000" y="1557360"/>
          <a:ext cx="502920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А +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34"/>
          <p:cNvSpPr/>
          <p:nvPr/>
        </p:nvSpPr>
        <p:spPr>
          <a:xfrm>
            <a:off x="900000" y="4076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Логический элемент ДИЗЪЮНКТОР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114800" y="5029200"/>
            <a:ext cx="1905120" cy="1371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36"/>
          <p:cNvSpPr/>
          <p:nvPr/>
        </p:nvSpPr>
        <p:spPr>
          <a:xfrm>
            <a:off x="2895480" y="53341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2895480" y="60199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38"/>
          <p:cNvSpPr/>
          <p:nvPr/>
        </p:nvSpPr>
        <p:spPr>
          <a:xfrm>
            <a:off x="6019920" y="5715000"/>
            <a:ext cx="12189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434340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1981080" y="4876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41"/>
          <p:cNvSpPr/>
          <p:nvPr/>
        </p:nvSpPr>
        <p:spPr>
          <a:xfrm>
            <a:off x="1981080" y="5715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42"/>
          <p:cNvSpPr/>
          <p:nvPr/>
        </p:nvSpPr>
        <p:spPr>
          <a:xfrm>
            <a:off x="7315200" y="5486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6:19:47Z</dcterms:created>
  <dc:creator>Администратор</dc:creator>
  <dc:description/>
  <dc:language>en-US</dc:language>
  <cp:lastModifiedBy>Windows User</cp:lastModifiedBy>
  <dcterms:modified xsi:type="dcterms:W3CDTF">2023-01-03T08:40:09Z</dcterms:modified>
  <cp:revision>12</cp:revision>
  <dc:subject/>
  <dc:title>Логические элементы.</dc:title>
</cp:coreProperties>
</file>