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2047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449280" y="685440"/>
            <a:ext cx="5959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8753-2D65-4002-A33E-67E3FA0569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449280" y="685800"/>
            <a:ext cx="595944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100E-8120-4D75-BBB0-D42C5B3BE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9B1-8B83-485D-A416-F5FE1BEB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1F9-870B-40FA-B36F-69F9BAE0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4A7-7038-4990-AD64-E76E26A4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BFA-E81F-4934-A7D6-86D7464F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2F39-DF0B-453A-B282-AD12D9BE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0703-E9E5-4BBC-83B2-8BD7949E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9E6F-A34D-4E44-90D9-6B196234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3D0E-C0AE-43BE-8917-8C434AED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9963-6345-46E2-B3B7-6E5ACF07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16E4-8F2E-4D88-9ACA-41CD3CDE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4CD3-CC2A-44C3-ACBF-0C90A98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328-2D2F-4FA0-81A0-28A1C2E5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8A02-1024-4190-8F01-4CD3186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7981-C5FF-4BA7-AD36-2CD17F32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3365-6A49-459F-AEE5-F867C5EA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F3B1-7833-49F3-BBC6-D5630273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549F-71AE-41E0-8232-5B7374FD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7C71C-55FE-4F7C-B043-2C305FC6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0C06-21F7-465B-9E77-6970C2F9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03B3-E0FE-461E-8601-333E6F7D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A8231-AEAA-4B68-A75F-F8E6D971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B0B0-59E0-40B7-AE8D-669D3E3F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1C9-9472-4DF5-B077-EBE28559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234C-30A4-48E8-9442-49E55A16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576A-F992-42E4-8F90-C280F24D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39D0-51FB-49DE-A40C-9C462FD3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D597-B2B4-4468-8B5C-AA83587F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91CA-A407-429B-891C-BD213D21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F1B83-1228-45C1-9464-A9160018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B25C-E49A-4C5B-BC5B-D2E9FD92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23DB8-F1A8-4CD1-A64F-F3373890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A5E8-5C96-4A81-8501-426E2866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2E697-3524-40F3-BD62-9B8D60F8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73E-EA6A-4E2B-94F6-EC76D076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49C3A-DC5F-4F90-AD55-F6B3139B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97A91-7B69-4D10-A4EE-4DBCDB3B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23E5-E401-479D-8DCD-CD195D7F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CCE90-34BD-45D6-9F7C-589EE8A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076D-72F4-4C4B-950A-C039214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AF10F-0126-49B3-97DA-20673C7B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A093-A399-41FB-B5B9-3823AC64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7A66-6631-4631-9B6C-0CAE603E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9D2D-0022-43C7-9DCB-9D2D1F0B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B6F11-9AC2-4703-98D4-94D79274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413-514A-49EA-B40A-1074C49D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4C087-24D0-473F-8B77-95C80843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46CC8-03C9-462F-A367-441302F7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1E84-41EE-49A0-8DB6-8CDBD23E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FA53E-F4BE-4BEE-BA81-9E44E01E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6C9C7-A74D-4CE9-AC12-AD7C6228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A962-FFE5-47CC-8C43-84B2B3F2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63D77-F992-4561-8AEA-2731325F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C2A08-5C10-4699-B75B-864A3E03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34DC-EDD9-4D72-B56E-A51640D4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8AF15-5258-433C-9969-E637F3B2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65E-EEC6-4E2C-9DFD-06BDAC03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51C33-9AC7-406C-AB0E-F5BDB42D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E509F-7EE8-4BFA-A97D-44146EEC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EC7CF-1890-4633-8CAB-2E0E32CD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EC96C-A553-443E-ADF7-D812B60C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D3A7E-7F2D-4E3D-8A15-977E96C6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C6B8D-228C-4366-BCEB-41B3D483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DA4E1-41EF-43C8-A405-B0BFB67C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078EC-57B3-4FB7-A001-8CA6D608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4747-82EE-418D-A511-C6ABAD3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0D88C-EDB6-4D97-A767-EF44D96F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FE9-F757-47C0-96EC-9F90EAF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75A6F-FB41-4C72-BDC5-5B75F071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ECB75-5012-4A9C-85AD-282E7DF4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A95CC-1ED9-4928-8BF5-6E206FDF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9E552-053F-4080-96E8-82EDCCE4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7D9FE-331F-41EB-B4B5-81B08149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6FA64-6A6D-4EE1-B078-B89B6D5B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F80C9-D1C4-4129-BDE2-C8397874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8D9DD-6ECC-45FC-A2B7-F6672C47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30D5A-3360-4856-A631-F0B05862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2231-A765-458E-A4E3-B91921D2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228-E943-43AC-A713-9387A65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1A035-C202-41CC-B5F0-E8669DE1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6D63A-F3E2-4151-B31D-9AB0ACA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A8023-F7CA-4F11-A84B-EBE91D47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A18D9-BDD0-4875-8F21-C4F041B1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082C0-8B74-48CA-8B67-36FF58AE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CCBB7-1F25-461E-BCA7-741D8A65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F4421-1E96-4DAE-8FFB-1F4B30F1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D96C3-8492-4736-BAA8-DD5E77CC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C7DBA-4579-47D6-9894-A95EE4B2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5DF9-BFB8-46B4-B98A-6F54AC77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726-F9B3-43BF-9834-1419853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D1D9E-6154-47DF-B8EB-EEB209FE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E9962-20E4-484E-9D1C-2C055E3E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712B1-EBD5-4F9C-AC6F-5517F43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CAEFE-109A-4086-80DD-43F5BC64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7F315-39A7-4290-9514-33B100A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3FE39-D6B0-40EE-9FD6-A6500781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FC96B-0DD5-4A36-A06D-B2034CC4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70240" y="6394320"/>
            <a:ext cx="386424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469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33EF-C013-4FBD-AE63-A4703CE9A909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70240" y="6394320"/>
            <a:ext cx="386424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469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5100-D42A-413D-AC43-7BCEE5CCC3F0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70240" y="6394320"/>
            <a:ext cx="386424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469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C694-C821-4F38-B57D-C1C74AF0E3BF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70240" y="6394320"/>
            <a:ext cx="386424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469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45E3-57D7-4CE0-BD79-7ECE0C10655F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halloween"/>
          <p:cNvPicPr/>
          <p:nvPr/>
        </p:nvPicPr>
        <p:blipFill>
          <a:blip r:embed="rId2"/>
          <a:stretch/>
        </p:blipFill>
        <p:spPr>
          <a:xfrm>
            <a:off x="-14400" y="-11160"/>
            <a:ext cx="12233520" cy="704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091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4170240" y="6394320"/>
            <a:ext cx="386424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87469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0137-97A4-45A0-9AFA-4B70C1484E91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" descr="halloween"/>
          <p:cNvPicPr/>
          <p:nvPr/>
        </p:nvPicPr>
        <p:blipFill>
          <a:blip r:embed="rId2"/>
          <a:stretch/>
        </p:blipFill>
        <p:spPr>
          <a:xfrm>
            <a:off x="-14400" y="-11160"/>
            <a:ext cx="12233520" cy="704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609120" y="6506640"/>
            <a:ext cx="2847960" cy="3747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4170240" y="6506640"/>
            <a:ext cx="3864240" cy="3747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8746920" y="6506640"/>
            <a:ext cx="2847960" cy="3747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81A3-9AE6-45A0-A17E-7BB0A50E5EFA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07840" y="701280"/>
            <a:ext cx="9458280" cy="7491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707840" y="1638360"/>
            <a:ext cx="7016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77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1" marL="831960" indent="-319320">
              <a:spcBef>
                <a:spcPts val="774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2" marL="128124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3" marL="179388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4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5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6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09120" y="6582960"/>
            <a:ext cx="284796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4170240" y="6582960"/>
            <a:ext cx="386424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8746920" y="6582960"/>
            <a:ext cx="284796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E827-1849-4290-8030-E4B246F527A4}" type="slidenum">
              <a:rPr b="0" lang="ru-RU" sz="13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07840" y="701280"/>
            <a:ext cx="9458280" cy="7491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707840" y="1638360"/>
            <a:ext cx="7016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77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1" marL="831960" indent="-319320">
              <a:spcBef>
                <a:spcPts val="774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2" marL="128124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3" marL="179388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4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5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6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609120" y="6582960"/>
            <a:ext cx="284796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4170240" y="6582960"/>
            <a:ext cx="386424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8746920" y="6582960"/>
            <a:ext cx="284796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B983-60CC-480F-ACEB-84162F8611B4}" type="slidenum">
              <a:rPr b="0" lang="ru-RU" sz="13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Группа 10" descr=""/>
          <p:cNvPicPr/>
          <p:nvPr/>
        </p:nvPicPr>
        <p:blipFill>
          <a:blip r:embed="rId1"/>
          <a:stretch/>
        </p:blipFill>
        <p:spPr>
          <a:xfrm>
            <a:off x="9753480" y="1341360"/>
            <a:ext cx="1322640" cy="1067040"/>
          </a:xfrm>
          <a:prstGeom prst="rect">
            <a:avLst/>
          </a:prstGeom>
          <a:ln w="0">
            <a:noFill/>
          </a:ln>
        </p:spPr>
      </p:pic>
      <p:grpSp>
        <p:nvGrpSpPr>
          <p:cNvPr id="338" name="Группа 14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39" name="Прямая соединительная линия 15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16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17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22"/>
          <p:cNvSpPr/>
          <p:nvPr/>
        </p:nvSpPr>
        <p:spPr>
          <a:xfrm>
            <a:off x="2286000" y="242100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KyivType Sans Heavy"/>
              </a:rPr>
              <a:t>Пунктуация в сложносочинённом предлож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2"/>
          <p:cNvSpPr/>
          <p:nvPr/>
        </p:nvSpPr>
        <p:spPr>
          <a:xfrm>
            <a:off x="1278000" y="1206360"/>
            <a:ext cx="8953560" cy="586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Сколько превосходных слов существует в русском языке для так называемых небесных явлений! Летние грозы проходят над землей и «заваливаются» за горизонт. В народе любят говорить, что туча не прошла, а свал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Молнии то с размаху бьют в землю прямым ударом, то полыхают на черных тучах, как вырванные с корнем ветвистые дере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Радуги сверкают над дымной, сырой далью. Гром перекатывается, грохочет, ворчит, рокочет, встряхивает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Недавно в деревне один маленький мальчик пришел во время грозы ко мне в комнату и, глядя на меня большими от восторга глазами, сказ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Пойдем смотреть гро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К.Паустов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«Золотая роз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Группа 8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45" name="Прямая соединительная линия 9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ая соединительная линия 10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11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12"/>
          <p:cNvSpPr/>
          <p:nvPr/>
        </p:nvSpPr>
        <p:spPr>
          <a:xfrm>
            <a:off x="1266840" y="257040"/>
            <a:ext cx="107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3df4"/>
                </a:solidFill>
                <a:latin typeface="KyivType Sans Heavy"/>
              </a:rPr>
              <a:t>Задани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шите из данного текста ряды однородных членов, соединенных союзами, определите, к какой группе относится тот или иной сою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3"/>
          <p:cNvSpPr/>
          <p:nvPr/>
        </p:nvSpPr>
        <p:spPr>
          <a:xfrm>
            <a:off x="1709640" y="2286000"/>
            <a:ext cx="8064720" cy="156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проходят и «заваливаются» (соединительн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не прошла, а свалилась (противите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то бьют, то полыхают (разделите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пришел и сказал (соединительный)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Группа 24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1008000" y="103320"/>
            <a:ext cx="10531440" cy="65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3df4"/>
                </a:solidFill>
                <a:latin typeface="KyivType Sans Heavy"/>
              </a:rPr>
              <a:t>Задани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ишите из данного текста все ССП, докажите (графически, схематически, словесно...) правильность вашего вы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1008000" y="768240"/>
            <a:ext cx="9223560" cy="65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 так оно всегда почему-то получалось, что не успевал Григорий Иванович прислонить голову к подушке, портфелю или просто к какому-либо пригорку в чистом поле, как ему обязательно начинал сниться со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вдруг причудится Григорию Ивановичу река, широкая и раздольная в весеннем разливе, то вдруг увидит он во сне небо, то привидятся ему леса дремучие и темные... Но чаще всего снится Григорию Ивановичу дорога. Как будто идет он по ней, перекинув сапоги через плечо, идет, помахивает хворостинкой и подбадривает себя, успокаивает. Вот, мол, дойду до того поворота, а там уж отдохну, огляжусь вокруг, там благодать, забвение и отрада. Но дойдет Григорий Иванович до поворота, а благодати нет, под ногами камень да песчаный пепел, а новый поворот где-то далеко за горизонтом. Вздохнет Григорий Иванович, поправит на плече сапоги и идет дальше... И так без конца, от поворота до поворота! Идет Григорий Иванович, не падает духом, надеетс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И.Евсеен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овесть «Петушиные двор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Группа 3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8"/>
          <p:cNvSpPr/>
          <p:nvPr/>
        </p:nvSpPr>
        <p:spPr>
          <a:xfrm>
            <a:off x="1008000" y="1927080"/>
            <a:ext cx="9223560" cy="30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вдруг причудится Григорию Ивановичу река, широкая и раздольная в весеннем разливе, то вдруг увидит он во сне небо, то привидятся ему леса дремучие и темные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, мол, дойду до того поворота, а там уж отдохну, огляжусь вокруг, там благодать, забвение и отр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дойдет Григорий Иванович до поворота, а благодати нет, под ногами камень да песчаный пепел, а новый поворот где-то далеко за горизон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Группа 9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56" name="Прямая соединительная линия 10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11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12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036440" y="1927080"/>
            <a:ext cx="9313560" cy="4392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361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yivType Sans Heavy"/>
              </a:rPr>
              <a:t>Запятая </a:t>
            </a:r>
            <a:r>
              <a:rPr b="1" lang="ru-RU" sz="2800" spc="-1" strike="noStrike">
                <a:solidFill>
                  <a:srgbClr val="000000"/>
                </a:solidFill>
                <a:latin typeface="KyivType Sans Heavy"/>
              </a:rPr>
              <a:t>не ставится </a:t>
            </a:r>
            <a:r>
              <a:rPr b="0" lang="ru-RU" sz="2800" spc="-1" strike="noStrike">
                <a:solidFill>
                  <a:srgbClr val="000000"/>
                </a:solidFill>
                <a:latin typeface="KyivType Sans Heavy"/>
              </a:rPr>
              <a:t>между частями ССП, если есть общий второстепенный член (ОВЧ) или общая придаточная ч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yivType Sans Heavy"/>
              </a:rPr>
              <a:t>С утра ласточки летали низко над землёй да надвигалась серая туч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yivType Sans Heavy"/>
              </a:rPr>
              <a:t>Пошел дождь и уже засверкали молнии, когда мы достигли наконец бере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206360" y="585720"/>
            <a:ext cx="838548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KyivType Sans Heavy"/>
              </a:rPr>
              <a:t>«Опасные» сочинительные союз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66ff"/>
                </a:solidFill>
                <a:latin typeface="KyivType Sans Heavy"/>
              </a:rPr>
              <a:t>	</a:t>
            </a:r>
            <a:r>
              <a:rPr b="1" lang="ru-RU" sz="3100" spc="-1" strike="noStrike">
                <a:solidFill>
                  <a:srgbClr val="ff66ff"/>
                </a:solidFill>
                <a:latin typeface="KyivType Sans Heavy"/>
              </a:rPr>
              <a:t>	</a:t>
            </a:r>
            <a:r>
              <a:rPr b="1" lang="ru-RU" sz="3100" spc="-1" strike="noStrike">
                <a:solidFill>
                  <a:srgbClr val="ff66ff"/>
                </a:solidFill>
                <a:latin typeface="KyivType Sans Heavy"/>
              </a:rPr>
              <a:t>и, да(=и), или, либ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Группа 3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  <p:grpSp>
        <p:nvGrpSpPr>
          <p:cNvPr id="362" name="Группа 9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63" name="Прямая соединительная линия 10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ая соединительная линия 11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ая соединительная линия 12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422360" y="3294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 запрыгнул на стол и лапой задел ручку и карандаш и они упали и закатились под див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1206360" y="585720"/>
            <a:ext cx="838548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KyivType Sans Heavy"/>
              </a:rPr>
              <a:t>ВАЖНО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Не путайте союзы, соединяющие части предложения, и союзы, соединяющие однородные члены в 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Где вы поставите запятую(ые) в следующем пред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Группа 3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  <p:grpSp>
        <p:nvGrpSpPr>
          <p:cNvPr id="369" name="Группа 9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70" name="Прямая соединительная линия 10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11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Прямая соединительная линия 12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5"/>
          <p:cNvSpPr/>
          <p:nvPr/>
        </p:nvSpPr>
        <p:spPr>
          <a:xfrm>
            <a:off x="1206360" y="585720"/>
            <a:ext cx="871236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KyivType Sans Heavy"/>
              </a:rPr>
              <a:t>Определите, почему не ставится запятая в ССП. Соотнеси цифру и букв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Группа 3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  <p:grpSp>
        <p:nvGrpSpPr>
          <p:cNvPr id="375" name="Группа 9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76" name="Прямая соединительная линия 10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11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12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Box 2"/>
          <p:cNvSpPr/>
          <p:nvPr/>
        </p:nvSpPr>
        <p:spPr>
          <a:xfrm>
            <a:off x="1014480" y="2143080"/>
            <a:ext cx="4151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KyivType Sans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Прогулка в лесу и катание на лод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KyivType Sans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Который теперь час и сколько времени осталось до отхода поез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KyivType Sans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Нужно переписать работу и надо объяснить допущенные в ней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Rectangle 2"/>
          <p:cNvGrpSpPr/>
          <p:nvPr/>
        </p:nvGrpSpPr>
        <p:grpSpPr>
          <a:xfrm>
            <a:off x="5022720" y="1848960"/>
            <a:ext cx="5681880" cy="4903200"/>
            <a:chOff x="5022720" y="1848960"/>
            <a:chExt cx="5681880" cy="4903200"/>
          </a:xfrm>
        </p:grpSpPr>
        <p:pic>
          <p:nvPicPr>
            <p:cNvPr id="381" name="Rectangle 2" descr=""/>
            <p:cNvPicPr/>
            <p:nvPr/>
          </p:nvPicPr>
          <p:blipFill>
            <a:blip r:embed="rId2"/>
            <a:stretch/>
          </p:blipFill>
          <p:spPr>
            <a:xfrm>
              <a:off x="5022720" y="2012400"/>
              <a:ext cx="5681880" cy="45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022720" y="1848960"/>
              <a:ext cx="5680080" cy="49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120" bIns="5112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27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KyivType Sans Heavy"/>
                  <a:ea typeface="Times New Roman"/>
                </a:rPr>
                <a:t>Запятая в сложносочинённом предложении не ставится между двумя вопросительными предложения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KyivType Sans Heavy"/>
                  <a:ea typeface="Times New Roman"/>
                </a:rPr>
                <a:t>Б.</a:t>
              </a:r>
              <a:r>
                <a:rPr b="0" lang="ru-RU" sz="2400" spc="-1" strike="noStrike">
                  <a:solidFill>
                    <a:srgbClr val="000000"/>
                  </a:solidFill>
                  <a:latin typeface="KyivType Sans Heavy"/>
                  <a:ea typeface="Times New Roman"/>
                </a:rPr>
                <a:t> Запятая в сложносочинённом предложении не ставится между двумя назывными предложения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KyivType Sans Heavy"/>
                  <a:ea typeface="Times New Roman"/>
                </a:rPr>
                <a:t>В.</a:t>
              </a:r>
              <a:r>
                <a:rPr b="0" lang="ru-RU" sz="2400" spc="-1" strike="noStrike">
                  <a:solidFill>
                    <a:srgbClr val="000000"/>
                  </a:solidFill>
                  <a:latin typeface="KyivType Sans Heavy"/>
                  <a:ea typeface="Times New Roman"/>
                </a:rPr>
                <a:t> Запятая в сложносочинённом предложении не ставится между двумя безличными предложениями, имеющими синонимичные слова в составе сказуемых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TextBox 19" descr=""/>
          <p:cNvPicPr/>
          <p:nvPr/>
        </p:nvPicPr>
        <p:blipFill>
          <a:blip r:embed="rId3"/>
          <a:stretch/>
        </p:blipFill>
        <p:spPr>
          <a:xfrm>
            <a:off x="1146240" y="5767560"/>
            <a:ext cx="33894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5"/>
          <p:cNvSpPr/>
          <p:nvPr/>
        </p:nvSpPr>
        <p:spPr>
          <a:xfrm>
            <a:off x="1206360" y="585720"/>
            <a:ext cx="8712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KyivType Sans Heavy"/>
              </a:rPr>
              <a:t>Выполните упражнения в учебник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Группа 3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  <p:grpSp>
        <p:nvGrpSpPr>
          <p:cNvPr id="386" name="Группа 9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87" name="Прямая соединительная линия 10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11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12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Rectangle 2"/>
          <p:cNvGrpSpPr/>
          <p:nvPr/>
        </p:nvGrpSpPr>
        <p:grpSpPr>
          <a:xfrm>
            <a:off x="1420920" y="1504800"/>
            <a:ext cx="5681520" cy="525600"/>
            <a:chOff x="1420920" y="1504800"/>
            <a:chExt cx="5681520" cy="525600"/>
          </a:xfrm>
        </p:grpSpPr>
        <p:pic>
          <p:nvPicPr>
            <p:cNvPr id="391" name="Rectangle 2" descr=""/>
            <p:cNvPicPr/>
            <p:nvPr/>
          </p:nvPicPr>
          <p:blipFill>
            <a:blip r:embed="rId2"/>
            <a:stretch/>
          </p:blipFill>
          <p:spPr>
            <a:xfrm>
              <a:off x="1420920" y="1504800"/>
              <a:ext cx="568152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422360" y="1510560"/>
              <a:ext cx="56800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120" bIns="5112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KyivType Sans Heavy"/>
                  <a:ea typeface="Times New Roman"/>
                </a:rPr>
                <a:t>Упражнение 56 (задания 1, 2)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Rectangle 1"/>
          <p:cNvGrpSpPr/>
          <p:nvPr/>
        </p:nvGrpSpPr>
        <p:grpSpPr>
          <a:xfrm>
            <a:off x="1238400" y="3278520"/>
            <a:ext cx="8991360" cy="2769480"/>
            <a:chOff x="1238400" y="3278520"/>
            <a:chExt cx="8991360" cy="2769480"/>
          </a:xfrm>
        </p:grpSpPr>
        <p:pic>
          <p:nvPicPr>
            <p:cNvPr id="394" name="Rectangle 1" descr=""/>
            <p:cNvPicPr/>
            <p:nvPr/>
          </p:nvPicPr>
          <p:blipFill>
            <a:blip r:embed="rId3"/>
            <a:stretch/>
          </p:blipFill>
          <p:spPr>
            <a:xfrm>
              <a:off x="1241280" y="3449520"/>
              <a:ext cx="8986320" cy="24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1238400" y="3278520"/>
              <a:ext cx="8991360" cy="27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120" bIns="5112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KyivType Sans Heavy"/>
                  <a:ea typeface="Times New Roman"/>
                </a:rPr>
                <a:t>(1)Весна в этом году выдалась ранняя и дружная  и в конце марта снега как не бывало. (2)В начале апреля уже вили гнёзда скворцы и летали бабочки. (3)Показалась первая трава и почки на деревьях набухли и раскрылись. (4)У нашего соседа тополь нарядился в мохнатые серёжки и на грядке вовсю цвели подснежник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Прямоугольник 15"/>
          <p:cNvSpPr/>
          <p:nvPr/>
        </p:nvSpPr>
        <p:spPr>
          <a:xfrm>
            <a:off x="1449360" y="2776680"/>
            <a:ext cx="85662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KyivType Sans Heavy"/>
              </a:rPr>
              <a:t>Составьте схемы предложений текс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8"/>
          <p:cNvSpPr/>
          <p:nvPr/>
        </p:nvSpPr>
        <p:spPr>
          <a:xfrm>
            <a:off x="1287360" y="1515960"/>
            <a:ext cx="54140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KyivType Sans Heavy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23"/>
          <p:cNvGrpSpPr/>
          <p:nvPr/>
        </p:nvGrpSpPr>
        <p:grpSpPr>
          <a:xfrm>
            <a:off x="361800" y="360000"/>
            <a:ext cx="676440" cy="398880"/>
            <a:chOff x="361800" y="360000"/>
            <a:chExt cx="676440" cy="398880"/>
          </a:xfrm>
        </p:grpSpPr>
        <p:sp>
          <p:nvSpPr>
            <p:cNvPr id="399" name="Прямая соединительная линия 26"/>
            <p:cNvSpPr/>
            <p:nvPr/>
          </p:nvSpPr>
          <p:spPr>
            <a:xfrm>
              <a:off x="361800" y="558360"/>
              <a:ext cx="676440" cy="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ая соединительная линия 27"/>
            <p:cNvSpPr/>
            <p:nvPr/>
          </p:nvSpPr>
          <p:spPr>
            <a:xfrm flipH="1" flipV="1">
              <a:off x="836640" y="360000"/>
              <a:ext cx="191880" cy="19548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ая соединительная линия 28"/>
            <p:cNvSpPr/>
            <p:nvPr/>
          </p:nvSpPr>
          <p:spPr>
            <a:xfrm flipH="1">
              <a:off x="836640" y="563400"/>
              <a:ext cx="191880" cy="19548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13"/>
          <p:cNvSpPr/>
          <p:nvPr/>
        </p:nvSpPr>
        <p:spPr>
          <a:xfrm>
            <a:off x="1665360" y="2449440"/>
            <a:ext cx="587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Medium"/>
              </a:rPr>
              <a:t>Глава 2, §9 теорию выучить, упражнение 57(задание 2) стр.1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32"/>
          <p:cNvGrpSpPr/>
          <p:nvPr/>
        </p:nvGrpSpPr>
        <p:grpSpPr>
          <a:xfrm>
            <a:off x="9782280" y="1370160"/>
            <a:ext cx="1303200" cy="1825560"/>
            <a:chOff x="9782280" y="1370160"/>
            <a:chExt cx="1303200" cy="1825560"/>
          </a:xfrm>
        </p:grpSpPr>
        <p:sp>
          <p:nvSpPr>
            <p:cNvPr id="404" name="Прямоугольник: усеченные противолежащие углы 33"/>
            <p:cNvSpPr/>
            <p:nvPr/>
          </p:nvSpPr>
          <p:spPr>
            <a:xfrm flipH="1" rot="5400000">
              <a:off x="10085040" y="2195640"/>
              <a:ext cx="1453680" cy="546120"/>
            </a:xfrm>
            <a:custGeom>
              <a:avLst/>
              <a:gdLst/>
              <a:ahLst/>
              <a:rect l="l" t="t" r="r" b="b"/>
              <a:pathLst>
                <a:path w="1248495" h="479958">
                  <a:moveTo>
                    <a:pt x="0" y="0"/>
                  </a:moveTo>
                  <a:lnTo>
                    <a:pt x="1008516" y="0"/>
                  </a:lnTo>
                  <a:lnTo>
                    <a:pt x="1248495" y="239979"/>
                  </a:lnTo>
                  <a:lnTo>
                    <a:pt x="1248495" y="479958"/>
                  </a:lnTo>
                  <a:lnTo>
                    <a:pt x="1248495" y="479958"/>
                  </a:lnTo>
                  <a:lnTo>
                    <a:pt x="239979" y="479958"/>
                  </a:lnTo>
                  <a:lnTo>
                    <a:pt x="0" y="23997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293d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Овал 34"/>
            <p:cNvSpPr/>
            <p:nvPr/>
          </p:nvSpPr>
          <p:spPr>
            <a:xfrm rot="5400000">
              <a:off x="10536480" y="1373400"/>
              <a:ext cx="279360" cy="27288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Прямоугольник 41"/>
            <p:cNvSpPr/>
            <p:nvPr/>
          </p:nvSpPr>
          <p:spPr>
            <a:xfrm rot="5400000">
              <a:off x="10157400" y="1745280"/>
              <a:ext cx="299880" cy="293040"/>
            </a:xfrm>
            <a:prstGeom prst="rect">
              <a:avLst/>
            </a:prstGeom>
            <a:noFill/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Прямоугольник 42"/>
            <p:cNvSpPr/>
            <p:nvPr/>
          </p:nvSpPr>
          <p:spPr>
            <a:xfrm rot="5400000">
              <a:off x="9778680" y="1745280"/>
              <a:ext cx="299880" cy="293040"/>
            </a:xfrm>
            <a:prstGeom prst="rect">
              <a:avLst/>
            </a:prstGeom>
            <a:noFill/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Jo Rhys-Jones</dc:creator>
  <dc:description>Macro created by quiz@ppt-user.de  Hans Werner Hofmann / Ute Simon</dc:description>
  <cp:keywords>Search Easter Eggs with Drag&amp;Drop-Makro</cp:keywords>
  <dc:language>en-US</dc:language>
  <cp:lastModifiedBy>1</cp:lastModifiedBy>
  <dcterms:modified xsi:type="dcterms:W3CDTF">2022-11-13T08:59:15Z</dcterms:modified>
  <cp:revision>247</cp:revision>
  <dc:subject/>
  <dc:title>Drag&amp;Drop Macro: Easter Eggs</dc:title>
</cp:coreProperties>
</file>