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204700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449280" y="685440"/>
            <a:ext cx="59594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B40C-7617-4352-8374-7FD51436A01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449280" y="685800"/>
            <a:ext cx="595944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76A8-E8F4-483A-9B24-6E7FDDFA9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866-7130-4F7D-880B-E7D4A84E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893-7429-4645-87FA-AF0043F7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515-B43F-4C1F-B89B-874D26AA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01F-1185-4185-A45E-7160621A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6E4A-F8F1-49C8-B05D-48D50D4D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0F29-CBCA-4E28-9B61-F3ED4201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C0B5-02E2-483B-BE39-00646439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D8A5-0DB7-4357-8C10-F2D73476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90BF-E1EF-4ED7-A6F5-E7D7F964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60F6-9CDE-47B4-8EBB-6FD6CAAC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7D40-2447-4DE0-86AF-4654D234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2B9-AEE7-4003-84D2-0A7741BB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7D36-5DF2-4611-88B8-029E5E6C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599A-C09F-4EF8-A7AB-EAA360A7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4592-F657-4318-8A54-3FE62BE5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FE36-C49C-41BE-BEFA-E3F80C65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2A65-ACFA-4A7A-9046-535C60FF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1C08-246E-467C-B478-BBF39DA9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ABDDE-FC55-4848-913C-A354C05C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F4D0-0994-4F0E-ACA1-00F680A9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D546-A164-40E6-AC9A-7866C98F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A284D-BA92-4448-AD34-9E4B8651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355-B4EA-4714-A5F1-26B46725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B304-BDE5-4B7C-8DCB-154F3212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0747-4D24-441C-88B0-FB5CE874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521C-79F1-4B99-9F9A-99B2A1D2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109B2-2413-48FB-A5DD-BDC8DC1B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AA52E-6DCE-4F3A-A14F-3094CB9E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9FE1-191F-451D-A1A6-3F0F767B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3DAF-6B5D-42B6-AAF8-03EFC4CC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53380-2AD0-43E8-87BE-FF09D983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5D40-472A-4027-90E0-8284CA5B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B45C-4135-43CB-94A3-134AA196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C15-17B0-4782-8403-E6B7DE0B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E27F2-E9E6-4053-B4D6-35223707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DB959-04BF-4610-A7FB-997B7A6A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65470-1A95-4457-94D8-A2FC6629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C3216-8A3C-4407-9C18-4FE3D799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20700-0918-4BB3-86D4-3A165EFB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2151-29B3-4253-8598-2427AA58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9F6C-2D07-4BD7-ADE0-F408EBD8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CEC9-6E4F-488C-A9BE-E400BDC0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928CF-2363-44A6-90C6-19D468AD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B96E2-6CB1-4D4B-BCF0-D1BC4B72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6E0-9443-4432-B7A7-879FF8F6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99E9B-C299-40B6-A241-F6EA74BD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5DFD4-AD6A-4242-85F8-74D6F288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84A2-C041-47F9-B13D-835B66C5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67149-BE32-4CD0-B3BE-8D88E44F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95C82-6F8E-4ED5-A14A-B84880E5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77FE8-0AD3-44E5-8645-F447D97F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BD3E6-E86E-4897-9931-747483EC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4C30C-EC4F-4B78-99F3-A8025C4A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7B495-9A90-4337-9EAF-C5F8E5F4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9D157-600B-466B-BDD1-C24F7FFA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359-2DCE-40A2-81FF-FD685178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57FDF-2251-451D-9006-8BAD2B6E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21E6F-D17E-4CF8-93C3-FD1D186B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2FD00-1C0E-4037-A90D-779EC6DD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987ED-B4AC-498B-AB1E-B8329AC7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767D5-F917-48FF-99B7-EEAE8A75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A4366-63FE-4852-9164-008C2D8C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F90E-A5B5-4516-8A20-5173CA68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54AC9-0713-4752-8A72-5447252C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A5E6D-AD5D-4DC8-B1E7-17DCBE7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EF74D-844D-4F31-9923-81C4E6E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3DB-D010-49CC-91C6-E9DEFF0A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F5C4E-161A-42A5-B58B-F24B6A60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472B0-D0FE-499F-9794-9FF92ED9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DE5C5-1B53-4435-A794-34C26E11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B3435-65BA-4B3A-9B46-3409C735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69509-73DA-4CE8-A30D-9353C90C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3F82A-010E-45CB-9125-40FF4C5E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8E44D-6823-4DA0-BCD9-B9209E49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A84B7-DB6F-4D1C-BA3F-73161DE2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8DD53-F34D-4F09-9227-D956303B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5CCE2-ADCE-4C46-AC5E-CFB09EB8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19F-A202-41C4-BEE2-8AD7BD11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D72FD-2F00-484D-8E23-D51CC31C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EFE38-2700-4271-B329-39BBDB19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B6D6E-97B7-4103-A72B-8A9BCD0C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1311F-7F72-449D-879F-3B8A8188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5D256-0253-4ABD-B13F-A40C22E6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3F275-8E90-4E13-B6AA-E7327925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7FB99-A0D7-482D-A0A5-0EA98004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6818A-0C44-43C3-931C-17ECC942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40F47-C1BE-4796-BDC3-C521457D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93C9C-4657-4D33-9074-CB458923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511-6A4A-4B3A-82C2-A2A47A54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09480" y="280800"/>
            <a:ext cx="109857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AF70A-7786-4CE8-BE7B-65C5C929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36F18-0BAC-4182-A126-F288FA8B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E23E5-8469-43F3-90B6-BD1DB5A2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9C8A2-21F7-4BCE-A05C-F894DB19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480" y="4058640"/>
            <a:ext cx="10985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2CF02-217C-4260-BA16-33FEBB5F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8800" y="163836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238800" y="4058640"/>
            <a:ext cx="536076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80C2-7805-4B5B-B3C2-D6A21E27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2360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038080" y="163836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4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432360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8038080" y="4058640"/>
            <a:ext cx="3537000" cy="2210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6AC60-5A72-44A8-A86C-8CE6E20F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70240" y="6394320"/>
            <a:ext cx="386424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469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E36D-0A91-45F4-BE76-497AD1D9C091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70240" y="6394320"/>
            <a:ext cx="386424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469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9289-093B-4B0C-9F10-97673015142B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70240" y="6394320"/>
            <a:ext cx="386424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469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9BCC-8120-4F62-80F6-F55B6F9AE29B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70240" y="6394320"/>
            <a:ext cx="386424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469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3669-9BFC-4F42-832D-CE07E947F807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halloween"/>
          <p:cNvPicPr/>
          <p:nvPr/>
        </p:nvPicPr>
        <p:blipFill>
          <a:blip r:embed="rId2"/>
          <a:stretch/>
        </p:blipFill>
        <p:spPr>
          <a:xfrm>
            <a:off x="-14400" y="-11160"/>
            <a:ext cx="12233520" cy="704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091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4170240" y="6394320"/>
            <a:ext cx="386424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8746920" y="6394320"/>
            <a:ext cx="2847960" cy="4874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4BFE-6D50-44BE-B17A-72446718AA6F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" descr="halloween"/>
          <p:cNvPicPr/>
          <p:nvPr/>
        </p:nvPicPr>
        <p:blipFill>
          <a:blip r:embed="rId2"/>
          <a:stretch/>
        </p:blipFill>
        <p:spPr>
          <a:xfrm>
            <a:off x="-14400" y="-11160"/>
            <a:ext cx="12233520" cy="704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80800"/>
            <a:ext cx="10985760" cy="11696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09480" y="1638360"/>
            <a:ext cx="10985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3193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12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93880" indent="-255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06520" indent="-255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609120" y="6506640"/>
            <a:ext cx="2847960" cy="3747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4170240" y="6506640"/>
            <a:ext cx="3864240" cy="3747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8746920" y="6506640"/>
            <a:ext cx="2847960" cy="3747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A64E-58BD-4E35-A3AC-B2D40B57B192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07840" y="701280"/>
            <a:ext cx="9458280" cy="7491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707840" y="1638360"/>
            <a:ext cx="7016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77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1" marL="831960" indent="-319320">
              <a:spcBef>
                <a:spcPts val="774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2" marL="128124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3" marL="179388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4" marL="230652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5" marL="230652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6" marL="230652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609120" y="6582960"/>
            <a:ext cx="2847960" cy="3301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4170240" y="6582960"/>
            <a:ext cx="3864240" cy="3301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8746920" y="6582960"/>
            <a:ext cx="2847960" cy="3301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AB04-A8D1-4DF9-8BF3-19B11551057A}" type="slidenum">
              <a:rPr b="0" lang="ru-RU" sz="13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07840" y="701280"/>
            <a:ext cx="9458280" cy="7491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707840" y="1638360"/>
            <a:ext cx="7016760" cy="46339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84120" indent="-384120">
              <a:spcBef>
                <a:spcPts val="77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1" marL="831960" indent="-319320">
              <a:spcBef>
                <a:spcPts val="774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2" marL="128124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3" marL="179388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4" marL="230652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5" marL="230652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lvl="6" marL="2306520" indent="-255600">
              <a:spcBef>
                <a:spcPts val="774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609120" y="6582960"/>
            <a:ext cx="2847960" cy="3301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4170240" y="6582960"/>
            <a:ext cx="3864240" cy="3301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8746920" y="6582960"/>
            <a:ext cx="2847960" cy="3301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163E-5E0A-4D15-83EC-BE57298A14BD}" type="slidenum">
              <a:rPr b="0" lang="ru-RU" sz="13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Группа 10" descr=""/>
          <p:cNvPicPr/>
          <p:nvPr/>
        </p:nvPicPr>
        <p:blipFill>
          <a:blip r:embed="rId1"/>
          <a:stretch/>
        </p:blipFill>
        <p:spPr>
          <a:xfrm>
            <a:off x="9753480" y="1341360"/>
            <a:ext cx="1322640" cy="1067040"/>
          </a:xfrm>
          <a:prstGeom prst="rect">
            <a:avLst/>
          </a:prstGeom>
          <a:ln w="0">
            <a:noFill/>
          </a:ln>
        </p:spPr>
      </p:pic>
      <p:grpSp>
        <p:nvGrpSpPr>
          <p:cNvPr id="338" name="Группа 14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39" name="Прямая соединительная линия 15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293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16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293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17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293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22"/>
          <p:cNvSpPr/>
          <p:nvPr/>
        </p:nvSpPr>
        <p:spPr>
          <a:xfrm>
            <a:off x="2286000" y="242100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KyivType Sans Heavy"/>
              </a:rPr>
              <a:t>Пунктуация в сложносочинённом предлож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2"/>
          <p:cNvSpPr/>
          <p:nvPr/>
        </p:nvSpPr>
        <p:spPr>
          <a:xfrm>
            <a:off x="1278000" y="1206360"/>
            <a:ext cx="8953560" cy="586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Сколько превосходных слов существует в русском языке для так называемых небесных явлений! Летние грозы проходят над землей и «заваливаются» за горизонт. В народе любят говорить, что туча не прошла, а свал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Молнии то с размаху бьют в землю прямым ударом, то полыхают на черных тучах, как вырванные с корнем ветвистые дере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Радуги сверкают над дымной, сырой далью. Гром перекатывается, грохочет, ворчит, рокочет, встряхивает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Недавно в деревне один маленький мальчик пришел во время грозы ко мне в комнату и, глядя на меня большими от восторга глазами, сказ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Пойдем смотреть гро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К.Паустовск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«Золотая роз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Группа 8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45" name="Прямая соединительная линия 9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ая соединительная линия 10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11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12"/>
          <p:cNvSpPr/>
          <p:nvPr/>
        </p:nvSpPr>
        <p:spPr>
          <a:xfrm>
            <a:off x="1266840" y="257040"/>
            <a:ext cx="107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3df4"/>
                </a:solidFill>
                <a:latin typeface="KyivType Sans Heavy"/>
              </a:rPr>
              <a:t>Задани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ишите из данного текста ряды однородных членов, соединенных союзами, определите, к какой группе относится тот или иной сою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3"/>
          <p:cNvSpPr/>
          <p:nvPr/>
        </p:nvSpPr>
        <p:spPr>
          <a:xfrm>
            <a:off x="1709640" y="2286000"/>
            <a:ext cx="8064720" cy="156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проходят и «заваливаются» (соединительны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не прошла, а свалилась (противите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то бьют, то полыхают (разделите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пришел и сказал (соединительный)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Группа 24" descr=""/>
          <p:cNvPicPr/>
          <p:nvPr/>
        </p:nvPicPr>
        <p:blipFill>
          <a:blip r:embed="rId1"/>
          <a:stretch/>
        </p:blipFill>
        <p:spPr>
          <a:xfrm>
            <a:off x="10229760" y="1285920"/>
            <a:ext cx="13096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1008000" y="103320"/>
            <a:ext cx="10531440" cy="65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3df4"/>
                </a:solidFill>
                <a:latin typeface="KyivType Sans Heavy"/>
              </a:rPr>
              <a:t>Задани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ишите из данного текста все ССП, докажите (графически, схематически, словесно...) правильность вашего вы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1008000" y="768240"/>
            <a:ext cx="9223560" cy="65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 так оно всегда почему-то получалось, что не успевал Григорий Иванович прислонить голову к подушке, портфелю или просто к какому-либо пригорку в чистом поле, как ему обязательно начинал сниться со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вдруг причудится Григорию Ивановичу река, широкая и раздольная в весеннем разливе, то вдруг увидит он во сне небо, то привидятся ему леса дремучие и темные... Но чаще всего снится Григорию Ивановичу дорога. Как будто идет он по ней, перекинув сапоги через плечо, идет, помахивает хворостинкой и подбадривает себя, успокаивает. Вот, мол, дойду до того поворота, а там уж отдохну, огляжусь вокруг, там благодать, забвение и отрада. Но дойдет Григорий Иванович до поворота, а благодати нет, под ногами камень да песчаный пепел, а новый поворот где-то далеко за горизонтом. Вздохнет Григорий Иванович, поправит на плече сапоги и идет дальше... И так без конца, от поворота до поворота! Идет Григорий Иванович, не падает духом, надеетс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И.Евсеен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овесть «Петушиные двор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Группа 3" descr=""/>
          <p:cNvPicPr/>
          <p:nvPr/>
        </p:nvPicPr>
        <p:blipFill>
          <a:blip r:embed="rId1"/>
          <a:stretch/>
        </p:blipFill>
        <p:spPr>
          <a:xfrm>
            <a:off x="10229760" y="1285920"/>
            <a:ext cx="1309680" cy="17017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8"/>
          <p:cNvSpPr/>
          <p:nvPr/>
        </p:nvSpPr>
        <p:spPr>
          <a:xfrm>
            <a:off x="1008000" y="1927080"/>
            <a:ext cx="9223560" cy="302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вдруг причудится Григорию Ивановичу река, широкая и раздольная в весеннем разливе, то вдруг увидит он во сне небо, то привидятся ему леса дремучие и темные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, мол, дойду до того поворота, а там уж отдохну, огляжусь вокруг, там благодать, забвение и отр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дойдет Григорий Иванович до поворота, а благодати нет, под ногами камень да песчаный пепел, а новый поворот где-то далеко за горизон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Группа 9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56" name="Прямая соединительная линия 10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11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12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036440" y="1927080"/>
            <a:ext cx="9313560" cy="4392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361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yivType Sans Heavy"/>
              </a:rPr>
              <a:t>Запятая </a:t>
            </a:r>
            <a:r>
              <a:rPr b="1" lang="ru-RU" sz="2800" spc="-1" strike="noStrike">
                <a:solidFill>
                  <a:srgbClr val="000000"/>
                </a:solidFill>
                <a:latin typeface="KyivType Sans Heavy"/>
              </a:rPr>
              <a:t>не ставится </a:t>
            </a:r>
            <a:r>
              <a:rPr b="0" lang="ru-RU" sz="2800" spc="-1" strike="noStrike">
                <a:solidFill>
                  <a:srgbClr val="000000"/>
                </a:solidFill>
                <a:latin typeface="KyivType Sans Heavy"/>
              </a:rPr>
              <a:t>между частями ССП, если есть общий второстепенный член (ОВЧ) или общая придаточная ч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yivType Sans Heavy"/>
              </a:rPr>
              <a:t>С утра ласточки летали низко над землёй да надвигалась серая туч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yivType Sans Heavy"/>
              </a:rPr>
              <a:t>Пошел дождь и уже засверкали молнии, когда мы достигли наконец бере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206360" y="585720"/>
            <a:ext cx="838548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KyivType Sans Heavy"/>
              </a:rPr>
              <a:t>«Опасные» сочинительные союзы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66ff"/>
                </a:solidFill>
                <a:latin typeface="KyivType Sans Heavy"/>
              </a:rPr>
              <a:t>	</a:t>
            </a:r>
            <a:r>
              <a:rPr b="1" lang="ru-RU" sz="3100" spc="-1" strike="noStrike">
                <a:solidFill>
                  <a:srgbClr val="ff66ff"/>
                </a:solidFill>
                <a:latin typeface="KyivType Sans Heavy"/>
              </a:rPr>
              <a:t>	</a:t>
            </a:r>
            <a:r>
              <a:rPr b="1" lang="ru-RU" sz="3100" spc="-1" strike="noStrike">
                <a:solidFill>
                  <a:srgbClr val="ff66ff"/>
                </a:solidFill>
                <a:latin typeface="KyivType Sans Heavy"/>
              </a:rPr>
              <a:t>и, да(=и), или, либ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Группа 3" descr=""/>
          <p:cNvPicPr/>
          <p:nvPr/>
        </p:nvPicPr>
        <p:blipFill>
          <a:blip r:embed="rId1"/>
          <a:stretch/>
        </p:blipFill>
        <p:spPr>
          <a:xfrm>
            <a:off x="10229760" y="1285920"/>
            <a:ext cx="1309680" cy="1701720"/>
          </a:xfrm>
          <a:prstGeom prst="rect">
            <a:avLst/>
          </a:prstGeom>
          <a:ln w="0">
            <a:noFill/>
          </a:ln>
        </p:spPr>
      </p:pic>
      <p:grpSp>
        <p:nvGrpSpPr>
          <p:cNvPr id="362" name="Группа 9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63" name="Прямая соединительная линия 10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ая соединительная линия 11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ая соединительная линия 12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422360" y="3294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 запрыгнул на стол и лапой задел ручку и карандаш и они упали и закатились под див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1206360" y="585720"/>
            <a:ext cx="838548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KyivType Sans Heavy"/>
              </a:rPr>
              <a:t>ВАЖНО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Не путайте союзы, соединяющие части предложения, и союзы, соединяющие однородные члены в 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Где вы поставите запятую(ые) в следующем предл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Группа 3" descr=""/>
          <p:cNvPicPr/>
          <p:nvPr/>
        </p:nvPicPr>
        <p:blipFill>
          <a:blip r:embed="rId1"/>
          <a:stretch/>
        </p:blipFill>
        <p:spPr>
          <a:xfrm>
            <a:off x="10229760" y="1285920"/>
            <a:ext cx="1309680" cy="1701720"/>
          </a:xfrm>
          <a:prstGeom prst="rect">
            <a:avLst/>
          </a:prstGeom>
          <a:ln w="0">
            <a:noFill/>
          </a:ln>
        </p:spPr>
      </p:pic>
      <p:grpSp>
        <p:nvGrpSpPr>
          <p:cNvPr id="369" name="Группа 9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70" name="Прямая соединительная линия 10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11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Прямая соединительная линия 12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5"/>
          <p:cNvSpPr/>
          <p:nvPr/>
        </p:nvSpPr>
        <p:spPr>
          <a:xfrm>
            <a:off x="1206360" y="585720"/>
            <a:ext cx="871236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KyivType Sans Heavy"/>
              </a:rPr>
              <a:t>Определите, почему не ставится запятая в ССП. Соотнеси цифру и букв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Группа 3" descr=""/>
          <p:cNvPicPr/>
          <p:nvPr/>
        </p:nvPicPr>
        <p:blipFill>
          <a:blip r:embed="rId1"/>
          <a:stretch/>
        </p:blipFill>
        <p:spPr>
          <a:xfrm>
            <a:off x="10229760" y="1285920"/>
            <a:ext cx="1309680" cy="1701720"/>
          </a:xfrm>
          <a:prstGeom prst="rect">
            <a:avLst/>
          </a:prstGeom>
          <a:ln w="0">
            <a:noFill/>
          </a:ln>
        </p:spPr>
      </p:pic>
      <p:grpSp>
        <p:nvGrpSpPr>
          <p:cNvPr id="375" name="Группа 9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76" name="Прямая соединительная линия 10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11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12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Box 2"/>
          <p:cNvSpPr/>
          <p:nvPr/>
        </p:nvSpPr>
        <p:spPr>
          <a:xfrm>
            <a:off x="1014480" y="2143080"/>
            <a:ext cx="4151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KyivType Sans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Прогулка в лесу и катание на лод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KyivType Sans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Который теперь час и сколько времени осталось до отхода поез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KyivType Sans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Heavy"/>
              </a:rPr>
              <a:t>Нужно переписать работу и надо объяснить допущенные в ней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Rectangle 2"/>
          <p:cNvGrpSpPr/>
          <p:nvPr/>
        </p:nvGrpSpPr>
        <p:grpSpPr>
          <a:xfrm>
            <a:off x="5022720" y="1848960"/>
            <a:ext cx="5681880" cy="4903200"/>
            <a:chOff x="5022720" y="1848960"/>
            <a:chExt cx="5681880" cy="4903200"/>
          </a:xfrm>
        </p:grpSpPr>
        <p:pic>
          <p:nvPicPr>
            <p:cNvPr id="381" name="Rectangle 2" descr=""/>
            <p:cNvPicPr/>
            <p:nvPr/>
          </p:nvPicPr>
          <p:blipFill>
            <a:blip r:embed="rId2"/>
            <a:stretch/>
          </p:blipFill>
          <p:spPr>
            <a:xfrm>
              <a:off x="5022720" y="2012400"/>
              <a:ext cx="5681880" cy="45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022720" y="1848960"/>
              <a:ext cx="5680080" cy="49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120" bIns="5112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27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KyivType Sans Heavy"/>
                  <a:ea typeface="Times New Roman"/>
                </a:rPr>
                <a:t>Запятая в сложносочинённом предложении не ставится между двумя вопросительными предложения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KyivType Sans Heavy"/>
                  <a:ea typeface="Times New Roman"/>
                </a:rPr>
                <a:t>Б.</a:t>
              </a:r>
              <a:r>
                <a:rPr b="0" lang="ru-RU" sz="2400" spc="-1" strike="noStrike">
                  <a:solidFill>
                    <a:srgbClr val="000000"/>
                  </a:solidFill>
                  <a:latin typeface="KyivType Sans Heavy"/>
                  <a:ea typeface="Times New Roman"/>
                </a:rPr>
                <a:t> Запятая в сложносочинённом предложении не ставится между двумя назывными предложения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ff"/>
                  </a:solidFill>
                  <a:latin typeface="KyivType Sans Heavy"/>
                  <a:ea typeface="Times New Roman"/>
                </a:rPr>
                <a:t>В.</a:t>
              </a:r>
              <a:r>
                <a:rPr b="0" lang="ru-RU" sz="2400" spc="-1" strike="noStrike">
                  <a:solidFill>
                    <a:srgbClr val="000000"/>
                  </a:solidFill>
                  <a:latin typeface="KyivType Sans Heavy"/>
                  <a:ea typeface="Times New Roman"/>
                </a:rPr>
                <a:t> Запятая в сложносочинённом предложении не ставится между двумя безличными предложениями, имеющими синонимичные слова в составе сказуемых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TextBox 19" descr=""/>
          <p:cNvPicPr/>
          <p:nvPr/>
        </p:nvPicPr>
        <p:blipFill>
          <a:blip r:embed="rId3"/>
          <a:stretch/>
        </p:blipFill>
        <p:spPr>
          <a:xfrm>
            <a:off x="1146240" y="5767560"/>
            <a:ext cx="33894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5"/>
          <p:cNvSpPr/>
          <p:nvPr/>
        </p:nvSpPr>
        <p:spPr>
          <a:xfrm>
            <a:off x="1206360" y="585720"/>
            <a:ext cx="8712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KyivType Sans Heavy"/>
              </a:rPr>
              <a:t>Выполните упражнения в учебник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Группа 3" descr=""/>
          <p:cNvPicPr/>
          <p:nvPr/>
        </p:nvPicPr>
        <p:blipFill>
          <a:blip r:embed="rId1"/>
          <a:stretch/>
        </p:blipFill>
        <p:spPr>
          <a:xfrm>
            <a:off x="10229760" y="1285920"/>
            <a:ext cx="1309680" cy="1701720"/>
          </a:xfrm>
          <a:prstGeom prst="rect">
            <a:avLst/>
          </a:prstGeom>
          <a:ln w="0">
            <a:noFill/>
          </a:ln>
        </p:spPr>
      </p:pic>
      <p:grpSp>
        <p:nvGrpSpPr>
          <p:cNvPr id="386" name="Группа 9"/>
          <p:cNvGrpSpPr/>
          <p:nvPr/>
        </p:nvGrpSpPr>
        <p:grpSpPr>
          <a:xfrm>
            <a:off x="361800" y="351000"/>
            <a:ext cx="675000" cy="390240"/>
            <a:chOff x="361800" y="351000"/>
            <a:chExt cx="675000" cy="390240"/>
          </a:xfrm>
        </p:grpSpPr>
        <p:sp>
          <p:nvSpPr>
            <p:cNvPr id="387" name="Прямая соединительная линия 10"/>
            <p:cNvSpPr/>
            <p:nvPr/>
          </p:nvSpPr>
          <p:spPr>
            <a:xfrm>
              <a:off x="361800" y="545040"/>
              <a:ext cx="675000" cy="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11"/>
            <p:cNvSpPr/>
            <p:nvPr/>
          </p:nvSpPr>
          <p:spPr>
            <a:xfrm flipH="1" flipV="1">
              <a:off x="835920" y="35100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12"/>
            <p:cNvSpPr/>
            <p:nvPr/>
          </p:nvSpPr>
          <p:spPr>
            <a:xfrm flipH="1">
              <a:off x="835920" y="549720"/>
              <a:ext cx="191520" cy="191520"/>
            </a:xfrm>
            <a:prstGeom prst="line">
              <a:avLst/>
            </a:prstGeom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Rectangle 2"/>
          <p:cNvGrpSpPr/>
          <p:nvPr/>
        </p:nvGrpSpPr>
        <p:grpSpPr>
          <a:xfrm>
            <a:off x="1420920" y="1504800"/>
            <a:ext cx="5681520" cy="525600"/>
            <a:chOff x="1420920" y="1504800"/>
            <a:chExt cx="5681520" cy="525600"/>
          </a:xfrm>
        </p:grpSpPr>
        <p:pic>
          <p:nvPicPr>
            <p:cNvPr id="391" name="Rectangle 2" descr=""/>
            <p:cNvPicPr/>
            <p:nvPr/>
          </p:nvPicPr>
          <p:blipFill>
            <a:blip r:embed="rId2"/>
            <a:stretch/>
          </p:blipFill>
          <p:spPr>
            <a:xfrm>
              <a:off x="1420920" y="1504800"/>
              <a:ext cx="568152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1422360" y="1510560"/>
              <a:ext cx="56800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120" bIns="5112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KyivType Sans Heavy"/>
                  <a:ea typeface="Times New Roman"/>
                </a:rPr>
                <a:t>Упражнение 56 (задания 1, 2)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Rectangle 1"/>
          <p:cNvGrpSpPr/>
          <p:nvPr/>
        </p:nvGrpSpPr>
        <p:grpSpPr>
          <a:xfrm>
            <a:off x="1238400" y="3278520"/>
            <a:ext cx="8991360" cy="2769480"/>
            <a:chOff x="1238400" y="3278520"/>
            <a:chExt cx="8991360" cy="2769480"/>
          </a:xfrm>
        </p:grpSpPr>
        <p:pic>
          <p:nvPicPr>
            <p:cNvPr id="394" name="Rectangle 1" descr=""/>
            <p:cNvPicPr/>
            <p:nvPr/>
          </p:nvPicPr>
          <p:blipFill>
            <a:blip r:embed="rId3"/>
            <a:stretch/>
          </p:blipFill>
          <p:spPr>
            <a:xfrm>
              <a:off x="1241280" y="3449520"/>
              <a:ext cx="8986320" cy="24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1238400" y="3278520"/>
              <a:ext cx="8991360" cy="27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120" bIns="5112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KyivType Sans Heavy"/>
                  <a:ea typeface="Times New Roman"/>
                </a:rPr>
                <a:t>(1)Весна в этом году выдалась ранняя и дружная  и в конце марта снега как не бывало. (2)В начале апреля уже вили гнёзда скворцы и летали бабочки. (3)Показалась первая трава и почки на деревьях набухли и раскрылись. (4)У нашего соседа тополь нарядился в мохнатые серёжки и на грядке вовсю цвели подснежник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Прямоугольник 15"/>
          <p:cNvSpPr/>
          <p:nvPr/>
        </p:nvSpPr>
        <p:spPr>
          <a:xfrm>
            <a:off x="1449360" y="2776680"/>
            <a:ext cx="85662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KyivType Sans Heavy"/>
              </a:rPr>
              <a:t>Составьте схемы предложений текс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8"/>
          <p:cNvSpPr/>
          <p:nvPr/>
        </p:nvSpPr>
        <p:spPr>
          <a:xfrm>
            <a:off x="1287360" y="1515960"/>
            <a:ext cx="54140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KyivType Sans Heavy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23"/>
          <p:cNvGrpSpPr/>
          <p:nvPr/>
        </p:nvGrpSpPr>
        <p:grpSpPr>
          <a:xfrm>
            <a:off x="361800" y="360000"/>
            <a:ext cx="676440" cy="398880"/>
            <a:chOff x="361800" y="360000"/>
            <a:chExt cx="676440" cy="398880"/>
          </a:xfrm>
        </p:grpSpPr>
        <p:sp>
          <p:nvSpPr>
            <p:cNvPr id="399" name="Прямая соединительная линия 26"/>
            <p:cNvSpPr/>
            <p:nvPr/>
          </p:nvSpPr>
          <p:spPr>
            <a:xfrm>
              <a:off x="361800" y="558360"/>
              <a:ext cx="676440" cy="0"/>
            </a:xfrm>
            <a:prstGeom prst="line">
              <a:avLst/>
            </a:prstGeom>
            <a:ln w="28440">
              <a:solidFill>
                <a:srgbClr val="293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ая соединительная линия 27"/>
            <p:cNvSpPr/>
            <p:nvPr/>
          </p:nvSpPr>
          <p:spPr>
            <a:xfrm flipH="1" flipV="1">
              <a:off x="836640" y="360000"/>
              <a:ext cx="191880" cy="195480"/>
            </a:xfrm>
            <a:prstGeom prst="line">
              <a:avLst/>
            </a:prstGeom>
            <a:ln w="28440">
              <a:solidFill>
                <a:srgbClr val="293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ая соединительная линия 28"/>
            <p:cNvSpPr/>
            <p:nvPr/>
          </p:nvSpPr>
          <p:spPr>
            <a:xfrm flipH="1">
              <a:off x="836640" y="563400"/>
              <a:ext cx="191880" cy="195480"/>
            </a:xfrm>
            <a:prstGeom prst="line">
              <a:avLst/>
            </a:prstGeom>
            <a:ln w="28440">
              <a:solidFill>
                <a:srgbClr val="293d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13"/>
          <p:cNvSpPr/>
          <p:nvPr/>
        </p:nvSpPr>
        <p:spPr>
          <a:xfrm>
            <a:off x="1665360" y="2449440"/>
            <a:ext cx="587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yivType Sans Medium"/>
              </a:rPr>
              <a:t>Глава 2, §9 теорию выучить, упражнение 57(задание 2) стр.1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32"/>
          <p:cNvGrpSpPr/>
          <p:nvPr/>
        </p:nvGrpSpPr>
        <p:grpSpPr>
          <a:xfrm>
            <a:off x="9782280" y="1370160"/>
            <a:ext cx="1303200" cy="1825560"/>
            <a:chOff x="9782280" y="1370160"/>
            <a:chExt cx="1303200" cy="1825560"/>
          </a:xfrm>
        </p:grpSpPr>
        <p:sp>
          <p:nvSpPr>
            <p:cNvPr id="404" name="Прямоугольник: усеченные противолежащие углы 33"/>
            <p:cNvSpPr/>
            <p:nvPr/>
          </p:nvSpPr>
          <p:spPr>
            <a:xfrm flipH="1" rot="5400000">
              <a:off x="10085040" y="2195640"/>
              <a:ext cx="1453680" cy="546120"/>
            </a:xfrm>
            <a:custGeom>
              <a:avLst/>
              <a:gdLst/>
              <a:ahLst/>
              <a:rect l="l" t="t" r="r" b="b"/>
              <a:pathLst>
                <a:path w="1248495" h="479958">
                  <a:moveTo>
                    <a:pt x="0" y="0"/>
                  </a:moveTo>
                  <a:lnTo>
                    <a:pt x="1008516" y="0"/>
                  </a:lnTo>
                  <a:lnTo>
                    <a:pt x="1248495" y="239979"/>
                  </a:lnTo>
                  <a:lnTo>
                    <a:pt x="1248495" y="479958"/>
                  </a:lnTo>
                  <a:lnTo>
                    <a:pt x="1248495" y="479958"/>
                  </a:lnTo>
                  <a:lnTo>
                    <a:pt x="239979" y="479958"/>
                  </a:lnTo>
                  <a:lnTo>
                    <a:pt x="0" y="23997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293d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Овал 34"/>
            <p:cNvSpPr/>
            <p:nvPr/>
          </p:nvSpPr>
          <p:spPr>
            <a:xfrm rot="5400000">
              <a:off x="10536480" y="1373400"/>
              <a:ext cx="279360" cy="27288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Прямоугольник 41"/>
            <p:cNvSpPr/>
            <p:nvPr/>
          </p:nvSpPr>
          <p:spPr>
            <a:xfrm rot="5400000">
              <a:off x="10157400" y="1745280"/>
              <a:ext cx="299880" cy="293040"/>
            </a:xfrm>
            <a:prstGeom prst="rect">
              <a:avLst/>
            </a:prstGeom>
            <a:noFill/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Прямоугольник 42"/>
            <p:cNvSpPr/>
            <p:nvPr/>
          </p:nvSpPr>
          <p:spPr>
            <a:xfrm rot="5400000">
              <a:off x="9778680" y="1745280"/>
              <a:ext cx="299880" cy="293040"/>
            </a:xfrm>
            <a:prstGeom prst="rect">
              <a:avLst/>
            </a:prstGeom>
            <a:noFill/>
            <a:ln w="28440">
              <a:solidFill>
                <a:srgbClr val="00f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Jo Rhys-Jones</dc:creator>
  <dc:description>Macro created by quiz@ppt-user.de  Hans Werner Hofmann / Ute Simon</dc:description>
  <cp:keywords>Search Easter Eggs with Drag&amp;Drop-Makro</cp:keywords>
  <dc:language>en-US</dc:language>
  <cp:lastModifiedBy>1</cp:lastModifiedBy>
  <dcterms:modified xsi:type="dcterms:W3CDTF">2022-11-13T08:59:15Z</dcterms:modified>
  <cp:revision>247</cp:revision>
  <dc:subject/>
  <dc:title>Drag&amp;Drop Macro: Easter Eggs</dc:title>
</cp:coreProperties>
</file>