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4B8-9A79-46F6-9A9F-D5394896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CDF-9393-4133-BBBF-509E568B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1D0-0F13-4C2F-96E0-D5BD2DA6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CB-DC0A-4DF0-AF55-D1F3C1D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8C35-589D-4698-B391-AE7D2199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84CB-6EB2-433F-B665-98DF953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ABA7-0303-4829-9C20-E882768D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A547-1937-4739-B477-5F22B2D7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6849-272F-4AEF-A4A9-6C3E588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132-FA9C-4621-9E7E-602BEA6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DB0-F4D1-474E-8D9D-5A8A7B8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5D8-FC0B-41E9-88F8-18CC9AD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6156-46DD-4340-91F3-5CF7E8B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20F-8579-4893-A92D-5421B59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DB3C-C21A-4147-B360-AB24A18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3B0-6F4E-4E10-BFEE-23B99825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52C-4B04-4E56-9A54-8770B412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66D-2085-4C11-A79D-0BB1DE8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62B-1AFA-4BED-97E9-45D7E4C4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532-9B2E-41C4-BE62-3A2C20C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469-C75D-4648-839A-BCE8608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CC0-E9FC-4520-BD55-126BDA1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F3D-FBF3-4B1D-B5CC-5B6BDDE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260-8CDB-4C79-9498-D285888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364-55DB-421C-9052-E1B34F978B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40C-FD3F-42B0-AD68-55CC6864A3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s-in.net/1836.php" TargetMode="External"/><Relationship Id="rId2" Type="http://schemas.openxmlformats.org/officeDocument/2006/relationships/hyperlink" Target="http://us-in.net/1836.php" TargetMode="External"/><Relationship Id="rId3" Type="http://schemas.openxmlformats.org/officeDocument/2006/relationships/hyperlink" Target="http://us-in.net/1836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s-in.net/1836.ph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10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0033"/>
                </a:solidFill>
                <a:latin typeface="Times New Roman"/>
              </a:rPr>
              <a:t>Ферменты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ерменты выступают в роли катализаторов практически во всех биохимических реакциях, протекающих в живых организмах — ими катализируется около 4000 биореа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ерменты играют важнейшую роль во всех процессах жизнедеятельности, направляя и регулируя обмен веществ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зависимости от того, какие виды реакций организма катализируют ферменты, они выполняют различные функ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ще всего их подразделяют на две основные группы: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ищеваритель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аболические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ищеваритель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ерменты выделяются в желудочно-кишечном тракте, разрушают питательные вещества, способствуя их абсорбции в системный крово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абол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ерменты катализируют биохимические процессы внутри клеток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ищеварительные фермент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 три основные категории таких ферментов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илаза, протеазы, лип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мила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щеп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аходится в слюне, панкреатическом секрете и в содержимом кишечника. Различные виды амилазы расщепляют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Проте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ходящиеся в желудочном соке, панкреатическом секрете и в содержимом кишечника, помогают перевар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Лип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ходящаяся в желудочном соке и панкреатическом секрете, расщеп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таболические фермент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аболическими фер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псин, трипсин, реннин, панкреатин и химотрип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улучшения пищеварения, эти ферменты оказывают противовоспалительн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Панкреа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 при ферментной недостаточности поджелудочной железы, нарушениях пищеварения, пищевой аллергии, аутоиммунных заболеваниях, вирусных инфекциях и спортивных трав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752480"/>
            <a:ext cx="816768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ейшим свойством ферментов является преимущественное течение  одной из нескольких теоретически возмож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условий ферменты способны катализировать как прямую так и обратную реакцию. Это свойство ферментов имеет большое практическое знач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599840"/>
            <a:ext cx="8167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е важнейшее свойство ферментов - термолабильность, т. е. высокая чувствительность к изменениям темп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ферменты являются белками, то для большинства из них температура свыше 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C приводит к денатурации и потер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величении температуры до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реакция ускоряется в 2-3 раза, а при температурах близких к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скорость ферментативных реакций замедляется до мини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м важным свойством является то, что ферменты находятся в тканях и клетках в неактивной форме (профермен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ми его примерами являются неактивные формы пепсина и трипсина. Существование неактивных форм ферментов имеет большое биологическое значение. Если бы пепсин вырабатывался сразу в активной форме, то пепсин "переваривал" стенку желудка, т. е. желудок "переваривал" сам с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Оксидоредуктаз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окислительно-восстановительные реакции, например каталаза:  2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Трансферазы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перенос атомов или радик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Гидрол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ерменты, разрывающие внутримолекулярные связи путем присоединения молекул воды, например фосфатаза: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 - O - 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ROH + 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5909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5909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 Ли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ферменты, отщепляющие от субстрата ту или иную группу без присоединения воды, негидролитическим пу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отщепление карбоксильной группы декарбоксилазой:                  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                       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/                           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C - C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 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|     \                              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    OH                           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e1"/>
                </a:solidFill>
                <a:latin typeface="Times New Roman"/>
              </a:rPr>
              <a:t>Что такое фермент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96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(от лат. fermentum — брожение, закваска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энзимы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специфические белки, увеличивающие скорость протекания химических реакций в клетках всех живых организм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ука о ферментах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энзимологи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ZIME"/>
          <p:cNvPicPr/>
          <p:nvPr/>
        </p:nvPicPr>
        <p:blipFill>
          <a:blip r:embed="rId1"/>
          <a:stretch/>
        </p:blipFill>
        <p:spPr>
          <a:xfrm>
            <a:off x="4876920" y="1828800"/>
            <a:ext cx="3895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Изомераз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превращение одного изомера в друг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юкозо-6-фосф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люкозо-1-фосф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Синтет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ерменты, катализирующие реакции синтеза. 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стонахождение ферментов в организм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e1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клетке часть ферментов находится 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топлазм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но в основном ферменты связаны с определенными клеточными структу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др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например, находятся ферменты, ответственные за репликацию — синтез ДНК и за ее транскрипцию — образование РНК 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RepairingDNA"/>
          <p:cNvPicPr/>
          <p:nvPr/>
        </p:nvPicPr>
        <p:blipFill>
          <a:blip r:embed="rId1"/>
          <a:stretch/>
        </p:blipFill>
        <p:spPr>
          <a:xfrm>
            <a:off x="5224320" y="1752480"/>
            <a:ext cx="3227400" cy="4145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5870160" y="5867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НК-ли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815328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ецифичность и механизм действ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е ферментов, строго специфично и зависит от строения субстрата, на который фермент дей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красным примером такой зависимости служит катализируемая аргиназой реакция гидролитического расщепления аминокислоты аргинина на орнитин и мочев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08114"/>
          <p:cNvPicPr/>
          <p:nvPr/>
        </p:nvPicPr>
        <p:blipFill>
          <a:blip r:embed="rId1"/>
          <a:stretch/>
        </p:blipFill>
        <p:spPr>
          <a:xfrm>
            <a:off x="533520" y="4267080"/>
            <a:ext cx="8305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факторы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Многие ферменты для проявления активности нуждаются в веществах небелковой природы- кофактор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Кофакторы могут быть как неорганическими молекулами (ионы металлов, железо-серные кластеры и др.), так и органическими (например, флавин или ге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ringe-fig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уч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967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ферменты выделяют из тканей животных, растений, клеток и культуральных жидкостей микроорганизмов, биологических жидкостей (кровь, лимфа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олучения некоторых труднодоступных ферментов используются методы генетической инжен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19"/>
          <p:cNvPicPr/>
          <p:nvPr/>
        </p:nvPicPr>
        <p:blipFill>
          <a:blip r:embed="rId1"/>
          <a:stretch/>
        </p:blipFill>
        <p:spPr>
          <a:xfrm>
            <a:off x="5181480" y="2233440"/>
            <a:ext cx="3657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лезни, связанные с нарушением выработк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или снижение активности какого-либо фермента (нередко и избыточная активность) у человека приводит к развитию заболеваний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нзимопа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ли гибели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, передаваемое по наследству заболевание детей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актозе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иводит к умственной отсталости) — развивается вследствие нарушения синтеза фермента, ответственного за превращение галактозы в легко усваиваемую глюк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лезни, связанные с нарушением выработк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ой другого наследственного заболевания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нилкетонур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ровождающегося расстройством психической деятельности, является потеря клетками печени способности синтезировать фермент, катализирующий превращение аминокислоты фенилаланина в тиро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активности многих ферментов в крови, моче, спинно-мозговой, семенной и других жидкостях организма используется для диагностики ряда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такого анализа сыворотки крови возможно обнаружение на ранней стадии инфаркта миокарда, вирусного гепатита, панкреатита, нефрита и други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н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получили широкое применение в легкой, пищевой и химической промышленности, а также в медицинской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щевой промышленности ферменты используют при приготовлении безалкогольных напитков, сыров, консервов, колбас, копче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тноводстве ферменты используют при приготовлении кор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при изготовлении фото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при обработке овса и коноп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н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для смягчения кожи в кожевенн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входят в состав стиральных порошков, зубных п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е ферменты имеют диагностическое значение – определение отдельных ферментов в клетке помогает распознаванию природы заболевания (например вирусный гепатит – по активности фермента в плазме крови) их используют для замещения недостающего фермента 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e1"/>
                </a:solidFill>
                <a:latin typeface="Times New Roman"/>
              </a:rPr>
              <a:t>Фер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</a:rPr>
              <a:t>Фермен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белковые вещества, играющие очень важную роль в различных биохимических процессах в организм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 необходимы для переваривания пищевых продуктов, стимуляции деятельности головного мозга, процессов энергообеспечения клеток, восстановления органов и ткан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ункция каждого из ферментов уникальна, т.е. каждый фермент активизирует только один биохимический процес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язи с этим в организме существует огромное количество </a:t>
            </a:r>
            <a:r>
              <a:rPr b="0" i="1" lang="ru-RU" sz="2600" spc="-1" strike="noStrike">
                <a:solidFill>
                  <a:srgbClr val="990033"/>
                </a:solidFill>
                <a:latin typeface="Times New Roman"/>
              </a:rPr>
              <a:t>энзимов</a:t>
            </a:r>
            <a:r>
              <a:rPr b="0" lang="ru-RU" sz="2600" spc="-1" strike="noStrike">
                <a:solidFill>
                  <a:srgbClr val="990033"/>
                </a:solidFill>
                <a:latin typeface="Times New Roman"/>
              </a:rPr>
              <a:t>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e1"/>
                </a:solidFill>
                <a:latin typeface="Times New Roman"/>
              </a:rPr>
              <a:t>История из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625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e1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ермин «фермент» был предложен в XVII веке химико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н Гельмонто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ри обсуждении механизмов пищеварения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123624069643a9"/>
          <p:cNvPicPr/>
          <p:nvPr/>
        </p:nvPicPr>
        <p:blipFill>
          <a:blip r:embed="rId1"/>
          <a:stretch/>
        </p:blipFill>
        <p:spPr>
          <a:xfrm>
            <a:off x="5029200" y="1676520"/>
            <a:ext cx="3571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833 французскими химика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. Пайе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. Перс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первые из прорастающих зерен ячменя было выделено активное вещество, осуществляющее превращение крахмала в сахар и получившее название диастазы(амилаз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876"/>
          <p:cNvPicPr/>
          <p:nvPr/>
        </p:nvPicPr>
        <p:blipFill>
          <a:blip r:embed="rId1"/>
          <a:stretch/>
        </p:blipFill>
        <p:spPr>
          <a:xfrm>
            <a:off x="5257800" y="18288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e1"/>
                </a:solidFill>
                <a:latin typeface="Times New Roman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середине 19 в. разгорелась дискуссия о природе брожения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астер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считал, что брожение вызывается лишь живыми микроорганизмами и что процесс брожения неразрывно связан с их жизнедеятельностью. А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Либи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 его сторонники, отстаивая химическую природу брожения, считали, что оно является следствием образования в клетках микроорганизмов растворимых фер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пастер"/>
          <p:cNvPicPr/>
          <p:nvPr/>
        </p:nvPicPr>
        <p:blipFill>
          <a:blip r:embed="rId1"/>
          <a:stretch/>
        </p:blipFill>
        <p:spPr>
          <a:xfrm>
            <a:off x="380880" y="3429000"/>
            <a:ext cx="207036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9"/>
          <p:cNvSpPr/>
          <p:nvPr/>
        </p:nvSpPr>
        <p:spPr>
          <a:xfrm>
            <a:off x="686160" y="61722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уи П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0" descr="22848"/>
          <p:cNvPicPr/>
          <p:nvPr/>
        </p:nvPicPr>
        <p:blipFill>
          <a:blip r:embed="rId2"/>
          <a:stretch/>
        </p:blipFill>
        <p:spPr>
          <a:xfrm>
            <a:off x="2666880" y="3429000"/>
            <a:ext cx="184968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2896920" y="61722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Юстас Либ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orig"/>
          <p:cNvPicPr/>
          <p:nvPr/>
        </p:nvPicPr>
        <p:blipFill>
          <a:blip r:embed="rId3"/>
          <a:stretch/>
        </p:blipFill>
        <p:spPr>
          <a:xfrm>
            <a:off x="4724280" y="3429000"/>
            <a:ext cx="1922760" cy="2743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4800960" y="61722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рселен Бер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4" descr="156540"/>
          <p:cNvPicPr/>
          <p:nvPr/>
        </p:nvPicPr>
        <p:blipFill>
          <a:blip r:embed="rId4"/>
          <a:stretch/>
        </p:blipFill>
        <p:spPr>
          <a:xfrm>
            <a:off x="6858000" y="3429000"/>
            <a:ext cx="2021040" cy="2743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5"/>
          <p:cNvSpPr/>
          <p:nvPr/>
        </p:nvSpPr>
        <p:spPr>
          <a:xfrm>
            <a:off x="7164000" y="61722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лод Бер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скуссия Либиха и Пастера о природе брожения была разрешена в 1897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.Бухнером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оторый, растирая дрожжи с инфузорной землёй, выделил из них бесклеточный растворимый ферментный препарат (зимазу), вызывавший спиртовое брожение. Открытие Бухнера утвердило материалистическое понимание природы бр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44012508_buchner"/>
          <p:cNvPicPr/>
          <p:nvPr/>
        </p:nvPicPr>
        <p:blipFill>
          <a:blip r:embed="rId1"/>
          <a:stretch/>
        </p:blipFill>
        <p:spPr>
          <a:xfrm>
            <a:off x="5638680" y="1828800"/>
            <a:ext cx="315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e1"/>
                </a:solidFill>
                <a:latin typeface="Times New Roman"/>
              </a:rPr>
              <a:t>Общая характеристика фермент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200400" y="304920"/>
            <a:ext cx="3276720" cy="91440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838080" y="2362320"/>
            <a:ext cx="3657600" cy="228600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компонен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щие исключительно из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952880" y="2362320"/>
            <a:ext cx="3733920" cy="358128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компонен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щие из белка, называем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небелковой части, называе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етической груп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2209680" y="838080"/>
            <a:ext cx="990720" cy="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209680" y="838080"/>
            <a:ext cx="0" cy="1447920"/>
          </a:xfrm>
          <a:prstGeom prst="line">
            <a:avLst/>
          </a:prstGeom>
          <a:ln w="28440">
            <a:solidFill>
              <a:srgbClr val="3300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6477120" y="838080"/>
            <a:ext cx="914400" cy="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7391520" y="838080"/>
            <a:ext cx="0" cy="1524240"/>
          </a:xfrm>
          <a:prstGeom prst="line">
            <a:avLst/>
          </a:prstGeom>
          <a:ln w="28440">
            <a:solidFill>
              <a:srgbClr val="3300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змеры ферментов и их строение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лекулярная масса ферментов, лежит в пределах 10 тыс. - 1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ни могут состоять из одной или нескольких полипептидных цепей и могут быть представлены сложными бел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480px-Purine_Nucleoside_Phosphorylase"/>
          <p:cNvPicPr/>
          <p:nvPr/>
        </p:nvPicPr>
        <p:blipFill>
          <a:blip r:embed="rId1"/>
          <a:stretch/>
        </p:blipFill>
        <p:spPr>
          <a:xfrm>
            <a:off x="5181480" y="1752480"/>
            <a:ext cx="3510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20-05-10T06:07:45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