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79F-60B4-407A-AEF1-35E6B3B0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068-CEF7-4E6F-979D-6DFCCA70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9F0-BD2A-4DC5-88F0-2EC200C6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62A-8336-4DDD-BEDA-7CFC88A7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B450-4C6D-42B1-BA23-8EF6AE03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8B9F-2FF4-4CDB-B4EA-7DAD6F75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2269-5CAA-435F-BE05-00F1D203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F3B5-7BAC-4F07-8F4E-3728D275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4D87-9255-4D87-B1FE-680932D5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C750-B0C6-4691-B9C2-29F9D1F2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3475-98A2-44A2-93F2-139C7617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E86-03ED-4ABE-A04F-1299F035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11A4-F54F-4425-9EBE-BB47210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8372-AF76-42F8-A938-F1D80F85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246D-3C50-4DF5-BA8A-F10BA3BA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9451-5AEE-4735-A562-D1513628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F042-1620-4141-861B-1F956EC1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15D-5F8F-413E-B883-3AF5B1B6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246-C8B1-493A-88D2-DD4AB2F5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961-1A6F-4A85-BFC6-60644F7E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E0E-0492-4DAD-B22B-E38639DC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C56-770F-4CBB-9F1C-3BDCDE72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235-66EE-4A07-9433-058E2281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AEB-D4AE-4E33-B979-02939431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FA8F-3AF0-4A48-A55F-2C74341E88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A437-57B3-40E8-955F-BBF1310B96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s-in.net/1836.php" TargetMode="External"/><Relationship Id="rId2" Type="http://schemas.openxmlformats.org/officeDocument/2006/relationships/hyperlink" Target="http://us-in.net/1836.php" TargetMode="External"/><Relationship Id="rId3" Type="http://schemas.openxmlformats.org/officeDocument/2006/relationships/hyperlink" Target="http://us-in.net/1836.php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s-in.net/1836.php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я 10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330033"/>
                </a:solidFill>
                <a:latin typeface="Times New Roman"/>
              </a:rPr>
              <a:t>Ферменты</a:t>
            </a:r>
            <a:endParaRPr b="0" lang="en-US" sz="9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Times New Roman"/>
              </a:rPr>
              <a:t>Функции фермен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Ферменты выступают в роли катализаторов практически во всех биохимических реакциях, протекающих в живых организмах — ими катализируется около 4000 биореак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Ферменты играют важнейшую роль во всех процессах жизнедеятельности, направляя и регулируя обмен веществ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Функции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зависимости от того, какие виды реакций организма катализируют ферменты, они выполняют различные функ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ще всего их подразделяют на две основные группы: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ищеварительн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етаболические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ищеварительны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ферменты выделяются в желудочно-кишечном тракте, разрушают питательные вещества, способствуя их абсорбции в системный кровот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етабол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ферменты катализируют биохимические процессы внутри клеток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ищеварительные фермент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ают три основные категории таких ферментов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илаза, протеазы, лип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Амилаз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щепля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находится в слюне, панкреатическом секрете и в содержимом кишечника. Различные виды амилазы расщепляют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хар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Протеа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ходящиеся в желудочном соке, панкреатическом секрете и в содержимом кишечника, помогают перевари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Лип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ходящаяся в желудочном соке и панкреатическом секрете, расщепля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етаболические фермент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таболическими фермен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псин, трипсин, реннин, панкреатин и химотрип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имо улучшения пищеварения, эти ферменты оказывают противовоспалительное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Панкреа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ют при ферментной недостаточности поджелудочной железы, нарушениях пищеварения, пищевой аллергии, аутоиммунных заболеваниях, вирусных инфекциях и спортивных травм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йства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1752480"/>
            <a:ext cx="816768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ейшим свойством ферментов является преимущественное течение  одной из нескольких теоретически возможных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висимости от условий ферменты способны катализировать как прямую так и обратную реакцию. Это свойство ферментов имеет большое практическое знач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йства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2120" y="1599840"/>
            <a:ext cx="8167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ое важнейшее свойство ферментов - термолабильность, т. е. высокая чувствительность к изменениям темп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 ферменты являются белками, то для большинства из них температура свыше 7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C приводит к денатурации и потере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увеличении температуры до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реакция ускоряется в 2-3 раза, а при температурах близких к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скорость ферментативных реакций замедляется до миним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йства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им важным свойством является то, что ферменты находятся в тканях и клетках в неактивной форме (профермент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ческими его примерами являются неактивные формы пепсина и трипсина. Существование неактивных форм ферментов имеет большое биологическое значение. Если бы пепсин вырабатывался сразу в активной форме, то пепсин "переваривал" стенку желудка, т. е. желудок "переваривал" сам себ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лассификация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21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Оксидоредуктаз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ерменты, катализирующие окислительно-восстановительные реакции, например каталаза:  2H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2H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Трансферазы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ерменты, катализирующие перенос атомов или радика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лассификация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2120" y="1676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Гидролаз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ерменты, разрывающие внутримолекулярные связи путем присоединения молекул воды, например фосфатаза: 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      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 - O - P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ROH + H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8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   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25909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259092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фермент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 Лиа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ферменты, отщепляющие от субстрата ту или иную группу без присоединения воды, негидролитическим пу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 отщепление карбоксильной группы декарбоксилазой:                  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         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                       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/                            |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4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C - C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ru-RU" sz="2400" spc="-1" strike="noStrike" baseline="-2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ru-RU" sz="24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  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|     \                              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    OH                           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e1"/>
                </a:solidFill>
                <a:latin typeface="Times New Roman"/>
              </a:rPr>
              <a:t>Что такое фермент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396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ФЕРМЕНТЫ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(от лат. fermentum — брожение, закваска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энзимы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специфические белки, увеличивающие скорость протекания химических реакций в клетках всех живых организм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Наука о ферментах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энзимологией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NZIME"/>
          <p:cNvPicPr/>
          <p:nvPr/>
        </p:nvPicPr>
        <p:blipFill>
          <a:blip r:embed="rId1"/>
          <a:stretch/>
        </p:blipFill>
        <p:spPr>
          <a:xfrm>
            <a:off x="4876920" y="1828800"/>
            <a:ext cx="38955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фермент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Изомераз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ерменты, катализирующие превращение одного изомера в друг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юкозо-6-фосфа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глюкозо-1-фосф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Синтетаз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ерменты, катализирующие реакции синтеза. 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естонахождение ферментов в организм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e1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клетке часть ферментов находится 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итоплазм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но в основном ферменты связаны с определенными клеточными структу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др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например, находятся ферменты, ответственные за репликацию — синтез ДНК и за ее транскрипцию — образование РНК 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RepairingDNA"/>
          <p:cNvPicPr/>
          <p:nvPr/>
        </p:nvPicPr>
        <p:blipFill>
          <a:blip r:embed="rId1"/>
          <a:stretch/>
        </p:blipFill>
        <p:spPr>
          <a:xfrm>
            <a:off x="5224320" y="1752480"/>
            <a:ext cx="3227400" cy="4145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5870160" y="5867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НК-ли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815328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пецифичность и механизм действия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e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ие ферментов, строго специфично и зависит от строения субстрата, на который фермент действ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красным примером такой зависимости служит катализируемая аргиназой реакция гидролитического расщепления аминокислоты аргинина на орнитин и мочеви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08114"/>
          <p:cNvPicPr/>
          <p:nvPr/>
        </p:nvPicPr>
        <p:blipFill>
          <a:blip r:embed="rId1"/>
          <a:stretch/>
        </p:blipFill>
        <p:spPr>
          <a:xfrm>
            <a:off x="533520" y="4267080"/>
            <a:ext cx="83055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офакторы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Многие ферменты для проявления активности нуждаются в веществах небелковой природы- кофактора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Кофакторы могут быть как неорганическими молекулами (ионы металлов, железо-серные кластеры и др.), так и органическими (например, флавин или гем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ringe-fig"/>
          <p:cNvPicPr/>
          <p:nvPr/>
        </p:nvPicPr>
        <p:blipFill>
          <a:blip r:embed="rId1"/>
          <a:stretch/>
        </p:blipFill>
        <p:spPr>
          <a:xfrm>
            <a:off x="5257800" y="1828800"/>
            <a:ext cx="3657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лучение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3967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ычно ферменты выделяют из тканей животных, растений, клеток и культуральных жидкостей микроорганизмов, биологических жидкостей (кровь, лимфа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олучения некоторых труднодоступных ферментов используются методы генетической инжен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19"/>
          <p:cNvPicPr/>
          <p:nvPr/>
        </p:nvPicPr>
        <p:blipFill>
          <a:blip r:embed="rId1"/>
          <a:stretch/>
        </p:blipFill>
        <p:spPr>
          <a:xfrm>
            <a:off x="5181480" y="2233440"/>
            <a:ext cx="36576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олезни, связанные с нарушением выработки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сутствие или снижение активности какого-либо фермента (нередко и избыточная активность) у человека приводит к развитию заболеваний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нзимопа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или гибели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, передаваемое по наследству заболевание детей 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лактозем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риводит к умственной отсталости) — развивается вследствие нарушения синтеза фермента, ответственного за превращение галактозы в легко усваиваемую глюк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олезни, связанные с нарушением выработки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144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иной другого наследственного заболевания 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енилкетонур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ровождающегося расстройством психической деятельности, является потеря клетками печени способности синтезировать фермент, катализирующий превращение аминокислоты фенилаланина в тироз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активности многих ферментов в крови, моче, спинно-мозговой, семенной и других жидкостях организма используется для диагностики ряда заболе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такого анализа сыворотки крови возможно обнаружение на ранней стадии инфаркта миокарда, вирусного гепатита, панкреатита, нефрита и других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нение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менты получили широкое применение в легкой, пищевой и химической промышленности, а также в медицинской прак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ищевой промышленности ферменты используют при приготовлении безалкогольных напитков, сыров, консервов, колбас, копче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отноводстве ферменты используют при приготовлении кор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менты используют при изготовлении фото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менты используют при обработке овса и коноп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нение ферменто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менты используют для смягчения кожи в кожевенной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менты входят в состав стиральных порошков, зубных па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дицине ферменты имеют диагностическое значение – определение отдельных ферментов в клетке помогает распознаванию природы заболевания (например вирусный гепатит – по активности фермента в плазме крови) их используют для замещения недостающего фермента в организ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e1"/>
                </a:solidFill>
                <a:latin typeface="Times New Roman"/>
              </a:rPr>
              <a:t>Фермен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00000"/>
                </a:solidFill>
                <a:latin typeface="Times New Roman"/>
              </a:rPr>
              <a:t>Фермент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белковые вещества, играющие очень важную роль в различных биохимических процессах в организм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 необходимы для переваривания пищевых продуктов, стимуляции деятельности головного мозга, процессов энергообеспечения клеток, восстановления органов и ткан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ункция каждого из ферментов уникальна, т.е. каждый фермент активизирует только один биохимический процесс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вязи с этим в организме существует огромное количество </a:t>
            </a:r>
            <a:r>
              <a:rPr b="0" i="1" lang="ru-RU" sz="2600" spc="-1" strike="noStrike">
                <a:solidFill>
                  <a:srgbClr val="990033"/>
                </a:solidFill>
                <a:latin typeface="Times New Roman"/>
              </a:rPr>
              <a:t>энзимов</a:t>
            </a:r>
            <a:r>
              <a:rPr b="0" lang="ru-RU" sz="2600" spc="-1" strike="noStrike">
                <a:solidFill>
                  <a:srgbClr val="990033"/>
                </a:solidFill>
                <a:latin typeface="Times New Roman"/>
              </a:rPr>
              <a:t>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e1"/>
                </a:solidFill>
                <a:latin typeface="Times New Roman"/>
              </a:rPr>
              <a:t>История из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625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e1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ермин «фермент» был предложен в XVII веке химиком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ан Гельмонтом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при обсуждении механизмов пищеварения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123624069643a9"/>
          <p:cNvPicPr/>
          <p:nvPr/>
        </p:nvPicPr>
        <p:blipFill>
          <a:blip r:embed="rId1"/>
          <a:stretch/>
        </p:blipFill>
        <p:spPr>
          <a:xfrm>
            <a:off x="5029200" y="1676520"/>
            <a:ext cx="3571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1833 французскими химикам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. Пайено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Ж. Перс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впервые из прорастающих зерен ячменя было выделено активное вещество, осуществляющее превращение крахмала в сахар и получившее название диастазы(амилаз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876"/>
          <p:cNvPicPr/>
          <p:nvPr/>
        </p:nvPicPr>
        <p:blipFill>
          <a:blip r:embed="rId1"/>
          <a:stretch/>
        </p:blipFill>
        <p:spPr>
          <a:xfrm>
            <a:off x="5257800" y="18288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e1"/>
                </a:solidFill>
                <a:latin typeface="Times New Roman"/>
              </a:rPr>
              <a:t>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 середине 19 в. разгорелась дискуссия о природе брожения.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Пастер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считал, что брожение вызывается лишь живыми микроорганизмами и что процесс брожения неразрывно связан с их жизнедеятельностью. А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Либих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и его сторонники, отстаивая химическую природу брожения, считали, что оно является следствием образования в клетках микроорганизмов растворимых ферм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8" descr="пастер"/>
          <p:cNvPicPr/>
          <p:nvPr/>
        </p:nvPicPr>
        <p:blipFill>
          <a:blip r:embed="rId1"/>
          <a:stretch/>
        </p:blipFill>
        <p:spPr>
          <a:xfrm>
            <a:off x="380880" y="3429000"/>
            <a:ext cx="2070360" cy="27432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9"/>
          <p:cNvSpPr/>
          <p:nvPr/>
        </p:nvSpPr>
        <p:spPr>
          <a:xfrm>
            <a:off x="686160" y="61722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уи Па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0" descr="22848"/>
          <p:cNvPicPr/>
          <p:nvPr/>
        </p:nvPicPr>
        <p:blipFill>
          <a:blip r:embed="rId2"/>
          <a:stretch/>
        </p:blipFill>
        <p:spPr>
          <a:xfrm>
            <a:off x="2666880" y="3429000"/>
            <a:ext cx="184968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2896920" y="61722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Юстас Либ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2" descr="orig"/>
          <p:cNvPicPr/>
          <p:nvPr/>
        </p:nvPicPr>
        <p:blipFill>
          <a:blip r:embed="rId3"/>
          <a:stretch/>
        </p:blipFill>
        <p:spPr>
          <a:xfrm>
            <a:off x="4724280" y="3429000"/>
            <a:ext cx="1922760" cy="2743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3"/>
          <p:cNvSpPr/>
          <p:nvPr/>
        </p:nvSpPr>
        <p:spPr>
          <a:xfrm>
            <a:off x="4800960" y="61722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арселен Бер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4" descr="156540"/>
          <p:cNvPicPr/>
          <p:nvPr/>
        </p:nvPicPr>
        <p:blipFill>
          <a:blip r:embed="rId4"/>
          <a:stretch/>
        </p:blipFill>
        <p:spPr>
          <a:xfrm>
            <a:off x="6858000" y="3429000"/>
            <a:ext cx="2021040" cy="2743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5"/>
          <p:cNvSpPr/>
          <p:nvPr/>
        </p:nvSpPr>
        <p:spPr>
          <a:xfrm>
            <a:off x="7164000" y="617220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лод Бер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искуссия Либиха и Пастера о природе брожения была разрешена в 1897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.Бухнером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который, растирая дрожжи с инфузорной землёй, выделил из них бесклеточный растворимый ферментный препарат (зимазу), вызывавший спиртовое брожение. Открытие Бухнера утвердило материалистическое понимание природы бр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44012508_buchner"/>
          <p:cNvPicPr/>
          <p:nvPr/>
        </p:nvPicPr>
        <p:blipFill>
          <a:blip r:embed="rId1"/>
          <a:stretch/>
        </p:blipFill>
        <p:spPr>
          <a:xfrm>
            <a:off x="5638680" y="1828800"/>
            <a:ext cx="3154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e1"/>
                </a:solidFill>
                <a:latin typeface="Times New Roman"/>
              </a:rPr>
              <a:t>Общая характеристика фермент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200400" y="304920"/>
            <a:ext cx="3276720" cy="914400"/>
          </a:xfrm>
          <a:prstGeom prst="rect">
            <a:avLst/>
          </a:prstGeom>
          <a:noFill/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р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838080" y="2362320"/>
            <a:ext cx="3657600" cy="2286000"/>
          </a:xfrm>
          <a:prstGeom prst="rect">
            <a:avLst/>
          </a:prstGeom>
          <a:noFill/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компонент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щие исключительно из 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952880" y="2362320"/>
            <a:ext cx="3733920" cy="3581280"/>
          </a:xfrm>
          <a:prstGeom prst="rect">
            <a:avLst/>
          </a:prstGeom>
          <a:noFill/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компонент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щие из белка, называем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п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небелковой части, называемо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етической груп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2209680" y="838080"/>
            <a:ext cx="990720" cy="0"/>
          </a:xfrm>
          <a:prstGeom prst="line">
            <a:avLst/>
          </a:prstGeom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2209680" y="838080"/>
            <a:ext cx="0" cy="1447920"/>
          </a:xfrm>
          <a:prstGeom prst="line">
            <a:avLst/>
          </a:prstGeom>
          <a:ln w="28440">
            <a:solidFill>
              <a:srgbClr val="3300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6477120" y="838080"/>
            <a:ext cx="914400" cy="0"/>
          </a:xfrm>
          <a:prstGeom prst="line">
            <a:avLst/>
          </a:prstGeom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7391520" y="838080"/>
            <a:ext cx="0" cy="1524240"/>
          </a:xfrm>
          <a:prstGeom prst="line">
            <a:avLst/>
          </a:prstGeom>
          <a:ln w="28440">
            <a:solidFill>
              <a:srgbClr val="3300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змеры ферментов и их строение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лекулярная масса ферментов, лежит в пределах 10 тыс. - 1 м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ни могут состоять из одной или нескольких полипептидных цепей и могут быть представлены сложными бел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480px-Purine_Nucleoside_Phosphorylase"/>
          <p:cNvPicPr/>
          <p:nvPr/>
        </p:nvPicPr>
        <p:blipFill>
          <a:blip r:embed="rId1"/>
          <a:stretch/>
        </p:blipFill>
        <p:spPr>
          <a:xfrm>
            <a:off x="5181480" y="1752480"/>
            <a:ext cx="3510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86</cp:lastModifiedBy>
  <dcterms:modified xsi:type="dcterms:W3CDTF">2020-05-10T06:07:45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