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png" ContentType="image/png"/>
  <Override PartName="/ppt/media/image43.jpeg" ContentType="image/jpeg"/>
  <Override PartName="/ppt/media/image46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5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6A8-ED60-4BAA-B544-7D2B12C3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EFE-1CF8-4A3E-87E3-8D12A842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7AEE0-878A-44F9-BCC9-8F3C1BB2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2A1F0-856C-4B36-B87D-A810E6B4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B2DAC-3048-4940-BEBC-31190EF2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F8124-CE07-4417-828D-FE6E806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18B67-37AC-4DE1-932D-96A6250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FAFCE-5309-4D41-A49F-97631B1F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78697-9001-421D-BBB7-794CDC85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518E8-8D1B-44D8-BF00-B30435FD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DF90A-A40E-482F-8957-0EB3582A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388E2-6290-43CA-B1EC-9FACB42C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F35-9272-42F2-826A-600E6B02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B1EE7-699A-4B5A-8368-9C5E8B98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E816E-C4EA-4331-B257-25185826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70E71-D5CB-4EC9-BC62-0AB2DCEE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5533C-2CE0-43D7-8277-F88458B9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55684-4E17-436C-A268-CA5FF281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45FA7-C07D-43B6-8437-DAEF9AB3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4E2D2-C810-46E5-B3F0-7965F563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01F5D-AA24-4ABE-93C8-E835A66F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D5C6C-860A-48E8-8162-B4B0F79D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E5907-CD5E-446F-9447-028F3F1C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9E6-A8CE-4010-93AC-82E3E669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8B47B-EEF4-4EDD-85B8-C739141C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EB71-3C3F-4827-8E28-648A1768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C0AF-8320-4F01-BB74-07429E41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63CA-6AA1-4C35-A8C8-70548E33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4432-5293-436E-BDA4-38BC12D1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CA0A-8B4C-48E2-B8E7-6DB1DA4C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B2AD-CD75-4B21-8AA6-D6C69625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4417-53EC-4A66-8B67-C377A2F8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A5E-A621-4A3F-9F54-C8727688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5A0C-E45C-4B07-9170-45CCC592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3BBE-A3F9-470C-B077-39AEDD4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F940-4E28-4932-8B6A-C549096D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B2DF-105F-432C-A462-9AD3ADC9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C312-EE5B-407F-A289-CBCAD8B6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CA01-F118-44FC-A25C-F302D5FD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BD141-1A61-4B65-A796-FC49570B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32D4-B68D-4B1D-9111-2257BD9F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E682-01D8-4661-85BC-23DD0BB1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B0D0-CF8C-4CBA-9B1F-F42C79A0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0EA-1913-4490-BB8D-73206E6A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5AEC-0C36-45BB-B855-C651CE7A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43019-547C-472C-ABC5-EB5F830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3A62-00A7-4C7A-8CC0-79E5C765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A2F16-31CA-4020-9612-810BF63D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0F04-639F-4E2F-959F-745BBFD3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51BB-0156-42CC-AB35-B709501D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7561-CA67-4DA2-B9FC-52A197B0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9C6C-F7AC-4EDF-8B6B-6B83C3DD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3556E-A59E-4A8D-9719-C11AD6F3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C8C7-0DA1-432F-8CE2-B0D65D77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D40-44F8-4543-ADA1-40B3326C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DAD05-F968-4A8F-98FA-2BA42AE2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A3EC2-650A-439C-AA3F-E8E28D59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7F22-B0E2-405E-8004-8E5A9B5A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6B0D-D221-42C4-9E5C-7AD8A868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E09D-25B9-418D-956D-ECEC5325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16A01-777E-4DC6-B193-D8230EB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1FB4-4457-45A9-9BC4-74556744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20CED-5DB6-4C27-A9ED-CAD34F1B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04A6-25F2-48AE-86C7-A708EA50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43436-45DD-419D-889B-D55123D2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298-BB5B-4E59-9F5B-63FA1BE6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ACEA3-BD3E-4A7E-BD31-17E90CE3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62D8-5A90-4FCC-B5D2-E5DFAE6B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BFB4F-E5A9-4B6E-B97B-2D7E3AE7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A5C2-66EE-4837-A479-C0DFD482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4A7BD-8753-402E-A036-10104F3B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2A96C-E493-4BC3-A550-BC566C10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117B7-9C84-4BCA-A058-408CE967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01413-483A-415C-9B34-B5BC79F5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241D6-55F7-44D8-803E-D5118B0D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43ADC-176C-473C-B06C-17BC4778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56C-6397-44B3-8CF1-49730522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0DA1A-ACCB-4F99-ADD2-E7D78868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163C9-45C8-4BC3-A44E-68B78A7B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36D8E-408A-4C09-A5DD-FD2B35F4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29E8B-D667-42EE-A08C-8E0602EB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4AD4A-6058-42A4-83E6-25238563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589A2-029D-4BA2-962C-E8560D4C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63804-32C6-419B-84A0-011BE2C3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FBFAB-E978-4E80-8398-3B5797A7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2D00A-20F5-4805-8F40-AEE4C39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A9C5C-0C52-4D3E-ABCC-085DDF2D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9FE-4F6A-4662-860B-816475A3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68EB-1737-49DD-9587-300B462F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5BCEC-4D97-43E4-A96B-7BDCCAD8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C0E52-E900-4157-AA26-79AB145E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BA326-0837-4616-9B60-B9478C8A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5C70E-CF22-4567-909C-DC02EE6A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26F52-76F9-429D-8AE9-9AE2A4FC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B658E-DB22-4171-AEC5-C48981F8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F8317-036F-42B8-B6CD-E247BEAC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6F63F-6A67-403B-9986-C1862630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3AD29-41CA-4EE0-B82E-2766F7D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387-BE1A-4493-9158-C3A55E7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B8559-D03A-4D2C-8EDF-878B5654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34F1C-28F3-44CA-812C-ABF7EBDF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C10FC-6B88-41B3-A154-34C6CA05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E6C5A-E057-462F-AED4-B7194311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B79A9-6691-41AA-9E4E-03A5C265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A9AB7-C6B3-4586-B3D1-879EEF41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CB28D-62E1-40E3-BBA1-94A522F4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C9961-763F-47DD-AD33-A749BA0C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4A86-8106-477C-95A0-5FA3FD6A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E190D-8F44-4425-954C-5273EADE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2A9-4850-4BEC-885C-19ADCBA0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4CD75-5012-4BD8-AE3A-DF7F97DB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DF550-A1E7-4C34-9521-941DB3B7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557D-7062-4388-B36E-344988F7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A416D-4B17-44BB-A714-BE9A2D9F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87A18-F9BA-4BD6-9E7C-7ECA5F53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6541F-9247-4879-B916-7F0BA8CB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C415D-0350-4CDB-8950-F65B952E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C885B-7723-4DD5-B6DC-9E8A0C06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F9BF4-4B5C-4216-9DDE-23049630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DED8A-560D-4B55-B744-93FBEC4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EF8A-BB0E-4DC0-BD83-DCCDD5DBF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C044-40B2-489C-AB89-B1B63E493D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2F39-3860-4E4A-AFCF-5D187E033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43894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8F43-B523-414A-AEDF-4DADFCFD2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0D2C-E31E-4A1F-B914-A5E7ECA0F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AAD3-52A8-46D0-9AAD-4F92AF283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43894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1DD7-C246-41AD-87BB-D4920CC28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8E77-7260-4BF3-ACE2-B0CD578F0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E3F3-4879-4DF8-8D46-F02A916F8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43894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38FE-B72C-47B7-883D-33A183CBD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707977552&amp;p=0&amp;ag=ih&amp;rpt2=simage&amp;qs=text%3D%25D0%25CF%25CD%25C9%25C4%25CF%25D2%25D9%26isize%3D%26ogo%3D5%26rpt%3Dimage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767352112&amp;p=11&amp;ag=ih&amp;rpt2=simage&amp;qs=text%3D%25DA%25C5%25CD%25CC%25D1%25CE%25C9%25CB%25C1%26isize%3D%26ogo%3D5%26rpt%3Dimage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yandex.ru/yandpage?q=1482650256&amp;p=1&amp;ag=ih&amp;rpt2=simage&amp;qs=text%3D%25CB%25D5%25CB%25D5%25D2%25D5%25DA%25C1%26isize%3D%26ogo%3D5%26rpt%3Dimage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http://images.yandex.ru/yandpage?q=381537264&amp;p=74&amp;ag=ih&amp;rpt2=simage&amp;qs=text%3D%25D7%25C9%25D4%25C1%25CD%25C9%25CE%25D9%26isize%3D%26ogo%3D5%26rpt%3Dimage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Georgia"/>
              </a:rPr>
              <a:t>ВИТАМИНЫ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гда весна прид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 зн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йдут дожди, сойдут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3" descr="витамины.jpg"/>
          <p:cNvPicPr/>
          <p:nvPr/>
        </p:nvPicPr>
        <p:blipFill>
          <a:blip r:embed="rId1"/>
          <a:stretch/>
        </p:blipFill>
        <p:spPr>
          <a:xfrm>
            <a:off x="5572080" y="28584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5"/>
          <p:cNvSpPr txBox="1"/>
          <p:nvPr/>
        </p:nvSpPr>
        <p:spPr>
          <a:xfrm rot="5400000">
            <a:off x="6379920" y="4286160"/>
            <a:ext cx="388620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ибофлав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500040" y="1428840"/>
            <a:ext cx="4105440" cy="237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Регулирует обмен вещ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нижает усталость глаз, облег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оглощение кислорода кле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ри недостатке - слаб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нижение аппетита, восп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лизистых оболочек, 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функций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2916360" y="4149720"/>
            <a:ext cx="2808000" cy="2374920"/>
          </a:xfrm>
          <a:prstGeom prst="octagon">
            <a:avLst>
              <a:gd name="adj" fmla="val 26870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лочных 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лен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рновых и 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уль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b2-1"/>
          <p:cNvPicPr/>
          <p:nvPr/>
        </p:nvPicPr>
        <p:blipFill>
          <a:blip r:embed="rId1"/>
          <a:stretch/>
        </p:blipFill>
        <p:spPr>
          <a:xfrm>
            <a:off x="5940360" y="4076640"/>
            <a:ext cx="1692360" cy="2303640"/>
          </a:xfrm>
          <a:prstGeom prst="rect">
            <a:avLst/>
          </a:prstGeom>
          <a:ln w="12600">
            <a:solidFill>
              <a:srgbClr val="4d4d4d"/>
            </a:solidFill>
            <a:miter/>
          </a:ln>
        </p:spPr>
      </p:pic>
      <p:pic>
        <p:nvPicPr>
          <p:cNvPr id="457" name="Picture 10" descr="b2-2"/>
          <p:cNvPicPr/>
          <p:nvPr/>
        </p:nvPicPr>
        <p:blipFill>
          <a:blip r:embed="rId2"/>
          <a:stretch/>
        </p:blipFill>
        <p:spPr>
          <a:xfrm>
            <a:off x="5580000" y="1989000"/>
            <a:ext cx="1871640" cy="15224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458" name="Picture 11" descr="ы"/>
          <p:cNvPicPr/>
          <p:nvPr/>
        </p:nvPicPr>
        <p:blipFill>
          <a:blip r:embed="rId3"/>
          <a:stretch/>
        </p:blipFill>
        <p:spPr>
          <a:xfrm>
            <a:off x="468360" y="4005360"/>
            <a:ext cx="2200320" cy="2448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5"/>
          <p:cNvSpPr txBox="1"/>
          <p:nvPr/>
        </p:nvSpPr>
        <p:spPr>
          <a:xfrm rot="5400000">
            <a:off x="6304320" y="421092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антоте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1401840" y="2133720"/>
            <a:ext cx="3457440" cy="1871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боту надпоче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своение витам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нтез антит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жировой об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7"/>
          <p:cNvSpPr/>
          <p:nvPr/>
        </p:nvSpPr>
        <p:spPr>
          <a:xfrm>
            <a:off x="2629080" y="4149720"/>
            <a:ext cx="266364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горох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, фунду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истов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цыплятах, круп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ик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9" descr="b5-1"/>
          <p:cNvPicPr/>
          <p:nvPr/>
        </p:nvPicPr>
        <p:blipFill>
          <a:blip r:embed="rId1"/>
          <a:stretch/>
        </p:blipFill>
        <p:spPr>
          <a:xfrm>
            <a:off x="5292720" y="1989000"/>
            <a:ext cx="2050920" cy="23036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66" name="Picture 10" descr="drossi"/>
          <p:cNvPicPr/>
          <p:nvPr/>
        </p:nvPicPr>
        <p:blipFill>
          <a:blip r:embed="rId2"/>
          <a:stretch/>
        </p:blipFill>
        <p:spPr>
          <a:xfrm>
            <a:off x="5292720" y="4653000"/>
            <a:ext cx="2592360" cy="18702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5"/>
          <p:cNvSpPr txBox="1"/>
          <p:nvPr/>
        </p:nvSpPr>
        <p:spPr>
          <a:xfrm rot="5400000">
            <a:off x="6451560" y="421488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иридокс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1332000" y="1557360"/>
            <a:ext cx="4319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ие в обмене 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жиров, работе нервной сис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нижает уровень холесте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ан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дерматит, судор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сстройство 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ое, бана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оре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артофе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9" descr="b6-3"/>
          <p:cNvPicPr/>
          <p:nvPr/>
        </p:nvPicPr>
        <p:blipFill>
          <a:blip r:embed="rId1"/>
          <a:stretch/>
        </p:blipFill>
        <p:spPr>
          <a:xfrm>
            <a:off x="250920" y="4437000"/>
            <a:ext cx="1636560" cy="223200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474" name="Picture 10" descr="ovohi"/>
          <p:cNvPicPr/>
          <p:nvPr/>
        </p:nvPicPr>
        <p:blipFill>
          <a:blip r:embed="rId2"/>
          <a:stretch/>
        </p:blipFill>
        <p:spPr>
          <a:xfrm>
            <a:off x="5796000" y="1989000"/>
            <a:ext cx="158436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75" name="Picture 11" descr="Pp4371i"/>
          <p:cNvPicPr/>
          <p:nvPr/>
        </p:nvPicPr>
        <p:blipFill>
          <a:blip r:embed="rId3"/>
          <a:stretch/>
        </p:blipFill>
        <p:spPr>
          <a:xfrm>
            <a:off x="5292720" y="4437000"/>
            <a:ext cx="2448000" cy="1827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WordArt 5"/>
          <p:cNvSpPr txBox="1"/>
          <p:nvPr/>
        </p:nvSpPr>
        <p:spPr>
          <a:xfrm rot="5400000">
            <a:off x="6306840" y="4141800"/>
            <a:ext cx="4032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фолие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80" name="AutoShape 6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син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уклеиновых 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рганов кров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корнепл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финиках, абрикос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тыкв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труб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9" descr="apricot"/>
          <p:cNvPicPr/>
          <p:nvPr/>
        </p:nvPicPr>
        <p:blipFill>
          <a:blip r:embed="rId1"/>
          <a:stretch/>
        </p:blipFill>
        <p:spPr>
          <a:xfrm>
            <a:off x="4788000" y="2060640"/>
            <a:ext cx="2735280" cy="18176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483" name="Picture 10" descr="________________________2-116-17"/>
          <p:cNvPicPr/>
          <p:nvPr/>
        </p:nvPicPr>
        <p:blipFill>
          <a:blip r:embed="rId2"/>
          <a:stretch/>
        </p:blipFill>
        <p:spPr>
          <a:xfrm>
            <a:off x="34920" y="3933720"/>
            <a:ext cx="1820880" cy="2664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484" name="Picture 11" descr="F4372i"/>
          <p:cNvPicPr/>
          <p:nvPr/>
        </p:nvPicPr>
        <p:blipFill>
          <a:blip r:embed="rId3"/>
          <a:stretch/>
        </p:blipFill>
        <p:spPr>
          <a:xfrm>
            <a:off x="4859280" y="4292640"/>
            <a:ext cx="3024360" cy="2092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WordArt 5"/>
          <p:cNvSpPr txBox="1"/>
          <p:nvPr/>
        </p:nvSpPr>
        <p:spPr>
          <a:xfrm rot="5400000">
            <a:off x="6382800" y="4282920"/>
            <a:ext cx="395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никот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042920" y="1628640"/>
            <a:ext cx="4681440" cy="201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синтезе нуклеи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кислот, аминокислот, регул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боту органов крове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пеллаг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(поражение кожи, дерматит, диаре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ссонница, депре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262728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винине, ры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рахисе, помидо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шиповн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i?id=593454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653000"/>
            <a:ext cx="1871640" cy="146052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492" name="Picture 10" descr="arachis_hypogaea"/>
          <p:cNvPicPr/>
          <p:nvPr/>
        </p:nvPicPr>
        <p:blipFill>
          <a:blip r:embed="rId3"/>
          <a:stretch/>
        </p:blipFill>
        <p:spPr>
          <a:xfrm>
            <a:off x="5651640" y="3716280"/>
            <a:ext cx="1892160" cy="2808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493" name="Picture 11" descr="Pn4367i"/>
          <p:cNvPicPr/>
          <p:nvPr/>
        </p:nvPicPr>
        <p:blipFill>
          <a:blip r:embed="rId4"/>
          <a:stretch/>
        </p:blipFill>
        <p:spPr>
          <a:xfrm>
            <a:off x="5796000" y="1851120"/>
            <a:ext cx="1728720" cy="12906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В12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85680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 производство аминокислот и жирных кис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укты: внутренние органы животных, мясо, рыб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йца, твороги и сыры, образуется при помощи кишечных бакте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хватка: анемия, дегенерация слизистой кишечника, неврал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риска: вегетарианцы, старики, язвен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E:\Креатив\Текущие проекты\Интернет ресурс primefc.ru\Сайт primefc.ru\Диетология и правильное питание\Катинки витамины\vitamin 1.jpg"/>
          <p:cNvPicPr/>
          <p:nvPr/>
        </p:nvPicPr>
        <p:blipFill>
          <a:blip r:embed="rId1"/>
          <a:stretch/>
        </p:blipFill>
        <p:spPr>
          <a:xfrm>
            <a:off x="3643200" y="4500720"/>
            <a:ext cx="381024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5"/>
          <p:cNvSpPr txBox="1"/>
          <p:nvPr/>
        </p:nvSpPr>
        <p:spPr>
          <a:xfrm rot="5400000">
            <a:off x="6849000" y="4266360"/>
            <a:ext cx="302436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биотин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Влияет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он и аппет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остояние кожи и в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ровень холестерина в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боб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мляни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укуруз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9" descr="i?id=569851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581360"/>
            <a:ext cx="1800360" cy="15116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504" name="Picture 10" descr="i?id=124315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1992240"/>
            <a:ext cx="2665440" cy="17971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505" name="Picture 11" descr="Pb4378i"/>
          <p:cNvPicPr/>
          <p:nvPr/>
        </p:nvPicPr>
        <p:blipFill>
          <a:blip r:embed="rId5"/>
          <a:stretch/>
        </p:blipFill>
        <p:spPr>
          <a:xfrm>
            <a:off x="5219640" y="4292640"/>
            <a:ext cx="2592360" cy="1935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Обеспечение организма витаминами</a:t>
            </a: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07" name="Picture 2" descr="E:\Креатив\Текущие проекты\Интернет ресурс primefc.ru\Сайт primefc.ru\Диетология и правильное питание\Катинки витамины\353.jpg"/>
          <p:cNvPicPr/>
          <p:nvPr/>
        </p:nvPicPr>
        <p:blipFill>
          <a:blip r:embed="rId1"/>
          <a:stretch/>
        </p:blipFill>
        <p:spPr>
          <a:xfrm>
            <a:off x="500040" y="714240"/>
            <a:ext cx="8143920" cy="5929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AutoShape 2"/>
          <p:cNvSpPr/>
          <p:nvPr/>
        </p:nvSpPr>
        <p:spPr>
          <a:xfrm>
            <a:off x="250920" y="44280"/>
            <a:ext cx="8893080" cy="1800360"/>
          </a:xfrm>
          <a:prstGeom prst="rightArrow">
            <a:avLst>
              <a:gd name="adj1" fmla="val 50000"/>
              <a:gd name="adj2" fmla="val 123490"/>
            </a:avLst>
          </a:prstGeom>
          <a:solidFill>
            <a:srgbClr val="ffbdbd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ru-RU" sz="2600" spc="-1" strike="noStrike">
                <a:solidFill>
                  <a:srgbClr val="0000ff"/>
                </a:solidFill>
                <a:latin typeface="Bookman Old Style"/>
              </a:rPr>
              <a:t>ПРОМЫШЛЕННЫЙ   ВЫПУСК  ВИТАМИ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vit 24"/>
          <p:cNvPicPr/>
          <p:nvPr/>
        </p:nvPicPr>
        <p:blipFill>
          <a:blip r:embed="rId1"/>
          <a:srcRect l="0" t="10081" r="0" b="10081"/>
          <a:stretch/>
        </p:blipFill>
        <p:spPr>
          <a:xfrm>
            <a:off x="2050920" y="3141720"/>
            <a:ext cx="2089440" cy="9842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510" name="Picture 4" descr="vitamine_01"/>
          <p:cNvPicPr/>
          <p:nvPr/>
        </p:nvPicPr>
        <p:blipFill>
          <a:blip r:embed="rId2"/>
          <a:srcRect l="0" t="0" r="15353" b="0"/>
          <a:stretch/>
        </p:blipFill>
        <p:spPr>
          <a:xfrm>
            <a:off x="6300720" y="2276640"/>
            <a:ext cx="1036800" cy="15238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511" name="Picture 5" descr="vitd"/>
          <p:cNvPicPr/>
          <p:nvPr/>
        </p:nvPicPr>
        <p:blipFill>
          <a:blip r:embed="rId3"/>
          <a:stretch/>
        </p:blipFill>
        <p:spPr>
          <a:xfrm>
            <a:off x="3492360" y="4437000"/>
            <a:ext cx="1341720" cy="218916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pic>
        <p:nvPicPr>
          <p:cNvPr id="512" name="Picture 6" descr="i?id=2513281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1484280"/>
            <a:ext cx="600120" cy="942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i?id=16346845"/>
          <p:cNvPicPr/>
          <p:nvPr/>
        </p:nvPicPr>
        <p:blipFill>
          <a:blip r:embed="rId6"/>
          <a:stretch/>
        </p:blipFill>
        <p:spPr>
          <a:xfrm>
            <a:off x="1979640" y="1557360"/>
            <a:ext cx="666720" cy="9525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514" name="Picture 8" descr="i?id=30408046"/>
          <p:cNvPicPr/>
          <p:nvPr/>
        </p:nvPicPr>
        <p:blipFill>
          <a:blip r:embed="rId7"/>
          <a:stretch/>
        </p:blipFill>
        <p:spPr>
          <a:xfrm>
            <a:off x="5003640" y="3068640"/>
            <a:ext cx="70344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515" name="Picture 9" descr="image_alvityl2"/>
          <p:cNvPicPr/>
          <p:nvPr/>
        </p:nvPicPr>
        <p:blipFill>
          <a:blip r:embed="rId8"/>
          <a:stretch/>
        </p:blipFill>
        <p:spPr>
          <a:xfrm>
            <a:off x="5869080" y="4005360"/>
            <a:ext cx="3024000" cy="266364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516" name="Picture 10" descr="vit_big"/>
          <p:cNvPicPr/>
          <p:nvPr/>
        </p:nvPicPr>
        <p:blipFill>
          <a:blip r:embed="rId9"/>
          <a:stretch/>
        </p:blipFill>
        <p:spPr>
          <a:xfrm>
            <a:off x="250920" y="1989000"/>
            <a:ext cx="1419120" cy="17146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517" name="Picture 11" descr="multi_vitamin_uvlogh_licho"/>
          <p:cNvPicPr/>
          <p:nvPr/>
        </p:nvPicPr>
        <p:blipFill>
          <a:blip r:embed="rId10"/>
          <a:stretch/>
        </p:blipFill>
        <p:spPr>
          <a:xfrm>
            <a:off x="3132000" y="1700280"/>
            <a:ext cx="1990800" cy="12240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518" name="Picture 12" descr="vit 10"/>
          <p:cNvPicPr/>
          <p:nvPr/>
        </p:nvPicPr>
        <p:blipFill>
          <a:blip r:embed="rId11"/>
          <a:srcRect l="6047" t="25918" r="6349" b="20086"/>
          <a:stretch/>
        </p:blipFill>
        <p:spPr>
          <a:xfrm>
            <a:off x="469800" y="4722840"/>
            <a:ext cx="208620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519" name="Picture 13" descr="i?id=33618965"/>
          <p:cNvPicPr/>
          <p:nvPr/>
        </p:nvPicPr>
        <p:blipFill>
          <a:blip r:embed="rId12"/>
          <a:stretch/>
        </p:blipFill>
        <p:spPr>
          <a:xfrm>
            <a:off x="7451640" y="1844640"/>
            <a:ext cx="1562040" cy="165564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5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7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70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5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5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2"/>
          <p:cNvSpPr txBox="1"/>
          <p:nvPr/>
        </p:nvSpPr>
        <p:spPr>
          <a:xfrm>
            <a:off x="179280" y="115920"/>
            <a:ext cx="5372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лучше: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- естественные 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искусственные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179280" y="1916280"/>
            <a:ext cx="39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стественные витамины – биологический комплекс, он имеет  особую структуру и естественно связан с другими веще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о даже летом и осенью витамины, содержащиеся в свежих продуктах, не могут обеспечить потребности 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4427640" y="2205000"/>
            <a:ext cx="4608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скусственный витамин – это кристалл, который становится активным только в том случае, если приобретет пространственную структуру естественного витамина. Как правило лишь небольшая часть принимает структуру природного витамина. «Остаток» оседает на стенках сосудов, что ведёт к их повре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ём витаминов должен вестись с учётом пола, возраста, общего состояния организма, работы, режима питания, после консультации вр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fruits1i"/>
          <p:cNvPicPr/>
          <p:nvPr/>
        </p:nvPicPr>
        <p:blipFill>
          <a:blip r:embed="rId1"/>
          <a:stretch/>
        </p:blipFill>
        <p:spPr>
          <a:xfrm>
            <a:off x="324000" y="5013360"/>
            <a:ext cx="2303280" cy="1719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524" name="Picture 6" descr="D2EE5B2E"/>
          <p:cNvPicPr/>
          <p:nvPr/>
        </p:nvPicPr>
        <p:blipFill>
          <a:blip r:embed="rId2"/>
          <a:stretch/>
        </p:blipFill>
        <p:spPr>
          <a:xfrm>
            <a:off x="3059280" y="4653000"/>
            <a:ext cx="1319040" cy="2087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525" name="Picture 7" descr="D84FE241"/>
          <p:cNvPicPr/>
          <p:nvPr/>
        </p:nvPicPr>
        <p:blipFill>
          <a:blip r:embed="rId3">
            <a:lum contrast="24000"/>
          </a:blip>
          <a:srcRect l="0" t="10868" r="3473" b="3504"/>
          <a:stretch/>
        </p:blipFill>
        <p:spPr>
          <a:xfrm>
            <a:off x="5724360" y="189000"/>
            <a:ext cx="3041640" cy="180000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133720" y="7621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457200" y="457200"/>
            <a:ext cx="8305920" cy="594360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500040" y="1071720"/>
            <a:ext cx="814392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вещества, ответственные за правильное функционирование человеческого организма. 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Человек не способен производить их, или производит их в недостаточном колич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4108"/>
                </a:solidFill>
                <a:latin typeface="Times New Roman"/>
              </a:rPr>
              <a:t>Мы получаем витамины из пищи.</a:t>
            </a:r>
            <a:br>
              <a:rPr sz="2400"/>
            </a:b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Витамины делятся на водорастворимые и на жирорастворимые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685800" y="0"/>
            <a:ext cx="1905120" cy="1071720"/>
          </a:xfrm>
          <a:prstGeom prst="cloudCallout">
            <a:avLst>
              <a:gd name="adj1" fmla="val 94916"/>
              <a:gd name="adj2" fmla="val 42425"/>
            </a:avLst>
          </a:prstGeom>
          <a:gradFill rotWithShape="0">
            <a:gsLst>
              <a:gs pos="0">
                <a:srgbClr val="ff6699"/>
              </a:gs>
              <a:gs pos="100000">
                <a:srgbClr val="f841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685800" y="285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мы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WordArt 7"/>
          <p:cNvSpPr txBox="1"/>
          <p:nvPr/>
        </p:nvSpPr>
        <p:spPr>
          <a:xfrm>
            <a:off x="3857760" y="0"/>
            <a:ext cx="485748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"/>
              </a:rPr>
              <a:t>Витам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9" name="AutoShape 8"/>
          <p:cNvSpPr/>
          <p:nvPr/>
        </p:nvSpPr>
        <p:spPr>
          <a:xfrm>
            <a:off x="4143240" y="28576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9" descr="E:\Креатив\Текущие проекты\Интернет ресурс primefc.ru\Сайт primefc.ru\Диетология и правильное питание\Катинки витамины\vitamin.jpg"/>
          <p:cNvPicPr/>
          <p:nvPr/>
        </p:nvPicPr>
        <p:blipFill>
          <a:blip r:embed="rId1"/>
          <a:stretch/>
        </p:blipFill>
        <p:spPr>
          <a:xfrm>
            <a:off x="657216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" descr="E:\Креатив\Текущие проекты\Интернет ресурс primefc.ru\Сайт primefc.ru\Диетология и правильное питание\Катинки витамины\big_4472.jpg"/>
          <p:cNvPicPr/>
          <p:nvPr/>
        </p:nvPicPr>
        <p:blipFill>
          <a:blip r:embed="rId2"/>
          <a:stretch/>
        </p:blipFill>
        <p:spPr>
          <a:xfrm>
            <a:off x="857160" y="4572000"/>
            <a:ext cx="3143520" cy="207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>
            <a:off x="468360" y="0"/>
            <a:ext cx="4476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итаминные мифы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79280" y="1197000"/>
            <a:ext cx="84250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1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Гиповитаминоз – сезонная проблема. Витамины нужно принимать только в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2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Вместо того, чтобы глотать таблетки, можно просто побольше пить соков и есть свежи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3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Если постоянно принимать витамины, можно заработать гипервитамин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4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Некоторые витамины вступают в противоречие друг с другом, Поэтому не имеет смысла пить комплексные витаминные препараты – всё равно в итоге эффекта не бу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5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Витамины из растворимых шипучих таблеток усваиваются лучше, чем из обы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6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Синтезированные, «химические» витамины менее полезны, чем натуральные. Если уж пить, то так называемые нутрицевтики – витамины нового поколения, полученные из натуральны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684360" y="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Суточная потребность  человека в витаминах и их основ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0" y="765000"/>
          <a:ext cx="9144000" cy="6112080"/>
        </p:xfrm>
        <a:graphic>
          <a:graphicData uri="http://schemas.openxmlformats.org/drawingml/2006/table">
            <a:tbl>
              <a:tblPr/>
              <a:tblGrid>
                <a:gridCol w="2484360"/>
                <a:gridCol w="1511280"/>
                <a:gridCol w="5148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ита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288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уточная потре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ун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Аскорбиновая кислота(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50-10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Повышает сопротивляемость организма экстремальным воздействия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Тиам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1,4-2,4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Регулятор жирового и углеводного обмена, деятельности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Рибофлав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1,5 – 3,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обмене белков, жиров и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Пиридокс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,0 - 2,2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своение белка и здоровье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Ниацин (Р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15 – 2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ОВР в клетках. Недостаток вызывает пеллагр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Фолиевая кислота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Кроветворный фактор, участвует в синтезе аминокислот, нуклеиновых кислот, холи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Цианокобальтам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 – 5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Необходим для кроветворения, предотвращает анемию, важен для роста организ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Биотин (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50 -3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реакциях обмена кисл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Пантотеновая к-та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5 – 10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обмене белков, жиров,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Хо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50-600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Синтез биологически важных соедин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Ретинол (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0,5 – 2,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лучшает зрение, сохраняет подвижность суста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Кальциферол (</a:t>
                      </a:r>
                      <a:r>
                        <a:rPr b="1" lang="en-US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,5 – 1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Обмен кальция и фосфата, минерализация костей и зуб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Токоферол (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8 – 1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Активный антиокислит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255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ИЗ  ИСТОРИИ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12600">
            <a:solidFill>
              <a:srgbClr val="660033"/>
            </a:solidFill>
            <a:miter/>
          </a:ln>
        </p:spPr>
        <p:txBody>
          <a:bodyPr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- это органические вещества, поступающие в организмы человека и животных с пищей или синтезируемые ими, необходимые для нормального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открыты Н. И. Луниным в 188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Сейчас известно около 50 видов витам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 организме они, как правило, не откладываются, а их избытки выводятся органами вы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Наибольшее количество витаминов имеется в растительных продуктах, но некоторые содержатся только в животны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ри недостатке витаминов в пище в организме развиваются заболевания - гипоавитамин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755640" y="3860640"/>
            <a:ext cx="2303640" cy="0"/>
          </a:xfrm>
          <a:prstGeom prst="line">
            <a:avLst/>
          </a:prstGeom>
          <a:ln w="38160">
            <a:solidFill>
              <a:srgbClr val="92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85480" y="1599840"/>
            <a:ext cx="442908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ичный желток, морковь, рыбий жир, сметана, молоко, печ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озиро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вная боль, токсичен для печени, истончает волосы, шелушение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785840" y="157176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ение зрения, восстановление кожного покрова, укрепление волос, регенерация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зрения, куриная(ночная) слепота, кожны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http://s50.radikal.ru/i130/0906/28/87707f873168.jpg"/>
          <p:cNvPicPr/>
          <p:nvPr/>
        </p:nvPicPr>
        <p:blipFill>
          <a:blip r:embed="rId1"/>
          <a:stretch/>
        </p:blipFill>
        <p:spPr>
          <a:xfrm>
            <a:off x="6357960" y="142920"/>
            <a:ext cx="2214720" cy="15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1c1c"/>
                </a:solidFill>
                <a:latin typeface="Arial"/>
              </a:rPr>
              <a:t>Витамин 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D,D1,D2 </a:t>
            </a:r>
            <a:r>
              <a:rPr b="0" lang="ru-RU" sz="4000" spc="-1" strike="noStrike">
                <a:solidFill>
                  <a:srgbClr val="1c1c1c"/>
                </a:solidFill>
                <a:latin typeface="Arial"/>
              </a:rPr>
              <a:t>кальциферо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ий жир, сметана, печень, яичный жел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52640" y="1600200"/>
            <a:ext cx="4033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ение клеток лимфы, усвоение кальция и фосфора в к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хитизм, понижение мышечного тон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6760" y="2857680"/>
            <a:ext cx="403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озиро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еркальцемия, накопление кальция в почках, сердце, сосудах и суста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6" descr="E:\Креатив\Текущие проекты\Интернет ресурс primefc.ru\Сайт primefc.ru\Диетология и правильное питание\Катинки витамины\vitamins2212.jpg"/>
          <p:cNvPicPr/>
          <p:nvPr/>
        </p:nvPicPr>
        <p:blipFill>
          <a:blip r:embed="rId1"/>
          <a:stretch/>
        </p:blipFill>
        <p:spPr>
          <a:xfrm>
            <a:off x="2643120" y="4929120"/>
            <a:ext cx="33339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Е токоферол</a:t>
            </a:r>
            <a:br>
              <a:rPr sz="4400"/>
            </a:b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ительное масло, авокадо, орехи, ростки пшеницы, ба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оксидант вместе с А и С, разжижает кровь, укрепляет иммун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3499920"/>
            <a:ext cx="403380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 передоз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652640" y="39466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я состава крови у детей, ранние роды, анемии, от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7" descr="E:\Креатив\Текущие проекты\Интернет ресурс primefc.ru\Сайт primefc.ru\Диетология и правильное питание\Катинки витамины\untitled.bmp"/>
          <p:cNvPicPr/>
          <p:nvPr/>
        </p:nvPicPr>
        <p:blipFill>
          <a:blip r:embed="rId1"/>
          <a:stretch/>
        </p:blipFill>
        <p:spPr>
          <a:xfrm>
            <a:off x="714240" y="4071960"/>
            <a:ext cx="3262320" cy="2119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: предотвращает попадание инфекции в кровь, принимает участие в механизме свертывания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: все виды капусты, свекла, образуется при участии кишечных 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птомы нехватки: плохая свертываемость крови, неактивная печ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озировка: желтуха, анем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К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42" name="Picture 9" descr="http://s46.radikal.ru/i113/0906/76/59d39d7e69a3.jpg"/>
          <p:cNvPicPr/>
          <p:nvPr/>
        </p:nvPicPr>
        <p:blipFill>
          <a:blip r:embed="rId1"/>
          <a:stretch/>
        </p:blipFill>
        <p:spPr>
          <a:xfrm>
            <a:off x="2928960" y="4000680"/>
            <a:ext cx="3524400" cy="25621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Витамин С аскорбиновая кислота</a:t>
            </a:r>
            <a:br>
              <a:rPr sz="3200"/>
            </a:b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142640"/>
            <a:ext cx="40338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ц, капуста, клубника, киви, цитрусовые, помидоры, дыня, печ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озиров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салатовые камни в поч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52640" y="928440"/>
            <a:ext cx="4033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оксидант №1, противораковый, участвует в образовании коллагена, укрепляет иммунную систему, помогает усвоению желе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емия, нарушения иммунитета, плохое ранозаживление, цинга, утомляемость, кровотечения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E:\Креатив\Текущие проекты\Интернет ресурс primefc.ru\Сайт primefc.ru\Диетология и правильное питание\Катинки витамины\1234463272_vit.jpg"/>
          <p:cNvPicPr/>
          <p:nvPr/>
        </p:nvPicPr>
        <p:blipFill>
          <a:blip r:embed="rId1"/>
          <a:stretch/>
        </p:blipFill>
        <p:spPr>
          <a:xfrm>
            <a:off x="1000080" y="4214880"/>
            <a:ext cx="2952720" cy="17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В1</a:t>
            </a:r>
            <a:r>
              <a:rPr b="0" lang="he-IL" sz="4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785880"/>
            <a:ext cx="8472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водный  обмен, белковый обмен, работа нервной системы, предотвращает гиперкальцемию сосудов, катализатор при образовании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ень, желток, орехи, злаки, кру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ы нехват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ость, потеря аппетита, нарушения работы НС, болезни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рис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ростки, алкоголики, спортсм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E:\Креатив\Текущие проекты\Интернет ресурс primefc.ru\Сайт primefc.ru\Диетология и правильное питание\Катинки витамины\1234463272_vit.jpg"/>
          <p:cNvPicPr/>
          <p:nvPr/>
        </p:nvPicPr>
        <p:blipFill>
          <a:blip r:embed="rId1"/>
          <a:stretch/>
        </p:blipFill>
        <p:spPr>
          <a:xfrm>
            <a:off x="4000680" y="4572000"/>
            <a:ext cx="338112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1:27:55Z</dcterms:created>
  <dc:creator>Admin</dc:creator>
  <dc:description/>
  <dc:language>en-US</dc:language>
  <cp:lastModifiedBy>Галина</cp:lastModifiedBy>
  <dcterms:modified xsi:type="dcterms:W3CDTF">2011-02-20T19:11:38Z</dcterms:modified>
  <cp:revision>5</cp:revision>
  <dc:subject/>
  <dc:title>Слайд 1</dc:title>
</cp:coreProperties>
</file>