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3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5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A56-F364-4E2E-B3A6-3B8D6914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7C8-1A22-457F-8B88-792F4DC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6BD27-C3BA-4811-B2F0-A181FD43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A503-000D-4567-8967-54390D0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CD4E8-53FA-4C05-83AC-8B5D2DF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75A45-B2DF-43B3-BC90-D081289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62843-A068-4FB3-9653-4E2D716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67643-A8E3-496A-8B41-3AE4A9B9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0C9F-D398-485C-B1D8-488993F5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8B4FE-C156-4024-8B5F-5AB9344F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93184-266E-45A4-A9EA-87385D43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46499-DBC0-4215-BEFB-B5C2A6C7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B59-B51F-4715-A9F3-498B3564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7D779-DF3C-44E9-BF12-C5DFF8C1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64E8B-8F5E-4C9D-8A58-823A28D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9A243-9773-4906-87FB-4A590CDF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B409-7416-4CC2-B827-D03F4723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2D57-9298-40AF-9117-8FF873F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2D582-1658-4F77-9190-2A5A29B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0D55-9B69-4304-AA5F-FE533DA0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519B2-91E7-46F8-81C5-491B2DC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495BB-934B-4AD8-85A0-35B535DA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381A9-0628-404A-991B-173C99A2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FEB-A94F-4A9D-816F-A16380A9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A188A-B72E-43DC-A1BC-4496C4E8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86ED-5351-4144-BA00-53D77E4C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C8E0-0ECE-4295-91FA-1B3460B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589-5885-40D9-9240-5898EAF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FB4A-AD8A-46DF-B4FA-6CB2093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7A15-E7D4-4460-A308-43D6951B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EAF-E3E1-4B01-A7EB-F2075B7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D1F-3F08-4506-9F35-435604E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1BE-1682-4AA2-A008-F2A86E8E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AC4-E19A-44F6-B4A8-CA1848E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29D-6A16-4B30-8BDF-7BDB4FB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32C4-ECDB-45A7-9366-D778C63C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B63A-2DA4-4707-85FE-DA1D2529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108E-FF4C-4575-83C6-362882E8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231E-5550-4699-8B11-CCC9774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75DD-12A1-4AE3-88BC-4E783FC2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F11C-A44D-487F-8733-FF9C9C18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435C-D638-4B68-9EC9-A684D6F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D463-0C26-450D-954D-34F42D2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814-FE9A-4D20-A84C-FD5048B8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D50E-382C-430F-A700-D3C702E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7A74-8B5F-4B12-A1D7-451D0DB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31E3-2803-46A5-A45C-FF9261F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81E8-4DDD-49A4-99E3-56FEC08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F2DA-21F0-4778-8A39-A2BD3D67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846B-C10A-4345-8063-8070140D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652E-2F74-409A-910A-16D678EE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99FA-7E9D-4103-B8F2-20E157B5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A070-9966-4CCC-BA57-6BCFC06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0E1C-CBD1-4128-958C-22D4D608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ECA-D390-4F37-A359-F68CAC9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B40D-EE17-452A-ABFB-583B1C21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118F-1636-42F8-A6B4-EEA92DA9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68AB-DFCB-472F-BD28-9216924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64E1-3ACF-44FA-9D9F-7AE93F1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42CA-D37C-487C-9542-E2916A7E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B30F-8307-44E9-9ED8-AD78AD4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E1EA-4A46-4293-AF11-FBA37195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63C0-2FE0-4369-BE04-125A4032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2F91-C945-4C03-9B0C-FC1DBBF3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E207-0E9C-44AC-A270-463A5E53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ADC-D62B-4DE0-B432-213E0809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4966-0D6F-46F7-B2F3-90344D6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1B33A-A104-4AB5-AE6B-62B73F53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A89F-453D-4678-8E77-27DA397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1564-607A-4449-A6E0-B60EF30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CDAD-C3ED-491B-8FB1-6CB68441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9244-99B5-42A6-AB49-C084FC9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E811-D94F-4FCC-AE5F-D5C155D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B064-BFA0-4F61-8615-CACA686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695B-2E5C-43F2-934F-BF4E303A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9A6D-4EA6-4291-9A35-D51234F0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CE5-AAD0-43DF-B338-DE6A14C7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49CF-9905-47B2-A3A5-9E13DA5E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E46D-EBA0-401C-AFAE-9C433F7F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DF641-BB69-48D0-9287-9FFA540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DCD96-2BC3-4868-A2F8-1367D6E9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3FFE-C2FD-4D10-B31F-B7DFA0C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4F80-D697-4B47-AC34-535A93A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6B82-58DB-4DBC-BB16-6F55B4C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3D3D-0AE5-4CB3-A340-09BE6DC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72BA-5D00-4F8D-B644-96572AB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829F-15C4-45B5-A65A-FC25085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238-AC8B-4F60-80E8-7582C75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C9E3-94BB-464D-9D16-FD367A74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77913-9742-43E7-A3FB-BDF83B72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532E-D555-4F9D-AC9F-A71C8E23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61617-6545-4C27-AB8A-E63D4AD9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2D12D-43E3-4EEF-B1CA-EC15502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EFDB-A7D6-469C-81D8-4B61CD4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5C0F-F931-4FF5-9FE5-48E5A4C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D4FF-5D85-49AE-8857-DBDCCC1F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A798-DE88-40C2-8A31-B8F47D9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1213-4E19-4102-B723-6F8C451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05F-DA03-4C10-8833-66FF110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27F1-4B1A-4860-A459-DDC90CC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2FAC-15CE-406D-872F-F79DCE5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1F190-BACF-4198-AE66-29F146A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2040-9828-4D26-87B5-9935677C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E60C-2C7B-4105-B53A-739D9ADB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2E8DD-33F9-448E-B2E6-C399D2E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6F3C2-9FED-4677-998B-4698D5C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324D8-EA99-45BE-AABB-3F67988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FA6E-DA4E-4601-BF14-BD823CA8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32DF-DDF3-4468-91AA-5E0C80D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EB6-9044-461A-B7FF-AEA5D5B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F3E1-4259-4D71-B8C7-1B2C99E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CC6A3-9660-4586-8BBB-B8189F7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2681-E32F-4CEE-87E2-1ADDAAE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B2AAA-9C63-43A6-9217-BE9726B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F7F3F-D092-4AAA-ABA5-9A05D052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ADB2-369A-496E-9FED-18A1909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1F4C-D42D-4CB5-9F3D-9E8217F7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5B359-8028-4F01-81B6-EE48DCEA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DBA48-DE36-409F-8EAB-768B7A36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96E1A-9C86-4FAD-A14A-C4FECF23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BC9-00DD-4A3F-87A5-C8E58436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E495-1A70-4C12-B59C-EEE3769967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3F0E-12E7-4504-BD3A-57AF5C98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F580-27B6-43AB-9CE2-92C650EF3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EA3-7C65-42CF-8190-E59908FC1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7D5B-0A5F-44F5-98B4-E1598783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27B-7E99-4768-8C1C-E43DE41F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C67-1139-4FAE-A103-6E81A29A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581E-F8E4-4333-8E55-CAA231E2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4389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7984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31480" indent="-1256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E05-264F-4AFD-B264-FE0EF658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Georgia"/>
              </a:rPr>
              <a:t>ВИТАМИН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гда весна прид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 зн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йдут дожди, сойдут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3" descr="витамины.jpg"/>
          <p:cNvPicPr/>
          <p:nvPr/>
        </p:nvPicPr>
        <p:blipFill>
          <a:blip r:embed="rId1"/>
          <a:stretch/>
        </p:blipFill>
        <p:spPr>
          <a:xfrm>
            <a:off x="5572080" y="28584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500040" y="1428840"/>
            <a:ext cx="410544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b2-1"/>
          <p:cNvPicPr/>
          <p:nvPr/>
        </p:nvPicPr>
        <p:blipFill>
          <a:blip r:embed="rId1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4d4d4d"/>
            </a:solidFill>
            <a:miter/>
          </a:ln>
        </p:spPr>
      </p:pic>
      <p:pic>
        <p:nvPicPr>
          <p:cNvPr id="457" name="Picture 10" descr="b2-2"/>
          <p:cNvPicPr/>
          <p:nvPr/>
        </p:nvPicPr>
        <p:blipFill>
          <a:blip r:embed="rId2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58" name="Picture 11" descr="ы"/>
          <p:cNvPicPr/>
          <p:nvPr/>
        </p:nvPicPr>
        <p:blipFill>
          <a:blip r:embed="rId3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b5-1"/>
          <p:cNvPicPr/>
          <p:nvPr/>
        </p:nvPicPr>
        <p:blipFill>
          <a:blip r:embed="rId1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66" name="Picture 10" descr="drossi"/>
          <p:cNvPicPr/>
          <p:nvPr/>
        </p:nvPicPr>
        <p:blipFill>
          <a:blip r:embed="rId2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9" descr="b6-3"/>
          <p:cNvPicPr/>
          <p:nvPr/>
        </p:nvPicPr>
        <p:blipFill>
          <a:blip r:embed="rId1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474" name="Picture 10" descr="ovohi"/>
          <p:cNvPicPr/>
          <p:nvPr/>
        </p:nvPicPr>
        <p:blipFill>
          <a:blip r:embed="rId2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75" name="Picture 11" descr="Pp4371i"/>
          <p:cNvPicPr/>
          <p:nvPr/>
        </p:nvPicPr>
        <p:blipFill>
          <a:blip r:embed="rId3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9" descr="apricot"/>
          <p:cNvPicPr/>
          <p:nvPr/>
        </p:nvPicPr>
        <p:blipFill>
          <a:blip r:embed="rId1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483" name="Picture 10" descr="________________________2-116-17"/>
          <p:cNvPicPr/>
          <p:nvPr/>
        </p:nvPicPr>
        <p:blipFill>
          <a:blip r:embed="rId2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484" name="Picture 11" descr="F4372i"/>
          <p:cNvPicPr/>
          <p:nvPr/>
        </p:nvPicPr>
        <p:blipFill>
          <a:blip r:embed="rId3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i?id=59345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492" name="Picture 10" descr="arachis_hypogaea"/>
          <p:cNvPicPr/>
          <p:nvPr/>
        </p:nvPicPr>
        <p:blipFill>
          <a:blip r:embed="rId3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493" name="Picture 11" descr="Pn4367i"/>
          <p:cNvPicPr/>
          <p:nvPr/>
        </p:nvPicPr>
        <p:blipFill>
          <a:blip r:embed="rId4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2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производство аминокислот и жирных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ы: внутренние органы животных, мясо, рыба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йца, твороги и сыры, образуется при помощи кишечных бакте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хватка: анемия, дегенерация слизистой кишечника, неврал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иска: вегетарианцы, старики, язвен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E:\Креатив\Текущие проекты\Интернет ресурс primefc.ru\Сайт primefc.ru\Диетология и правильное питание\Катинки витамины\vitamin 1.jpg"/>
          <p:cNvPicPr/>
          <p:nvPr/>
        </p:nvPicPr>
        <p:blipFill>
          <a:blip r:embed="rId1"/>
          <a:stretch/>
        </p:blipFill>
        <p:spPr>
          <a:xfrm>
            <a:off x="3643200" y="4500720"/>
            <a:ext cx="381024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5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9" descr="i?id=569851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04" name="Picture 10" descr="i?id=12431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505" name="Picture 11" descr="Pb4378i"/>
          <p:cNvPicPr/>
          <p:nvPr/>
        </p:nvPicPr>
        <p:blipFill>
          <a:blip r:embed="rId5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Обеспечение организма витаминами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07" name="Picture 2" descr="E:\Креатив\Текущие проекты\Интернет ресурс primefc.ru\Сайт primefc.ru\Диетология и правильное питание\Катинки витамины\353.jpg"/>
          <p:cNvPicPr/>
          <p:nvPr/>
        </p:nvPicPr>
        <p:blipFill>
          <a:blip r:embed="rId1"/>
          <a:stretch/>
        </p:blipFill>
        <p:spPr>
          <a:xfrm>
            <a:off x="500040" y="714240"/>
            <a:ext cx="8143920" cy="5929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ru-RU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vit 24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510" name="Picture 4" descr="vitamine_01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511" name="Picture 5" descr="vitd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512" name="Picture 6" descr="i?id=251328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i?id=16346845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514" name="Picture 8" descr="i?id=30408046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5" name="Picture 9" descr="image_alvityl2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516" name="Picture 10" descr="vit_big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7" name="Picture 11" descr="multi_vitamin_uvlogh_licho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518" name="Picture 12" descr="vit 10"/>
          <p:cNvPicPr/>
          <p:nvPr/>
        </p:nvPicPr>
        <p:blipFill>
          <a:blip r:embed="rId11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519" name="Picture 13" descr="i?id=33618965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5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2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fruits1i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524" name="Picture 6" descr="D2EE5B2E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525" name="Picture 7" descr="D84FE241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133720" y="762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00040" y="1071720"/>
            <a:ext cx="8143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вещества, ответственные за правильное функционирование человеческого организма.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Человек не способен производить их, или производит их в недостаточном колич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4108"/>
                </a:solidFill>
                <a:latin typeface="Times New Roman"/>
              </a:rPr>
              <a:t>Мы получаем витамины из пищи.</a:t>
            </a:r>
            <a:br>
              <a:rPr sz="2400"/>
            </a:b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Витамины делятся на водорастворимые и на жирорастворимые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685800" y="0"/>
            <a:ext cx="1905120" cy="1071720"/>
          </a:xfrm>
          <a:prstGeom prst="cloudCallout">
            <a:avLst>
              <a:gd name="adj1" fmla="val 94916"/>
              <a:gd name="adj2" fmla="val 42425"/>
            </a:avLst>
          </a:prstGeom>
          <a:gradFill rotWithShape="0">
            <a:gsLst>
              <a:gs pos="0">
                <a:srgbClr val="ff6699"/>
              </a:gs>
              <a:gs pos="100000">
                <a:srgbClr val="f841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685800" y="285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мы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7"/>
          <p:cNvSpPr txBox="1"/>
          <p:nvPr/>
        </p:nvSpPr>
        <p:spPr>
          <a:xfrm>
            <a:off x="3857760" y="0"/>
            <a:ext cx="48574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Витам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AutoShape 8"/>
          <p:cNvSpPr/>
          <p:nvPr/>
        </p:nvSpPr>
        <p:spPr>
          <a:xfrm>
            <a:off x="4143240" y="28576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E:\Креатив\Текущие проекты\Интернет ресурс primefc.ru\Сайт primefc.ru\Диетология и правильное питание\Катинки витамины\vitamin.jpg"/>
          <p:cNvPicPr/>
          <p:nvPr/>
        </p:nvPicPr>
        <p:blipFill>
          <a:blip r:embed="rId1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E:\Креатив\Текущие проекты\Интернет ресурс primefc.ru\Сайт primefc.ru\Диетология и правильное питание\Катинки витамины\big_4472.jpg"/>
          <p:cNvPicPr/>
          <p:nvPr/>
        </p:nvPicPr>
        <p:blipFill>
          <a:blip r:embed="rId2"/>
          <a:stretch/>
        </p:blipFill>
        <p:spPr>
          <a:xfrm>
            <a:off x="857160" y="4572000"/>
            <a:ext cx="314352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0" y="765000"/>
          <a:ext cx="9144000" cy="61120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a3a3a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a3a3a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5480" y="1599840"/>
            <a:ext cx="442908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ичный желток, морковь, рыбий жир, сметана, молоко,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ная боль, токсичен для печени, истончает волосы, шелушение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785840" y="157176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ение зрения, восстановление кожного покрова, укрепление волос, регенерация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зрения, куриная(ночная) слепота, кожны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http://s50.radikal.ru/i130/0906/28/87707f873168.jpg"/>
          <p:cNvPicPr/>
          <p:nvPr/>
        </p:nvPicPr>
        <p:blipFill>
          <a:blip r:embed="rId1"/>
          <a:stretch/>
        </p:blipFill>
        <p:spPr>
          <a:xfrm>
            <a:off x="6357960" y="142920"/>
            <a:ext cx="221472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D,D1,D2 </a:t>
            </a:r>
            <a:r>
              <a:rPr b="0" lang="ru-RU" sz="4000" spc="-1" strike="noStrike">
                <a:solidFill>
                  <a:srgbClr val="1c1c1c"/>
                </a:solidFill>
                <a:latin typeface="Arial"/>
              </a:rPr>
              <a:t>кальциферо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ий жир, сметана, печень, яичный жел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52640" y="1600200"/>
            <a:ext cx="4033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клеток лимфы, усвоение кальция и фосфора в 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хитизм, понижение мышечного тон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6760" y="2857680"/>
            <a:ext cx="403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оз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кальцемия, накопление кальция в почках, сердце, сосудах и суст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E:\Креатив\Текущие проекты\Интернет ресурс primefc.ru\Сайт primefc.ru\Диетология и правильное питание\Катинки витамины\vitamins2212.jpg"/>
          <p:cNvPicPr/>
          <p:nvPr/>
        </p:nvPicPr>
        <p:blipFill>
          <a:blip r:embed="rId1"/>
          <a:stretch/>
        </p:blipFill>
        <p:spPr>
          <a:xfrm>
            <a:off x="2643120" y="4929120"/>
            <a:ext cx="33339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Е токоферол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ое масло, авокадо, орехи, ростки пшеницы, ба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оксидант вместе с А и С, разжижает кровь, укрепляет иммун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3499920"/>
            <a:ext cx="40338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передоз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я состава крови у детей, ранние роды, анемии, 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E:\Креатив\Текущие проекты\Интернет ресурс primefc.ru\Сайт primefc.ru\Диетология и правильное питание\Катинки витамины\untitled.bmp"/>
          <p:cNvPicPr/>
          <p:nvPr/>
        </p:nvPicPr>
        <p:blipFill>
          <a:blip r:embed="rId1"/>
          <a:stretch/>
        </p:blipFill>
        <p:spPr>
          <a:xfrm>
            <a:off x="714240" y="4071960"/>
            <a:ext cx="3262320" cy="2119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 предотвращает попадание инфекции в кровь, принимает участие в механизме свертывания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: все виды капусты, свекла, образуется при участии кишечных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нехватки: плохая свертываемость крови, неактивная пе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озировка: желтуха, анем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2" name="Picture 9" descr="http://s46.radikal.ru/i113/0906/76/59d39d7e69a3.jpg"/>
          <p:cNvPicPr/>
          <p:nvPr/>
        </p:nvPicPr>
        <p:blipFill>
          <a:blip r:embed="rId1"/>
          <a:stretch/>
        </p:blipFill>
        <p:spPr>
          <a:xfrm>
            <a:off x="2928960" y="4000680"/>
            <a:ext cx="3524400" cy="25621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Витамин С аскорбиновая кислота</a:t>
            </a:r>
            <a:br>
              <a:rPr sz="3200"/>
            </a:b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142640"/>
            <a:ext cx="40338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ц, капуста, клубника, киви, цитрусовые, помидоры, дыня, печ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зиров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салатовые камни в п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52640" y="928440"/>
            <a:ext cx="4033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оксидант №1, противораковый, участвует в образовании коллагена, укрепляет иммунную систему, помогает усвоению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, нарушения иммунитета, плохое ранозаживление, цинга, утомляемость, кровотечения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1000080" y="4214880"/>
            <a:ext cx="295272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Витамин В1</a:t>
            </a:r>
            <a:r>
              <a:rPr b="0" lang="he-IL" sz="4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8472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водный  обмен, белковый обмен, работа нервной системы, предотвращает гиперкальцемию сосудов, катализатор при образовании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, желток, орехи, злаки, кру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птомы нехват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бость, потеря аппетита, нарушения работы НС, болезни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рис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остки, алкоголики, спортс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E:\Креатив\Текущие проекты\Интернет ресурс primefc.ru\Сайт primefc.ru\Диетология и правильное питание\Катинки витамины\1234463272_vit.jpg"/>
          <p:cNvPicPr/>
          <p:nvPr/>
        </p:nvPicPr>
        <p:blipFill>
          <a:blip r:embed="rId1"/>
          <a:stretch/>
        </p:blipFill>
        <p:spPr>
          <a:xfrm>
            <a:off x="4000680" y="4572000"/>
            <a:ext cx="338112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27:55Z</dcterms:created>
  <dc:creator>Admin</dc:creator>
  <dc:description/>
  <dc:language>en-US</dc:language>
  <cp:lastModifiedBy>Галина</cp:lastModifiedBy>
  <dcterms:modified xsi:type="dcterms:W3CDTF">2011-02-20T19:11:38Z</dcterms:modified>
  <cp:revision>5</cp:revision>
  <dc:subject/>
  <dc:title>Слайд 1</dc:title>
</cp:coreProperties>
</file>