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7CB-8931-48B0-9C28-06548655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CA2-1F78-42E8-BA3C-F2D6BA53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5E7-B1E2-4148-B668-5B898968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202-5265-4281-8B48-A07F3355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A47A-B941-4B9D-A688-4FA2043A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C7FA-43B3-45E6-9CC6-2F75B270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7088-B640-4170-8E36-7B9D8DF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536B-48DF-470F-A15B-10169027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8C8-EAD2-40EC-AA5A-A76CB51F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32D4-7FF3-4EEA-AFCA-92110F4E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B1F3-C57F-4A18-B497-08DA5F59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7ED-B95A-4679-97A4-47C64B4F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5DA6-F5C0-4B8E-B279-57CF698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288F-535B-4BBC-819F-A0E4DFB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84DA-0147-43A3-8905-C4B6AB06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A00B-052D-4A5E-AD04-CE008258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24CB-DDD4-4C63-B3AD-F32313E1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6655-7D0E-436A-8F05-7A57A67A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61DD-B862-496D-A61D-2E5594DA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F366-E954-4AB9-886F-04B94ECB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28E7-9338-4FFE-8BA7-BDEB64E4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94C1-3913-4A2D-909E-5FAAAD46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D21-F8A8-43DA-AA1C-DE4A5963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C1A6-B7BE-4E0E-BA28-A5AAD383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7E77-A509-4627-8D45-042C150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03311-D249-49EC-B951-AC4C9601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7E56-79F3-4D33-BB66-2E0AF98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CF3B1-4835-41E0-92DD-035F8959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4E93-C3FD-40BA-BFF8-81362C4E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84304-444D-4545-9A5D-B2177B23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FC83C-CBED-4997-8C3B-1D8A6E20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8B81-6732-4838-90B0-622BB91F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2974C-6E60-43AC-9575-852B6435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D23-DB40-44E0-94F8-9339C1B5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8EBC0-FDD2-458B-9478-AA805C02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00D4F-BA26-419C-ADD6-A7100EC9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5B40-5A81-4BBB-8148-4AC80EC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D256-5417-4A74-9AB7-EF7A343F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C9FF-0266-40DC-B801-4FE4015A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CDE7-521A-4784-90EB-4C00769C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7A0D-199D-4083-85D0-B0CC64E0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F0E63-0AD1-4061-8547-7C7390B8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7F98-16B6-4ED4-B93A-8773A5DB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924-DCE5-4033-B50D-8C65488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4AE-F63F-4892-913E-2294B572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670-A9C3-4D06-B88F-E302F842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DEB-B1C6-4C57-8E1C-0ECDDC6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BAC-3B02-4E78-AC63-06A92109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16BD6E-66B6-4208-AE82-03EABA8EA4F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112854-D246-4D5E-844E-CFFD75279DC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3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1370160" y="3960720"/>
            <a:ext cx="7313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B03A96-4263-4534-B60C-AF9396C8D17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357948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5102280" y="1827360"/>
            <a:ext cx="358092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370160" y="3960720"/>
            <a:ext cx="7313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447267-A7A7-46BB-A654-0C067C49E7F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1000_Vladimir_2.jpg" TargetMode="External"/><Relationship Id="rId2" Type="http://schemas.openxmlformats.org/officeDocument/2006/relationships/hyperlink" Target="http://en.wikipedia.org/wiki/File:Alexander_Newski.jpg" TargetMode="External"/><Relationship Id="rId3" Type="http://schemas.openxmlformats.org/officeDocument/2006/relationships/hyperlink" Target="http://en.wikipedia.org/wiki/File:Ivan_III_of_Russia_3.jpg" TargetMode="External"/><Relationship Id="rId4" Type="http://schemas.openxmlformats.org/officeDocument/2006/relationships/hyperlink" Target="http://en.wikipedia.org/wiki/File:Ivan_the_Terrible_(cropped).JPG" TargetMode="External"/><Relationship Id="rId5" Type="http://schemas.openxmlformats.org/officeDocument/2006/relationships/hyperlink" Target="http://en.wikipedia.org/wiki/List_of_Russian_people" TargetMode="External"/><Relationship Id="rId6" Type="http://schemas.openxmlformats.org/officeDocument/2006/relationships/hyperlink" Target="http://en.wikipedia.org/wiki/File:Vasily_Chapaev.gif" TargetMode="External"/><Relationship Id="rId7" Type="http://schemas.openxmlformats.org/officeDocument/2006/relationships/hyperlink" Target="https://www.google.ru/" TargetMode="External"/><Relationship Id="rId8" Type="http://schemas.openxmlformats.org/officeDocument/2006/relationships/hyperlink" Target="http://www.youtube.com/watch?v=eXQPD6OcugY" TargetMode="External"/><Relationship Id="rId9" Type="http://schemas.openxmlformats.org/officeDocument/2006/relationships/hyperlink" Target="http://www.youtube.com/watch?v=eXQPD6OcugY" TargetMode="External"/><Relationship Id="rId10" Type="http://schemas.openxmlformats.org/officeDocument/2006/relationships/hyperlink" Target="http://www.youtube.com/watch?v=eXQPD6OcugY" TargetMode="External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 you have an exampl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follow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ul McCartne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3640" y="1268640"/>
            <a:ext cx="77706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is a popular singer and musician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ngs are loved very much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7" descr="пол маккартни"/>
          <p:cNvPicPr/>
          <p:nvPr/>
        </p:nvPicPr>
        <p:blipFill>
          <a:blip r:embed="rId1"/>
          <a:stretch/>
        </p:blipFill>
        <p:spPr>
          <a:xfrm>
            <a:off x="971640" y="2743200"/>
            <a:ext cx="2436480" cy="3428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Beatles1"/>
          <p:cNvPicPr/>
          <p:nvPr/>
        </p:nvPicPr>
        <p:blipFill>
          <a:blip r:embed="rId2"/>
          <a:stretch/>
        </p:blipFill>
        <p:spPr>
          <a:xfrm>
            <a:off x="3733920" y="2819520"/>
            <a:ext cx="403668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es Dicken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03640" y="1196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is a great British writer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ooks are read all over the world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6" descr="чарльз диккенс"/>
          <p:cNvPicPr/>
          <p:nvPr/>
        </p:nvPicPr>
        <p:blipFill>
          <a:blip r:embed="rId1"/>
          <a:stretch/>
        </p:blipFill>
        <p:spPr>
          <a:xfrm>
            <a:off x="1219320" y="2803680"/>
            <a:ext cx="6400440" cy="36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right brother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77706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ere famous American inventors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lane was the first one to fly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7" descr="бр райт"/>
          <p:cNvPicPr/>
          <p:nvPr/>
        </p:nvPicPr>
        <p:blipFill>
          <a:blip r:embed="rId1"/>
          <a:stretch/>
        </p:blipFill>
        <p:spPr>
          <a:xfrm>
            <a:off x="304920" y="2362320"/>
            <a:ext cx="4028760" cy="234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d81d753b6559ae4f14f380729eef1839"/>
          <p:cNvPicPr/>
          <p:nvPr/>
        </p:nvPicPr>
        <p:blipFill>
          <a:blip r:embed="rId2"/>
          <a:stretch/>
        </p:blipFill>
        <p:spPr>
          <a:xfrm>
            <a:off x="4648320" y="3124080"/>
            <a:ext cx="4114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 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2 ex.3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an you tell your foreign friend about famous Russian people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3000"/>
          </a:bodyPr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My hero is Pavel Nakhimov (1802—1855). He was  a Russian admiral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n many sea battle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I admire Nikolai Pirogov (1810—1881). He was a famous doctor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d many people after many battle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 like listening to the old songs of the Time Machine (Mashyna Vremeni). It is a popular Russian rock group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ic attracts many people and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ngs are nice to listen to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 admire the works of Vladimir Vysotsky (1938—1980). He was a poet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rote many popular songs. And he was an actor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s in theatre performances and films made him famou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I admire the pictures by  Vassily Surikov (1848—1916). He is a well-known Russian painter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ictures show the life in old Russia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I like the plays of Alexander Ostrovsky (1823—1886). He was a popular dramatist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ote many wonderful play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Dmitry Mendeleev (1834—1907) was a great Russian scientis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odic Table was a revolution in chemistry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1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.B., p132, ex., 1, part 3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8229240" cy="57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8000"/>
          </a:bodyPr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g) Amelia Earhart was an American pilo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bition  was to fly around the world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f) Steven Spielberg is an American film  maker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lms are exciting to watch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e) Mary Shelley is a British  writer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vel Frankenstein is known all over the world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b) Kate Winslet is a British actress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ole in  Titanic made her popular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d) Charles Darwin was a famous scientis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orks changed the  life scienc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a) Paul McCartney is a popular singer and musician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ngs are loved very much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h) Charles Dickens is a great  British writer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ooks are read all over the world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c) The Wright brothers were famous American inventors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ne was the first  one to fly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6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4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B., pp.97-98, ex. 1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57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8000"/>
          </a:bodyPr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A good docto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s sick people well. A good docto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ients feel good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A good writ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s interesting  books. A good writ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 are sold in many  countrie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A good sing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s wonderful songs.  A good sing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gs are liked and sung everywhere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A good engine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s new machines. A good engine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ines work well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A good sportsman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s championships. A good sportsman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are always high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A good architect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beautiful buildings. A good architect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s are often interesting for tourist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A good acto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play different roles. A good acto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s are wonderfu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 fontScale="99000"/>
          </a:bodyPr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.wikipedia.org/wiki/File:1000_Vladimir_2.jp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n.wikipedia.org/wiki/File:Alexander_Newski.jp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n.wikipedia.org/wiki/File:Ivan_III_of_Russia_3.jp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n.wikipedia.org/wiki/File:Ivan_the_Terrible_(cropped).JP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n.wikipedia.org/wiki/List_of_Russian_people#Actor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en.wikipedia.org/wiki/File:Vasily_Chapaev.gif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s://www.google.ru/#hl=ru&amp;gs_rn=1&amp;gs_ri=hp&amp;tok=zCv1DsPokh0p3NSJtc_wfA&amp;pq=patriotic%20poems%20for%20children%20in%20english&amp;cp=8&amp;gs_id=2o&amp;xhr=t&amp;q=house+that+jack+built&amp;es_nrs=true&amp;pf=p&amp;newwindow=1&amp;tbo=d&amp;sclient=psy-ab&amp;oq=house+th&amp;gs_l=&amp;pbx=1&amp;bav=on.2,or.r_gc.r_pw.r_qf.&amp;bvm=bv.41018144,d.d2k&amp;fp=7af2b703551b6064&amp;biw=1024&amp;bih=548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youtube.com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atch?v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=eXQPD6Ocug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ecking your homework.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haroni"/>
              </a:rPr>
              <a:t>AB p.94-95 ex.1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0000"/>
          </a:bodyPr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Peter and Ellen were the only to get prizes. Other classmates didn’t get any prize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In her class Helen is the only to play the piano. No one else plays any musical instrument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Melody was the first to finish the test. Others  finished the test at the end of the lesson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Phil was the last to come  to the finish in the running competitions. He was very upset!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Roy  won the swimming competition. Sam was the second to swim to the finish and he was happy to have the silver medal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Lisa was the first  to clean her room. Her brother and sister finished cleaning only in the evening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229240" cy="1571400"/>
          </a:xfrm>
          <a:prstGeom prst="rect">
            <a:avLst/>
          </a:prstGeom>
          <a:solidFill>
            <a:schemeClr val="accent1"/>
          </a:solidFill>
          <a:ln w="25560">
            <a:solidFill>
              <a:srgbClr val="3a5f8b"/>
            </a:solidFill>
            <a:round/>
          </a:ln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en-US" sz="4000" spc="-1" strike="noStrike">
                <a:solidFill>
                  <a:schemeClr val="lt1"/>
                </a:solidFill>
                <a:latin typeface="Calibri"/>
              </a:rPr>
              <a:t>Grammar for revision</a:t>
            </a:r>
            <a:br>
              <a:rPr sz="4400"/>
            </a:b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ридаточные определительные предложения</a:t>
            </a: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 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8229240" cy="45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1000"/>
          </a:bodyPr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мы описываем то, что связано с человеком, предметом, мы используем придаточное определительное предложение с союзным слов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придаточное предложение относится к одушевлённому предмету, то оно присоединяется к главному предложению с помощью союзных слов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торый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whose (чей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придаточное предложение относится к неодушевленному предмету, то оно присоединяется к главному предложению с помощью союзных слов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which (который), whose (чей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         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F.ex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                   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he people who live in the village get up early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                   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he film which I saw yesterday was interesting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         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I like people whose ideas can change the world for the better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Fill in the gaps.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Use who, which, whose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24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35960" indent="-435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the people ... come to this theatre are from England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35960" indent="-435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y brother ... picture you have seen in the room is a very nice guy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35960" indent="-435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father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as very rich sent him to Eton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35960" indent="-435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don't read books ... have a happy ending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290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000"/>
            </a:b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lia Earhart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9640" y="1340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was the first American pilot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mbition was to fly around the world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2" descr="амелия эрхарт"/>
          <p:cNvPicPr/>
          <p:nvPr/>
        </p:nvPicPr>
        <p:blipFill>
          <a:blip r:embed="rId1"/>
          <a:stretch/>
        </p:blipFill>
        <p:spPr>
          <a:xfrm>
            <a:off x="1905120" y="2819520"/>
            <a:ext cx="546696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ieven Spielberg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9640" y="1268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is an American film maker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ilms are exciting to watch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steven-spielberg-5"/>
          <p:cNvPicPr/>
          <p:nvPr/>
        </p:nvPicPr>
        <p:blipFill>
          <a:blip r:embed="rId1"/>
          <a:stretch/>
        </p:blipFill>
        <p:spPr>
          <a:xfrm>
            <a:off x="1828800" y="2822400"/>
            <a:ext cx="58669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y Shelle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Mary-Shelley"/>
          <p:cNvPicPr/>
          <p:nvPr/>
        </p:nvPicPr>
        <p:blipFill>
          <a:blip r:embed="rId1"/>
          <a:stretch/>
        </p:blipFill>
        <p:spPr>
          <a:xfrm>
            <a:off x="228600" y="2514600"/>
            <a:ext cx="4495320" cy="27554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3640" y="1268640"/>
            <a:ext cx="77706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is a British writer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vel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Frankenste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known all over the world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9" descr="Без названия"/>
          <p:cNvPicPr/>
          <p:nvPr/>
        </p:nvPicPr>
        <p:blipFill>
          <a:blip r:embed="rId2"/>
          <a:stretch/>
        </p:blipFill>
        <p:spPr>
          <a:xfrm>
            <a:off x="4800600" y="3048120"/>
            <a:ext cx="3885840" cy="29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 Winsle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03640" y="1340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is a British actress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ole in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Titan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made her popular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6" descr="кейт уинслет"/>
          <p:cNvPicPr/>
          <p:nvPr/>
        </p:nvPicPr>
        <p:blipFill>
          <a:blip r:embed="rId1"/>
          <a:stretch/>
        </p:blipFill>
        <p:spPr>
          <a:xfrm>
            <a:off x="1447920" y="2906640"/>
            <a:ext cx="5943240" cy="33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es Darwi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03640" y="1268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was famous scientist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orks changed the life sciences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чарльз дарвин"/>
          <p:cNvPicPr/>
          <p:nvPr/>
        </p:nvPicPr>
        <p:blipFill>
          <a:blip r:embed="rId1"/>
          <a:stretch/>
        </p:blipFill>
        <p:spPr>
          <a:xfrm>
            <a:off x="1905120" y="2666880"/>
            <a:ext cx="2695320" cy="33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  <Words>880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1:55:26Z</dcterms:created>
  <dc:creator>Юлия</dc:creator>
  <dc:description/>
  <dc:language>en-US</dc:language>
  <cp:lastModifiedBy>вероника</cp:lastModifiedBy>
  <dcterms:modified xsi:type="dcterms:W3CDTF">2021-02-17T09:53:12Z</dcterms:modified>
  <cp:revision>24</cp:revision>
  <dc:subject/>
  <dc:title>What kind of people do you admir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