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7.png" ContentType="image/png"/>
  <Override PartName="/ppt/media/image6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20.gif" ContentType="image/gi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2DE19-AC3E-46E0-9507-7E6882CD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9333E-3AE2-4834-A1C9-5926EF0A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D896-5254-45A5-A351-710D573E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63E2D-D1C2-4F5F-A122-7724FA21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843E-6DAF-4CBE-9F4F-84AC5ABC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EBCB-DD0E-441B-8662-034D152E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77D0-DC48-46EC-8A39-F903F04D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006C-11B1-4417-B84D-5B29B9BB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FB48-54B5-48D9-B401-BBC9547D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703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57EF-B7B1-42A9-928E-149A5787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9270-0078-4017-A242-CD66B9EC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ECAA-2E02-4792-A324-67E6683C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F7EF-52A0-4729-B4E8-3B4EAFD1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EFCF-0F89-4FAB-9F6F-278631F6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AF1D-4281-4590-B16D-FBB1C5E9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ABBB-6C43-4652-99D8-783112D5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E506-7EB5-465F-8DC5-9CC67DB0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5F14B-A389-4514-A492-57BB5AD4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E27F-064F-4650-8FF0-BE3DAE5E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0048-1BCA-484C-BC67-5C5BF05B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A8EF-72E8-4D97-8760-93631B96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9C2AB-53B9-4838-A065-15F50D00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99B5-8F70-4B64-8FFA-6398221A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703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AB3F9-BFD6-49A4-B012-563FA870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B86B2-C42D-4D2E-808E-1F9C3218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FD241-C849-4F28-8F77-077F6A87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94879-9112-4D48-B01D-A1F082DB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7B04A-5414-41C8-B701-C1E0A65A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1C496-BDF8-419B-BA4B-1ED35560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C0112-5EBE-4813-95A3-D18FB75E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F7F74-271F-4A62-BA7F-8842B514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DBCFD-B52D-4D36-98CF-D1D1A24B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96D4F-270D-4D71-8D43-8F2DF4F1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AEF5E-F94B-4335-806B-9146A892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FC388-7B1C-4617-BFCF-FD2A60F1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27FC9-EBF5-4740-AD12-343FD97D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703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B4F61-D0E9-458E-AF2A-2EE969E7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62335-6476-45BE-8FC7-1B2F0D6B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C3002-522C-4659-9F16-60161CB3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BB30F-4180-47DE-A128-B175AE25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D41A9-718A-4CAF-89E1-C322CA1F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C670D-9B2C-49E1-864F-C47411B2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69E34-2117-4A4E-8FC5-BB361902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9877D-4901-496C-ADB9-106E2569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1A48-065F-4997-B2DA-0EE46D66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7A5CD-09C7-4400-9394-938637B8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869DC-7F1F-4E8B-89FB-18AFA9B5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66423-853A-45DB-A729-759EE309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E079E-339F-40D0-8F77-797A5293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703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61815-A307-418A-A218-5EDE103E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B279D-D6F3-4931-9ADA-19C65F57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B342C-92EC-444B-8C3D-EB19A064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B7519-CAB7-42C9-B87B-555C955C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F5BDA-2FD4-4BC6-9DA0-1AD8A0C9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6DD44-041C-472C-851C-48C2C0DF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703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1A13-CEB5-4AE2-BB8D-1B1F3ACA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BA8F2-7F78-4290-802D-2A7FA4F6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356F-A440-4391-8B79-59DDA3C2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F90A-2ACB-4AF7-B286-85F58AEA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8AA4-4DDF-4BF0-BBC9-F9981EF8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e98e"/>
            </a:gs>
            <a:gs pos="100000">
              <a:srgbClr val="80d6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28D764-52F9-41B2-B7A1-63E9C4D1C653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e98e"/>
            </a:gs>
            <a:gs pos="100000">
              <a:srgbClr val="80d6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28C5E5-875B-4CA6-9E59-230599FC05DF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e98e"/>
            </a:gs>
            <a:gs pos="100000">
              <a:srgbClr val="80d6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43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00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36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360"/>
              </a:spcBef>
              <a:buClr>
                <a:srgbClr val="748560"/>
              </a:buClr>
              <a:buFont typeface="Arial"/>
              <a:buChar char="-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267080" y="16002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43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00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36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360"/>
              </a:spcBef>
              <a:buClr>
                <a:srgbClr val="748560"/>
              </a:buClr>
              <a:buFont typeface="Arial"/>
              <a:buChar char="-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D79F14-4363-4289-AB6F-8FDD689F7E5D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e98e"/>
            </a:gs>
            <a:gs pos="100000">
              <a:srgbClr val="80d6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748560"/>
              </a:buClr>
              <a:buFont typeface="Arial"/>
              <a:buChar char="-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57B09F-5F75-4599-A33C-5C08418E6B31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e98e"/>
            </a:gs>
            <a:gs pos="100000">
              <a:srgbClr val="80d6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5486400"/>
            <a:ext cx="403992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1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body"/>
          </p:nvPr>
        </p:nvSpPr>
        <p:spPr>
          <a:xfrm>
            <a:off x="4645080" y="5486400"/>
            <a:ext cx="404136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1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457200" y="1517040"/>
            <a:ext cx="403992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360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32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320"/>
              </a:spcBef>
              <a:buClr>
                <a:srgbClr val="748560"/>
              </a:buClr>
              <a:buFont typeface="Arial"/>
              <a:buChar char="-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body"/>
          </p:nvPr>
        </p:nvSpPr>
        <p:spPr>
          <a:xfrm>
            <a:off x="4645080" y="1517040"/>
            <a:ext cx="404136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400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360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32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320"/>
              </a:spcBef>
              <a:buClr>
                <a:srgbClr val="748560"/>
              </a:buClr>
              <a:buFont typeface="Arial"/>
              <a:buChar char="-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dt" idx="13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 type="ftr" idx="14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8"/>
          <p:cNvSpPr>
            <a:spLocks noGrp="1"/>
          </p:cNvSpPr>
          <p:nvPr>
            <p:ph type="sldNum" idx="15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45DA9F-C974-4D3A-8B04-E7D44C06919D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ru.wikipedia.org/wiki/&#1047;&#1072;&#1087;&#1086;&#1084;&#1080;&#1085;&#1072;&#1085;&#1080;&#1077;" TargetMode="External"/><Relationship Id="rId3" Type="http://schemas.openxmlformats.org/officeDocument/2006/relationships/hyperlink" Target="http://ru.wikipedia.org/wiki/&#1055;&#1072;&#1084;&#1103;&#1090;&#1100;" TargetMode="External"/><Relationship Id="rId4" Type="http://schemas.openxmlformats.org/officeDocument/2006/relationships/hyperlink" Target="http://ru.wikipedia.org/wiki/&#1040;&#1089;&#1089;&#1086;&#1094;&#1080;&#1072;&#1094;&#1080;&#1103;_(&#1087;&#1089;&#1080;&#1093;&#1086;&#1083;&#1086;&#1075;&#1080;&#1103;)" TargetMode="External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1071360" y="312480"/>
            <a:ext cx="6857640" cy="5270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«Использование  мнемонических  прием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и изучении  биолог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6"/>
          <p:cNvSpPr/>
          <p:nvPr/>
        </p:nvSpPr>
        <p:spPr>
          <a:xfrm>
            <a:off x="1214280" y="428760"/>
            <a:ext cx="678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2060"/>
                </a:solidFill>
                <a:latin typeface="Monotype Corsiva"/>
              </a:rPr>
              <a:t>РМО  учителей  би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 flipV="1">
            <a:off x="0" y="-2933640"/>
            <a:ext cx="45360" cy="541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3708000" y="4509000"/>
            <a:ext cx="3456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ель:Губеева М.Х учитель биологии МБОУ марийская гимназия им. Я. Ялкайна с. Чурае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33480" y="116640"/>
            <a:ext cx="90028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дной из сложных и важных реакций,  идущих в клетке, является самоудвоение (репликация) ДНК. Это целая цепь реакций, начинающихся с разрыва водородных связей между двумя цепями  ДНК. Последовательность реакций можно показать с использованием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двух застежек-мол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http://www.geneticsrus.org/Genes/showrep.gif"/>
          <p:cNvPicPr/>
          <p:nvPr/>
        </p:nvPicPr>
        <p:blipFill>
          <a:blip r:embed="rId1"/>
          <a:stretch/>
        </p:blipFill>
        <p:spPr>
          <a:xfrm>
            <a:off x="323640" y="2794320"/>
            <a:ext cx="3960000" cy="3871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https://previews.123rf.com/images/happyroman/happyroman1202/happyroman120200025/12485587-Zipper-black-symbols-Stock-Vector-zipper-stencil-zip.jpg"/>
          <p:cNvPicPr/>
          <p:nvPr/>
        </p:nvPicPr>
        <p:blipFill>
          <a:blip r:embed="rId2"/>
          <a:stretch/>
        </p:blipFill>
        <p:spPr>
          <a:xfrm>
            <a:off x="5004000" y="2794320"/>
            <a:ext cx="3773520" cy="3871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78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Franklin Gothic Book"/>
              </a:rPr>
              <a:t>Так например в 10 классе по теме «Деление клетки», как запомнить последовательность фаз митоза</a:t>
            </a:r>
            <a:br>
              <a:rPr sz="3600"/>
            </a:br>
            <a:br>
              <a:rPr sz="3600"/>
            </a:b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7640" y="233208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20480" indent="-384120">
              <a:lnSpc>
                <a:spcPct val="100000"/>
              </a:lnSpc>
              <a:spcBef>
                <a:spcPts val="720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рофаз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720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етафаз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720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нафаз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720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елофаз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0" y="2327400"/>
            <a:ext cx="3657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20480" indent="-384120">
              <a:lnSpc>
                <a:spcPct val="100000"/>
              </a:lnSpc>
              <a:spcBef>
                <a:spcPts val="720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ап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720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ама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720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ня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720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оля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285840" y="571320"/>
            <a:ext cx="8857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3200" spc="-1" strike="noStrike">
              <a:solidFill>
                <a:srgbClr val="ff0000"/>
              </a:solidFill>
              <a:latin typeface="Monotype Corsiva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285840" y="357120"/>
            <a:ext cx="885780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дии  профазы  мейоза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пецкий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од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ковых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гателей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жды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птотена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завершение репликации ДН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иготена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конъюгация гомологичных            хромос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хитена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кроссингов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плотена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ыявление хиаз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акинез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ерминализация хиаз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4"/>
          <p:cNvSpPr/>
          <p:nvPr/>
        </p:nvSpPr>
        <p:spPr>
          <a:xfrm>
            <a:off x="676440" y="785880"/>
            <a:ext cx="768168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               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Таксоны  раст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ирк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громный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упол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естрый,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ловно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адугой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ознёс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царство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отдел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класс,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порядок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семейство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род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вид</a:t>
            </a:r>
            <a:r>
              <a:rPr b="0" lang="ru-RU" sz="4400" spc="-1" strike="noStrike">
                <a:solidFill>
                  <a:srgbClr val="002060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Users\Пользователь\Desktop\ДЮП\posterlux-raduga_molniya-00042495.jpg"/>
          <p:cNvPicPr/>
          <p:nvPr/>
        </p:nvPicPr>
        <p:blipFill>
          <a:blip r:embed="rId1"/>
          <a:stretch/>
        </p:blipFill>
        <p:spPr>
          <a:xfrm>
            <a:off x="857160" y="4143240"/>
            <a:ext cx="2644920" cy="2214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Users\Пользователь\Desktop\ДЮП\iIL7R1AVS.jpg"/>
          <p:cNvPicPr/>
          <p:nvPr/>
        </p:nvPicPr>
        <p:blipFill>
          <a:blip r:embed="rId2"/>
          <a:stretch/>
        </p:blipFill>
        <p:spPr>
          <a:xfrm>
            <a:off x="5572080" y="4214880"/>
            <a:ext cx="2428560" cy="214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1" lang="ru-RU" sz="4600" spc="-1" strike="noStrike">
                <a:solidFill>
                  <a:srgbClr val="0070c0"/>
                </a:solidFill>
                <a:latin typeface="Franklin Gothic Book"/>
              </a:rPr>
              <a:t>Систематика животных</a:t>
            </a:r>
            <a:br>
              <a:rPr sz="4600"/>
            </a:b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680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Ц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арство,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ип,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ласс,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тряд,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емейство, 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3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од, 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ид.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Ц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рский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рем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кроет,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у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ыцарем 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рнется    или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пко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щит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ызок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ребристой 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3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ыбки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рткой:  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5567760" y="4415760"/>
            <a:ext cx="3046680" cy="2437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611640" y="4805280"/>
            <a:ext cx="3276360" cy="204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50000"/>
          </a:bodyPr>
          <a:p>
            <a:pPr indent="0">
              <a:lnSpc>
                <a:spcPct val="100000"/>
              </a:lnSpc>
              <a:buNone/>
            </a:pPr>
            <a:br>
              <a:rPr sz="4600"/>
            </a:br>
            <a:r>
              <a:rPr b="0" lang="ru-RU" sz="4600" spc="-1" strike="noStrike">
                <a:solidFill>
                  <a:srgbClr val="c00000"/>
                </a:solidFill>
                <a:latin typeface="Franklin Gothic Book"/>
              </a:rPr>
              <a:t>Я</a:t>
            </a:r>
            <a:r>
              <a:rPr b="0" lang="ru-RU" sz="4600" spc="-1" strike="noStrike">
                <a:solidFill>
                  <a:srgbClr val="000099"/>
                </a:solidFill>
                <a:latin typeface="Franklin Gothic Book"/>
              </a:rPr>
              <a:t> </a:t>
            </a:r>
            <a:r>
              <a:rPr b="0" lang="ru-RU" sz="4600" spc="-1" strike="noStrike">
                <a:solidFill>
                  <a:srgbClr val="c00000"/>
                </a:solidFill>
                <a:latin typeface="Franklin Gothic Book"/>
              </a:rPr>
              <a:t>д</a:t>
            </a:r>
            <a:r>
              <a:rPr b="0" lang="ru-RU" sz="4600" spc="-1" strike="noStrike">
                <a:solidFill>
                  <a:srgbClr val="000099"/>
                </a:solidFill>
                <a:latin typeface="Franklin Gothic Book"/>
              </a:rPr>
              <a:t>ам </a:t>
            </a:r>
            <a:r>
              <a:rPr b="0" lang="ru-RU" sz="4600" spc="-1" strike="noStrike">
                <a:solidFill>
                  <a:srgbClr val="c00000"/>
                </a:solidFill>
                <a:latin typeface="Franklin Gothic Book"/>
              </a:rPr>
              <a:t>т</a:t>
            </a:r>
            <a:r>
              <a:rPr b="0" lang="ru-RU" sz="4600" spc="-1" strike="noStrike">
                <a:solidFill>
                  <a:srgbClr val="000099"/>
                </a:solidFill>
                <a:latin typeface="Franklin Gothic Book"/>
              </a:rPr>
              <a:t>ебе </a:t>
            </a:r>
            <a:r>
              <a:rPr b="0" lang="ru-RU" sz="4600" spc="-1" strike="noStrike">
                <a:solidFill>
                  <a:srgbClr val="c00000"/>
                </a:solidFill>
                <a:latin typeface="Franklin Gothic Book"/>
              </a:rPr>
              <a:t>в</a:t>
            </a:r>
            <a:r>
              <a:rPr b="0" lang="ru-RU" sz="4600" spc="-1" strike="noStrike">
                <a:solidFill>
                  <a:srgbClr val="000099"/>
                </a:solidFill>
                <a:latin typeface="Franklin Gothic Book"/>
              </a:rPr>
              <a:t>енчика </a:t>
            </a:r>
            <a:r>
              <a:rPr b="0" lang="ru-RU" sz="4600" spc="-1" strike="noStrike">
                <a:solidFill>
                  <a:srgbClr val="c00000"/>
                </a:solidFill>
                <a:latin typeface="Franklin Gothic Book"/>
              </a:rPr>
              <a:t>л</a:t>
            </a:r>
            <a:r>
              <a:rPr b="0" lang="ru-RU" sz="4600" spc="-1" strike="noStrike">
                <a:solidFill>
                  <a:srgbClr val="000099"/>
                </a:solidFill>
                <a:latin typeface="Franklin Gothic Book"/>
              </a:rPr>
              <a:t>епестки.</a:t>
            </a:r>
            <a:br>
              <a:rPr sz="4600"/>
            </a:b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4560" indent="0">
              <a:lnSpc>
                <a:spcPct val="11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зычковый, 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угубый, 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убчатый, 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ронковидный, 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жноязычковый.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marL="34560" indent="0">
              <a:lnSpc>
                <a:spcPct val="11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лова второй строчки начинаются на те же буквы, что и названия типов цветка: 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971640" y="4149000"/>
            <a:ext cx="6840360" cy="280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164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46000"/>
          </a:bodyPr>
          <a:p>
            <a:pPr indent="0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r>
              <a:rPr b="0" lang="ru-RU" sz="3100" spc="-1" strike="noStrike">
                <a:solidFill>
                  <a:srgbClr val="002060"/>
                </a:solidFill>
                <a:latin typeface="Times New Roman"/>
              </a:rPr>
              <a:t>Учащиеся, запомнив ключевое слово-ассоциацию (</a:t>
            </a:r>
            <a:r>
              <a:rPr b="0" lang="ru-RU" sz="3100" spc="-1" strike="noStrike">
                <a:solidFill>
                  <a:srgbClr val="ff0000"/>
                </a:solidFill>
                <a:latin typeface="Times New Roman"/>
              </a:rPr>
              <a:t>Лимпопо</a:t>
            </a:r>
            <a:r>
              <a:rPr b="0" lang="ru-RU" sz="3100" spc="-1" strike="noStrike">
                <a:solidFill>
                  <a:srgbClr val="002060"/>
                </a:solidFill>
                <a:latin typeface="Times New Roman"/>
              </a:rPr>
              <a:t>) или (</a:t>
            </a:r>
            <a:r>
              <a:rPr b="0" lang="ru-RU" sz="3100" spc="-1" strike="noStrike">
                <a:solidFill>
                  <a:srgbClr val="ff0000"/>
                </a:solidFill>
                <a:latin typeface="Times New Roman"/>
              </a:rPr>
              <a:t>эсминец</a:t>
            </a:r>
            <a:r>
              <a:rPr b="0" lang="ru-RU" sz="3100" spc="-1" strike="noStrike">
                <a:solidFill>
                  <a:srgbClr val="002060"/>
                </a:solidFill>
                <a:latin typeface="Times New Roman"/>
              </a:rPr>
              <a:t> – военный корабль), смогут восстановить  в памяти типы тканей.</a:t>
            </a:r>
            <a:br>
              <a:rPr sz="3100"/>
            </a:br>
            <a:endParaRPr b="0" lang="ru-RU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403992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5080" y="5486400"/>
            <a:ext cx="404136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640" y="1556640"/>
            <a:ext cx="403992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27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32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Ткани.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marL="32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Растительные ткани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marL="32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Л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ист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меет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еханическую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окровную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бразовательную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роводящую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сновную  ткани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45080" y="1517040"/>
            <a:ext cx="404136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345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Ткани животных 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marL="345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Э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ителиальная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единительная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ышечная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ервная ткань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диное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елое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"/>
          <p:cNvSpPr/>
          <p:nvPr/>
        </p:nvSpPr>
        <p:spPr>
          <a:xfrm>
            <a:off x="251640" y="610200"/>
            <a:ext cx="8892000" cy="8867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2 па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черепно -  мозговых  нер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хранять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з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доровье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г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раждан,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(Их)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б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олезненное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т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ело, </a:t>
            </a:r>
            <a:br>
              <a:rPr sz="3600"/>
            </a:b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блегчать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л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юдскую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с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тражду –</a:t>
            </a:r>
            <a:br>
              <a:rPr sz="3600"/>
            </a:b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Я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вно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б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лагостное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д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ело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чинаем  с первой пары нервов и далее: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бонятельны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I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з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ительны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II), г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лазодвигательны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III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б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локовый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IV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т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ойничны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V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тводящи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VI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ицево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VII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луховой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VIII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зыкоглоточны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IX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б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луждающи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X)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д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бавочны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XI).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е вошла в стихотворение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XII пара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ервов -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ъязыч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2"/>
          <p:cNvSpPr/>
          <p:nvPr/>
        </p:nvSpPr>
        <p:spPr>
          <a:xfrm>
            <a:off x="971640" y="548640"/>
            <a:ext cx="81720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бломов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Обоня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ет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Зр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е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Глазодвиг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ыла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         Блок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тьяна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Тройни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         Отводящий г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етит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Лице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трелой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Слух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зык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         Языкоглот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лтается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Блуждаю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Добав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ят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         Подъязы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395640" y="188640"/>
            <a:ext cx="856872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нем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работают с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лбочками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очью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ходят с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алочками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– для запоминания специфики работы фоторецепторов сетчатки гл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395640" y="2274840"/>
            <a:ext cx="849672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Чтобы учащиеся не путали комплементарные азотистые основания, им можно предложить для запоминания пары сл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нас – 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релка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Ц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ыпленок – 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езд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(Ананас на тарелке, цыпленок в гнезде).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 А–Т Ц–Г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r>
              <a:rPr b="1" lang="ru-RU" sz="4400" spc="-1" strike="noStrike">
                <a:solidFill>
                  <a:srgbClr val="0070c0"/>
                </a:solidFill>
                <a:latin typeface="Franklin Gothic Book"/>
              </a:rPr>
              <a:t>Способы запоминания</a:t>
            </a: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Скругленный прямоугольник 2"/>
          <p:cNvSpPr/>
          <p:nvPr/>
        </p:nvSpPr>
        <p:spPr>
          <a:xfrm>
            <a:off x="467640" y="1989000"/>
            <a:ext cx="2324880" cy="379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e848d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2400" spc="-1" strike="noStrike">
                <a:solidFill>
                  <a:schemeClr val="dk1"/>
                </a:solidFill>
                <a:latin typeface="Arial"/>
                <a:ea typeface="Calibri"/>
              </a:rPr>
              <a:t>Рациональный  (логиче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2400" spc="-1" strike="noStrike">
                <a:solidFill>
                  <a:schemeClr val="dk1"/>
                </a:solidFill>
                <a:latin typeface="Arial"/>
                <a:ea typeface="Calibri"/>
              </a:rPr>
              <a:t>«понял-запомн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2400" spc="-1" strike="noStrike">
                <a:solidFill>
                  <a:schemeClr val="dk1"/>
                </a:solidFill>
                <a:latin typeface="Arial"/>
                <a:ea typeface="Calibri"/>
              </a:rPr>
              <a:t>Эффектив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415320" y="1989000"/>
            <a:ext cx="2304000" cy="3797280"/>
          </a:xfrm>
          <a:prstGeom prst="rect">
            <a:avLst/>
          </a:prstGeom>
          <a:ln w="0">
            <a:noFill/>
          </a:ln>
        </p:spPr>
      </p:pic>
      <p:sp>
        <p:nvSpPr>
          <p:cNvPr id="226" name="Скругленный прямоугольник 6"/>
          <p:cNvSpPr/>
          <p:nvPr/>
        </p:nvSpPr>
        <p:spPr>
          <a:xfrm>
            <a:off x="6192360" y="1989360"/>
            <a:ext cx="2448000" cy="379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e848d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</a:pPr>
            <a:r>
              <a:rPr b="0" lang="ru-RU" sz="2400" spc="-1" strike="noStrike">
                <a:solidFill>
                  <a:schemeClr val="dk1"/>
                </a:solidFill>
                <a:latin typeface="Arial"/>
                <a:ea typeface="Calibri"/>
              </a:rPr>
              <a:t>Мнемотехника сам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</a:pPr>
            <a:r>
              <a:rPr b="0" lang="ru-RU" sz="2400" spc="-1" strike="noStrike">
                <a:solidFill>
                  <a:schemeClr val="dk1"/>
                </a:solidFill>
                <a:latin typeface="Arial"/>
                <a:ea typeface="Calibri"/>
              </a:rPr>
              <a:t>интересный наиболее тренируемый дополняет други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трелка вниз 8"/>
          <p:cNvSpPr/>
          <p:nvPr/>
        </p:nvSpPr>
        <p:spPr>
          <a:xfrm>
            <a:off x="4279320" y="1234440"/>
            <a:ext cx="57564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8" name="Стрелка вниз 9"/>
          <p:cNvSpPr/>
          <p:nvPr/>
        </p:nvSpPr>
        <p:spPr>
          <a:xfrm>
            <a:off x="1459800" y="1234440"/>
            <a:ext cx="686160" cy="431640"/>
          </a:xfrm>
          <a:prstGeom prst="downArrow">
            <a:avLst>
              <a:gd name="adj1" fmla="val 50000"/>
              <a:gd name="adj2" fmla="val 47251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9" name="Стрелка вниз 10"/>
          <p:cNvSpPr/>
          <p:nvPr/>
        </p:nvSpPr>
        <p:spPr>
          <a:xfrm>
            <a:off x="7164360" y="1234440"/>
            <a:ext cx="50364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ea0b0"/>
          </a:solidFill>
          <a:ln>
            <a:solidFill>
              <a:srgbClr val="5176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Функции белков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Начало каждого слова соответствует определенной функции белков:</a:t>
            </a: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403992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5080" y="5486400"/>
            <a:ext cx="404136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45080" y="1517040"/>
            <a:ext cx="404136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талитическая,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игательная,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ыхательная,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нспортная,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щитная,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роительная,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гнальная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ргетическая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1517040"/>
            <a:ext cx="403992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жд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евуш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лжна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чно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т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ой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едьмо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аж 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945000" y="791640"/>
            <a:ext cx="7143480" cy="5362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Бинарную номенклатуру предлож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)Ч. Дарвин .   б) К. Л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ей.  В) Ж.Б.Ламарк.  г) С.С Четвер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ием ассоциации «бинарность», в наиболее общем понимании, означает «два», в фамилии ученого -  две буквы  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» подряд: Л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            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Прямоугольник 2"/>
          <p:cNvSpPr/>
          <p:nvPr/>
        </p:nvSpPr>
        <p:spPr>
          <a:xfrm>
            <a:off x="395640" y="260640"/>
            <a:ext cx="864072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пример, палеозойская  эра делится на  6 периодов, это  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ОСДК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–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емб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 –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рд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 –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ил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 –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ев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–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арб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 –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ерм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ериоды мезозойской эры – 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ЮМ: ты юра м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 –три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Ю – ю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 – м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64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Катархей  Архей  Протерозой  Палеозой  Мезозой   Кайнозой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403992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5080" y="5486400"/>
            <a:ext cx="404136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ru-RU" sz="2400" spc="-1" strike="noStrike">
              <a:solidFill>
                <a:schemeClr val="accent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1517040"/>
            <a:ext cx="403992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7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1. вариант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том 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явился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ир 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йнозойский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45080" y="1517040"/>
            <a:ext cx="404136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7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. вариант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роматный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яник 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ожила 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ама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ле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1" descr="http://everyfun.net/uploads/posts/2012-07/everyfun.net_1343397070-126.jpg"/>
          <p:cNvPicPr/>
          <p:nvPr/>
        </p:nvPicPr>
        <p:blipFill>
          <a:blip r:embed="rId1"/>
          <a:stretch/>
        </p:blipFill>
        <p:spPr>
          <a:xfrm>
            <a:off x="500040" y="1357200"/>
            <a:ext cx="8072280" cy="5095440"/>
          </a:xfrm>
          <a:prstGeom prst="rect">
            <a:avLst/>
          </a:prstGeom>
          <a:ln w="9525">
            <a:noFill/>
          </a:ln>
        </p:spPr>
      </p:pic>
      <p:sp>
        <p:nvSpPr>
          <p:cNvPr id="288" name="TextBox 2"/>
          <p:cNvSpPr/>
          <p:nvPr/>
        </p:nvSpPr>
        <p:spPr>
          <a:xfrm>
            <a:off x="857160" y="214200"/>
            <a:ext cx="7714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72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http://miranimashek.com/_ph/9/2/143592089.gif"/>
          <p:cNvPicPr/>
          <p:nvPr/>
        </p:nvPicPr>
        <p:blipFill>
          <a:blip r:embed="rId2"/>
          <a:stretch/>
        </p:blipFill>
        <p:spPr>
          <a:xfrm rot="19131600">
            <a:off x="685080" y="3739320"/>
            <a:ext cx="1090440" cy="97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http://miranimashek.com/_ph/9/1/534619319.jpg"/>
          <p:cNvPicPr/>
          <p:nvPr/>
        </p:nvPicPr>
        <p:blipFill>
          <a:blip r:embed="rId3"/>
          <a:stretch/>
        </p:blipFill>
        <p:spPr>
          <a:xfrm rot="20312400">
            <a:off x="4969800" y="36126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http://miranimashek.com/_ph/9/1/534619319.jpg"/>
          <p:cNvPicPr/>
          <p:nvPr/>
        </p:nvPicPr>
        <p:blipFill>
          <a:blip r:embed="rId4"/>
          <a:stretch/>
        </p:blipFill>
        <p:spPr>
          <a:xfrm rot="20839800">
            <a:off x="3766680" y="4979520"/>
            <a:ext cx="1038240" cy="898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http://miranimashek.com/_ph/9/2/143592089.gif"/>
          <p:cNvPicPr/>
          <p:nvPr/>
        </p:nvPicPr>
        <p:blipFill>
          <a:blip r:embed="rId5"/>
          <a:stretch/>
        </p:blipFill>
        <p:spPr>
          <a:xfrm rot="19131600">
            <a:off x="7609320" y="2514600"/>
            <a:ext cx="752400" cy="712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http://miranimashek.com/_ph/9/2/143592089.gif"/>
          <p:cNvPicPr/>
          <p:nvPr/>
        </p:nvPicPr>
        <p:blipFill>
          <a:blip r:embed="rId6"/>
          <a:stretch/>
        </p:blipFill>
        <p:spPr>
          <a:xfrm rot="19131600">
            <a:off x="685080" y="3739320"/>
            <a:ext cx="1090440" cy="972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http://miranimashek.com/_ph/9/2/143592089.gif"/>
          <p:cNvPicPr/>
          <p:nvPr/>
        </p:nvPicPr>
        <p:blipFill>
          <a:blip r:embed="rId7"/>
          <a:stretch/>
        </p:blipFill>
        <p:spPr>
          <a:xfrm rot="19131600">
            <a:off x="685080" y="3739320"/>
            <a:ext cx="1090440" cy="972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http://miranimashek.com/_ph/9/2/143592089.gif"/>
          <p:cNvPicPr/>
          <p:nvPr/>
        </p:nvPicPr>
        <p:blipFill>
          <a:blip r:embed="rId8"/>
          <a:stretch/>
        </p:blipFill>
        <p:spPr>
          <a:xfrm rot="19131600">
            <a:off x="6981840" y="4767120"/>
            <a:ext cx="1090440" cy="1000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http://miranimashek.com/_ph/9/2/143592089.gif"/>
          <p:cNvPicPr/>
          <p:nvPr/>
        </p:nvPicPr>
        <p:blipFill>
          <a:blip r:embed="rId9"/>
          <a:stretch/>
        </p:blipFill>
        <p:spPr>
          <a:xfrm rot="19131600">
            <a:off x="4761360" y="4337280"/>
            <a:ext cx="812880" cy="658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http://miranimashek.com/_ph/9/2/143592089.gif"/>
          <p:cNvPicPr/>
          <p:nvPr/>
        </p:nvPicPr>
        <p:blipFill>
          <a:blip r:embed="rId10"/>
          <a:stretch/>
        </p:blipFill>
        <p:spPr>
          <a:xfrm rot="19131600">
            <a:off x="3586680" y="5326560"/>
            <a:ext cx="604440" cy="70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5"/>
          <p:cNvSpPr/>
          <p:nvPr/>
        </p:nvSpPr>
        <p:spPr>
          <a:xfrm>
            <a:off x="285840" y="214200"/>
            <a:ext cx="8643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571320" y="290520"/>
            <a:ext cx="692928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395640" y="299160"/>
            <a:ext cx="8533800" cy="55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Мнемо́ника (</a:t>
            </a:r>
            <a:r>
              <a:rPr b="1" lang="ru-RU" sz="4000" spc="-1" strike="noStrike" u="sng">
                <a:solidFill>
                  <a:srgbClr val="00c8c3"/>
                </a:solidFill>
                <a:uFillTx/>
                <a:latin typeface="Times New Roman"/>
                <a:hlinkClick r:id="rId1"/>
              </a:rPr>
              <a:t>греч.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τὰ μνημονικά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 —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искусство  запоминания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), мнемоте́хника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 — совокупность специальных  приёмов и способов, облегчающих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00c8c3"/>
                </a:solidFill>
                <a:uFillTx/>
                <a:latin typeface="Times New Roman"/>
                <a:hlinkClick r:id="rId2"/>
              </a:rPr>
              <a:t>запоминани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ужной информации и увеличивающих объём </a:t>
            </a:r>
            <a:r>
              <a:rPr b="1" lang="ru-RU" sz="4000" spc="-1" strike="noStrike" u="sng">
                <a:solidFill>
                  <a:srgbClr val="00c8c3"/>
                </a:solidFill>
                <a:uFillTx/>
                <a:latin typeface="Times New Roman"/>
                <a:hlinkClick r:id="rId3"/>
              </a:rPr>
              <a:t>памяти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путём образования </a:t>
            </a:r>
            <a:r>
              <a:rPr b="1" lang="ru-RU" sz="4000" spc="-1" strike="noStrike" u="sng">
                <a:solidFill>
                  <a:srgbClr val="00c8c3"/>
                </a:solidFill>
                <a:uFillTx/>
                <a:latin typeface="Times New Roman"/>
                <a:hlinkClick r:id="rId4"/>
              </a:rPr>
              <a:t>ассоциаций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(связей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34" name="Рисунок 2" descr="Основные приемы мнемоники: метод Цицерона; цифро-буквенный алфавит (метод зап..."/>
          <p:cNvPicPr/>
          <p:nvPr/>
        </p:nvPicPr>
        <p:blipFill>
          <a:blip r:embed="rId1"/>
          <a:stretch/>
        </p:blipFill>
        <p:spPr>
          <a:xfrm>
            <a:off x="251640" y="332640"/>
            <a:ext cx="8568720" cy="61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36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12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4900" spc="-1" strike="noStrike">
                <a:solidFill>
                  <a:srgbClr val="0070c0"/>
                </a:solidFill>
                <a:latin typeface="Franklin Gothic Book"/>
              </a:rPr>
              <a:t>При использовании этого приема запоминания важно знать, что</a:t>
            </a:r>
            <a:r>
              <a:rPr b="0" lang="ru-RU" sz="4900" spc="-1" strike="noStrike">
                <a:solidFill>
                  <a:srgbClr val="ff0000"/>
                </a:solidFill>
                <a:latin typeface="Franklin Gothic Book"/>
              </a:rPr>
              <a:t>:                  </a:t>
            </a:r>
            <a:br>
              <a:rPr sz="3100"/>
            </a:br>
            <a:br>
              <a:rPr sz="2700"/>
            </a:br>
            <a:r>
              <a:rPr b="1" i="1" lang="ru-RU" sz="3100" spc="-1" strike="noStrike">
                <a:solidFill>
                  <a:srgbClr val="ff0000"/>
                </a:solidFill>
                <a:latin typeface="Franklin Gothic Book"/>
              </a:rPr>
              <a:t>1. Запоминанию мешает отсутствие интереса. Выдаваемая информация должна эмоционально возбуждать. Используемые образы должны быть яркими и веселыми.</a:t>
            </a:r>
            <a:br>
              <a:rPr sz="3100"/>
            </a:br>
            <a:r>
              <a:rPr b="1" i="1" lang="ru-RU" sz="3100" spc="-1" strike="noStrike">
                <a:solidFill>
                  <a:srgbClr val="ff0000"/>
                </a:solidFill>
                <a:latin typeface="Franklin Gothic Book"/>
              </a:rPr>
              <a:t>2. Подбирая образы, опираться на жизненный опыт учащихся.</a:t>
            </a:r>
            <a:br>
              <a:rPr sz="3100"/>
            </a:br>
            <a:r>
              <a:rPr b="1" i="1" lang="ru-RU" sz="3100" spc="-1" strike="noStrike">
                <a:solidFill>
                  <a:srgbClr val="ff0000"/>
                </a:solidFill>
                <a:latin typeface="Franklin Gothic Book"/>
              </a:rPr>
              <a:t>3. Наиболее прочна память, основанная на необычных действиях.</a:t>
            </a:r>
            <a:br>
              <a:rPr sz="3100"/>
            </a:br>
            <a:endParaRPr b="0" lang="ru-RU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http://ic.pics.livejournal.com/caenogenesis/47649357/165979/165979_original.jpg"/>
          <p:cNvPicPr/>
          <p:nvPr/>
        </p:nvPicPr>
        <p:blipFill>
          <a:blip r:embed="rId1"/>
          <a:stretch/>
        </p:blipFill>
        <p:spPr>
          <a:xfrm>
            <a:off x="323640" y="620640"/>
            <a:ext cx="8390160" cy="574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323640" y="332640"/>
            <a:ext cx="410400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Тема «Строение клетки». Связь строения и функций митохондри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Какое значение имеет складчатая внутренняя мембрана органоида? Сравниваем две модели юбок. На какую модель больше пойдет ткани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Значит и складчатость внутренней мембраны обеспечивает увеличение площади ее поверхно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https://hsto.org/files/36d/14d/550/36d14d55067e495e911dc4b1f95162d3.PNG"/>
          <p:cNvPicPr/>
          <p:nvPr/>
        </p:nvPicPr>
        <p:blipFill>
          <a:blip r:embed="rId1"/>
          <a:stretch/>
        </p:blipFill>
        <p:spPr>
          <a:xfrm>
            <a:off x="262080" y="370800"/>
            <a:ext cx="4226760" cy="2924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http://dstparts.ru/photos/delaem-skladki-na-yubke-95997-large.jpg"/>
          <p:cNvPicPr/>
          <p:nvPr/>
        </p:nvPicPr>
        <p:blipFill>
          <a:blip r:embed="rId2"/>
          <a:stretch/>
        </p:blipFill>
        <p:spPr>
          <a:xfrm>
            <a:off x="4716000" y="0"/>
            <a:ext cx="4176000" cy="3295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http://fs.nashaucheba.ru/tw_files2/urls_3/1490/d-1489652/img5.jpg"/>
          <p:cNvPicPr/>
          <p:nvPr/>
        </p:nvPicPr>
        <p:blipFill>
          <a:blip r:embed="rId3"/>
          <a:stretch/>
        </p:blipFill>
        <p:spPr>
          <a:xfrm>
            <a:off x="4690800" y="3573000"/>
            <a:ext cx="4226760" cy="3081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179640" y="116640"/>
            <a:ext cx="3888000" cy="60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а вводных уроках общей биологии говорим о природных системах разных уровней. Каждая из систем является составной частью следующей. Таким образом, природа устроена по принципу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«матрешк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http://a24mag.ru/published/publicdata/U810750928A24MAG/attachments/SC/products_pictures/russkaja-matreshka_enl.jpg"/>
          <p:cNvPicPr/>
          <p:nvPr/>
        </p:nvPicPr>
        <p:blipFill>
          <a:blip r:embed="rId1"/>
          <a:stretch/>
        </p:blipFill>
        <p:spPr>
          <a:xfrm>
            <a:off x="4140000" y="3717000"/>
            <a:ext cx="4606560" cy="2787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images.myshared.ru/4/199150/slide_19.jpg"/>
          <p:cNvPicPr/>
          <p:nvPr/>
        </p:nvPicPr>
        <p:blipFill>
          <a:blip r:embed="rId2"/>
          <a:stretch/>
        </p:blipFill>
        <p:spPr>
          <a:xfrm>
            <a:off x="4140000" y="262080"/>
            <a:ext cx="4606560" cy="345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http://sunshine54.ru/published/publicdata/SUNSHINE54DB/attachments/SC/products_pictures/IMG_09246e_enl.JPG"/>
          <p:cNvPicPr/>
          <p:nvPr/>
        </p:nvPicPr>
        <p:blipFill>
          <a:blip r:embed="rId1"/>
          <a:stretch/>
        </p:blipFill>
        <p:spPr>
          <a:xfrm>
            <a:off x="352440" y="3717000"/>
            <a:ext cx="3504600" cy="2599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http://ok-t.ru/studopediasu/baza2/451242515246.files/image017.jpg"/>
          <p:cNvPicPr/>
          <p:nvPr/>
        </p:nvPicPr>
        <p:blipFill>
          <a:blip r:embed="rId2"/>
          <a:stretch/>
        </p:blipFill>
        <p:spPr>
          <a:xfrm>
            <a:off x="4068000" y="3681360"/>
            <a:ext cx="4266720" cy="260964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2"/>
          <p:cNvSpPr/>
          <p:nvPr/>
        </p:nvSpPr>
        <p:spPr>
          <a:xfrm>
            <a:off x="611640" y="188640"/>
            <a:ext cx="7362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Синтез белка происходит в рибосоме клетки, куда поступает информация о белке в виде И-РНК. Синтез белка может происходить с помощью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олисомы.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Что это такое легко запомнить, посмотрев на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бусы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. Полисома – это группа рибосом, нанизанных на одну молекулу и-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5</TotalTime>
  <Application>LibreOffice/7.4.7.2$Linux_X86_64 LibreOffice_project/40$Build-2</Application>
  <AppVersion>15.0000</AppVersion>
  <Words>406</Words>
  <Paragraphs>151</Paragraphs>
  <Company>Your Company N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3:16:17Z</dcterms:created>
  <dc:creator>User</dc:creator>
  <dc:description/>
  <dc:language>en-US</dc:language>
  <cp:lastModifiedBy>Марианна</cp:lastModifiedBy>
  <dcterms:modified xsi:type="dcterms:W3CDTF">2023-01-03T09:34:06Z</dcterms:modified>
  <cp:revision>360</cp:revision>
  <dc:subject/>
  <dc:title>Заселение Кубани казакам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4</vt:r8>
  </property>
</Properties>
</file>