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7.png" ContentType="image/png"/>
  <Override PartName="/ppt/media/image6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960E-E995-465E-80DB-BFAB1520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EC51-1076-43FD-A771-AC896EE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DB4E-E1FE-4569-A30F-78B38C05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A6C3-D3D7-4B44-B6ED-7FB264AC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98B2-48A7-4C2C-9C8E-7B5EBC23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4C2C-99CA-4AFE-B796-D43EE31E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E92F-A87A-4C1D-8636-1BDB6678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E629-AEDC-481F-AD9A-87005E1F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62E-2EFB-4549-ABC3-A319F1FF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F850-652D-439C-A021-90C63C0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B01C-7D2B-46A9-A116-C2470AB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46A4-7B50-4B13-987B-522FB633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3F33-E0AA-4B94-8E71-D49E216B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D65-FA2B-407F-8A99-ECE2ABE0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0ABE-5E6B-4783-928A-536E5550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B039-9226-407A-BEA3-966C2518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FEDA-B6A8-4493-9F6E-5E0A365A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8799-2C34-4A6D-A6DC-50C1010B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9D0A-41FD-4FD4-88B1-FC955CD7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8A6F-E057-40C1-9EE4-F427C2C5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18E7D-C852-4650-A0B8-1DDBAD20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A2F5-3079-43F7-8D6E-2A1A96F6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CBFF-918D-4D34-AC09-5E463836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1D23-1AD1-437F-AD51-991C6C18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F0DA-7D61-420D-972C-887CA359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D311A-F273-4021-92A0-587A217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D139-C358-4A30-AB73-04048F27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4D7D-5E95-4317-B9FC-A3BA681A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2E99-FC94-4697-9A1E-1C2A4F9A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D1D7-5C59-4E01-B6CB-11A7B9F7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488E-24DD-48D0-8701-54B27F49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2B1F-9B64-47BF-AF13-81F884AB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F80EB-EF46-4B9C-A695-3DBE432D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416D-6C73-47EE-909E-C3EC501B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6BB7F-2A04-493E-B03E-FB084301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B032-4B40-4350-8487-1E567160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6B53-284A-4A0D-9605-A5EE04CF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0939-BB1E-4D67-9E77-FD35A9FF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CBD93-6083-4EB7-B44B-C476A26B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53BC-6E9B-45E3-8809-65DC095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42DED-C6BA-4218-B27E-74A01ACC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05C8-9559-413C-BDAB-794785DD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43EC-0A2A-44FF-A393-ED0FE155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64D8-0D66-4382-9CF0-D1434CFC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173A-1599-4AEB-9729-A46B12B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9F322-E0DA-42E9-A7A7-22358A93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5B7B-ECF8-4DB1-A6BC-EB13F302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77F4A-766C-49F3-822C-23D0CE4B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E653-7D9B-4355-AFBD-F7C6E20B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2445-201A-4DCE-A1DC-6647101C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AA2D-F42D-4BA2-AA79-E60CD56B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C64C8-1486-446B-922E-7090ED5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924F-7964-49DD-B21A-EB66437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5787D-614F-4D94-B582-F30AA1AA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0C4BD-6A24-48FA-B5CA-E344F3DF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0239-A7BC-488E-A12F-C07A29AF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2EDA-9186-46FD-ADBB-1F37738E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4BBD-0E09-4592-AE0E-99194590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A782-5FDB-4282-B554-3814119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7264-9002-42E5-AE33-C31096DD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406B90-6042-4FA2-8ACF-B01F2C6C5687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0091A8-B68D-49F0-B579-2C29368A0527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3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6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6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26708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3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6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6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64CB13-402F-4A37-B93F-D2504C2108A0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B5AB68-9076-40B9-9487-F8A0E09E835A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5486400"/>
            <a:ext cx="40399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body"/>
          </p:nvPr>
        </p:nvSpPr>
        <p:spPr>
          <a:xfrm>
            <a:off x="4645080" y="5486400"/>
            <a:ext cx="40413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457200" y="151704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36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2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2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4645080" y="151704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36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2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2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8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5DFC09-45F1-4D5D-8C2B-B33A390387C6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47;&#1072;&#1087;&#1086;&#1084;&#1080;&#1085;&#1072;&#1085;&#1080;&#1077;" TargetMode="External"/><Relationship Id="rId3" Type="http://schemas.openxmlformats.org/officeDocument/2006/relationships/hyperlink" Target="http://ru.wikipedia.org/wiki/&#1055;&#1072;&#1084;&#1103;&#1090;&#1100;" TargetMode="External"/><Relationship Id="rId4" Type="http://schemas.openxmlformats.org/officeDocument/2006/relationships/hyperlink" Target="http://ru.wikipedia.org/wiki/&#1040;&#1089;&#1089;&#1086;&#1094;&#1080;&#1072;&#1094;&#1080;&#1103;_(&#1087;&#1089;&#1080;&#1093;&#1086;&#1083;&#1086;&#1075;&#1080;&#1103;)" TargetMode="Externa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071360" y="312480"/>
            <a:ext cx="6857640" cy="5270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«Использование  мнемонических  прием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и изучении  биолог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1214280" y="428760"/>
            <a:ext cx="678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2060"/>
                </a:solidFill>
                <a:latin typeface="Monotype Corsiva"/>
              </a:rPr>
              <a:t>РМО  учителей  би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 flipV="1">
            <a:off x="0" y="-2933640"/>
            <a:ext cx="45360" cy="541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3708000" y="4509000"/>
            <a:ext cx="345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ель:Губеева М.Х учитель биологии МБОУ марийская гимназия им. Я. Ялкайна с. Чурае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33480" y="116640"/>
            <a:ext cx="90028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дной из сложных и важных реакций,  идущих в клетке, является самоудвоение (репликация) ДНК. Это целая цепь реакций, начинающихся с разрыва водородных связей между двумя цепями  ДНК. Последовательность реакций можно показать с использованием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двух застежек-мол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http://www.geneticsrus.org/Genes/showrep.gif"/>
          <p:cNvPicPr/>
          <p:nvPr/>
        </p:nvPicPr>
        <p:blipFill>
          <a:blip r:embed="rId1"/>
          <a:stretch/>
        </p:blipFill>
        <p:spPr>
          <a:xfrm>
            <a:off x="323640" y="2794320"/>
            <a:ext cx="3960000" cy="3871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s://previews.123rf.com/images/happyroman/happyroman1202/happyroman120200025/12485587-Zipper-black-symbols-Stock-Vector-zipper-stencil-zip.jpg"/>
          <p:cNvPicPr/>
          <p:nvPr/>
        </p:nvPicPr>
        <p:blipFill>
          <a:blip r:embed="rId2"/>
          <a:stretch/>
        </p:blipFill>
        <p:spPr>
          <a:xfrm>
            <a:off x="5004000" y="2794320"/>
            <a:ext cx="3773520" cy="38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7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Franklin Gothic Book"/>
              </a:rPr>
              <a:t>Так например в 10 классе по теме «Деление клетки», как запомнить последовательность фаз митоза</a:t>
            </a:r>
            <a:br>
              <a:rPr sz="3600"/>
            </a:br>
            <a:br>
              <a:rPr sz="3600"/>
            </a:b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7640" y="233208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рофаз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тафаз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афаз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лофаз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0" y="23274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ап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ама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ол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285840" y="571320"/>
            <a:ext cx="8857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32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285840" y="357120"/>
            <a:ext cx="88578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дии  профазы  мейоза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пецки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о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ковых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гателе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ды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птотен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завершение репликации ДН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готен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онъюгация гомологичных            хромос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хитена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россингов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плотена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ыявление хиаз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кинез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ерминализация хиаз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4"/>
          <p:cNvSpPr/>
          <p:nvPr/>
        </p:nvSpPr>
        <p:spPr>
          <a:xfrm>
            <a:off x="676440" y="785880"/>
            <a:ext cx="76816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               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Таксоны  раст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ирк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громны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упол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естрый,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ловн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адугой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ознёс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царство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тдел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ласс,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порядок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емейство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род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ид</a:t>
            </a: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Users\Пользователь\Desktop\ДЮП\posterlux-raduga_molniya-00042495.jpg"/>
          <p:cNvPicPr/>
          <p:nvPr/>
        </p:nvPicPr>
        <p:blipFill>
          <a:blip r:embed="rId1"/>
          <a:stretch/>
        </p:blipFill>
        <p:spPr>
          <a:xfrm>
            <a:off x="857160" y="4143240"/>
            <a:ext cx="2644920" cy="2214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Пользователь\Desktop\ДЮП\iIL7R1AVS.jpg"/>
          <p:cNvPicPr/>
          <p:nvPr/>
        </p:nvPicPr>
        <p:blipFill>
          <a:blip r:embed="rId2"/>
          <a:stretch/>
        </p:blipFill>
        <p:spPr>
          <a:xfrm>
            <a:off x="5572080" y="4214880"/>
            <a:ext cx="2428560" cy="214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ru-RU" sz="4600" spc="-1" strike="noStrike">
                <a:solidFill>
                  <a:srgbClr val="0070c0"/>
                </a:solidFill>
                <a:latin typeface="Franklin Gothic Book"/>
              </a:rPr>
              <a:t>Систематика животных</a:t>
            </a:r>
            <a:br>
              <a:rPr sz="4600"/>
            </a:b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68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арство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ип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ласс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тряд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емейство, 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3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од, 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ид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рский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рем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кроет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у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ыцарем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рнется    или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пко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щит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ызок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ребристой 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3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ыбки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рткой:  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567760" y="4415760"/>
            <a:ext cx="3046680" cy="2437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611640" y="4805280"/>
            <a:ext cx="3276360" cy="204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50000"/>
          </a:bodyPr>
          <a:p>
            <a:pPr indent="0">
              <a:lnSpc>
                <a:spcPct val="100000"/>
              </a:lnSpc>
              <a:buNone/>
            </a:pPr>
            <a:br>
              <a:rPr sz="4600"/>
            </a:b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Я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 </a:t>
            </a: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д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ам </a:t>
            </a: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т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ебе </a:t>
            </a: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в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енчика </a:t>
            </a: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л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епестки.</a:t>
            </a:r>
            <a:br>
              <a:rPr sz="4600"/>
            </a:b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560" indent="0">
              <a:lnSpc>
                <a:spcPct val="11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зычковый,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угубый,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убчатый,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ронковидный,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жноязычковый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1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лова второй строчки начинаются на те же буквы, что и названия типов цветка: 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971640" y="4149000"/>
            <a:ext cx="6840360" cy="280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46000"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</a:rPr>
              <a:t>Учащиеся, запомнив ключевое слово-ассоциацию (</a:t>
            </a:r>
            <a:r>
              <a:rPr b="0" lang="ru-RU" sz="3100" spc="-1" strike="noStrike">
                <a:solidFill>
                  <a:srgbClr val="ff0000"/>
                </a:solidFill>
                <a:latin typeface="Times New Roman"/>
              </a:rPr>
              <a:t>Лимпопо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</a:rPr>
              <a:t>) или (</a:t>
            </a:r>
            <a:r>
              <a:rPr b="0" lang="ru-RU" sz="3100" spc="-1" strike="noStrike">
                <a:solidFill>
                  <a:srgbClr val="ff0000"/>
                </a:solidFill>
                <a:latin typeface="Times New Roman"/>
              </a:rPr>
              <a:t>эсминец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</a:rPr>
              <a:t> – военный корабль), смогут восстановить  в памяти типы тканей.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40399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5080" y="5486400"/>
            <a:ext cx="40413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640" y="155664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27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32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Ткани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2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Растительные ткани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2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ст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меет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еханическую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кровную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бразовательную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оводящую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сновную  ткани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45080" y="151704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45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Ткани животных 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ителиальна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единительна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ышечна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ервная ткан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диное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елое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251640" y="610200"/>
            <a:ext cx="8892000" cy="886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2 па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черепно -  мозговых  нер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хранять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з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доровье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г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раждан,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(Их)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б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лезненное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т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ело, 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блегчать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л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юдскую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с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тражду –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но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б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лагостное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д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ело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чинаем  с первой пары нервов и далее: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бонятель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з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итель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II), г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азодвигатель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II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оковый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IV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т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ойнич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V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тводящи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V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цево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VI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уховой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VII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ыкоглоточ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IX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уждающи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X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д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бавоч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XI).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е вошла в стихотворение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XII пара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ервов -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ъязы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2"/>
          <p:cNvSpPr/>
          <p:nvPr/>
        </p:nvSpPr>
        <p:spPr>
          <a:xfrm>
            <a:off x="971640" y="548640"/>
            <a:ext cx="8172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ломов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Обоня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е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Зр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Глазодвиг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ыла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Бло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тьяна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Тройн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Отводящий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ти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Лице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релой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Слух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ык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Языкоглот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лтается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Блужда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Добав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я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Подъязы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395640" y="188640"/>
            <a:ext cx="8568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нем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работают с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бочками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очью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ходят с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алочками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– для запоминания специфики работы фоторецепторов сетчатки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395640" y="2274840"/>
            <a:ext cx="84967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тобы учащиеся не путали комплементарные азотистые основания, им можно предложить для запоминания пары с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нас – 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релка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Ц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ыпленок – 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ез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(Ананас на тарелке, цыпленок в гнезде)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 А–Т Ц–Г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Способы запоминания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"/>
          <p:cNvSpPr/>
          <p:nvPr/>
        </p:nvSpPr>
        <p:spPr>
          <a:xfrm>
            <a:off x="467640" y="1989000"/>
            <a:ext cx="2324880" cy="379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e848d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Рациональный  (логиче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«понял-запомн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Эффектив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415320" y="1989000"/>
            <a:ext cx="2304000" cy="379728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6"/>
          <p:cNvSpPr/>
          <p:nvPr/>
        </p:nvSpPr>
        <p:spPr>
          <a:xfrm>
            <a:off x="6192360" y="1989360"/>
            <a:ext cx="2448000" cy="379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e848d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Мнемотехника сам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интересный наиболее тренируемый дополняет други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низ 8"/>
          <p:cNvSpPr/>
          <p:nvPr/>
        </p:nvSpPr>
        <p:spPr>
          <a:xfrm>
            <a:off x="4279320" y="1234440"/>
            <a:ext cx="575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8" name="Стрелка вниз 9"/>
          <p:cNvSpPr/>
          <p:nvPr/>
        </p:nvSpPr>
        <p:spPr>
          <a:xfrm>
            <a:off x="1459800" y="1234440"/>
            <a:ext cx="686160" cy="431640"/>
          </a:xfrm>
          <a:prstGeom prst="downArrow">
            <a:avLst>
              <a:gd name="adj1" fmla="val 50000"/>
              <a:gd name="adj2" fmla="val 47251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9" name="Стрелка вниз 10"/>
          <p:cNvSpPr/>
          <p:nvPr/>
        </p:nvSpPr>
        <p:spPr>
          <a:xfrm>
            <a:off x="7164360" y="1234440"/>
            <a:ext cx="503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Функции белков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Начало каждого слова соответствует определенной функции белков: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40399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5080" y="5486400"/>
            <a:ext cx="40413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45080" y="151704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талитическ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игатель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ыхатель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нспорт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щит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роитель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гнальна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ргетическая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151704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жд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вуш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лжна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чно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т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й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дьмо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аж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945000" y="791640"/>
            <a:ext cx="7143480" cy="536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инарную номенклатуру предлож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Ч. Дарвин .   б) К. Л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й.  В) Ж.Б.Ламарк.  г) С.С Четв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ем ассоциации «бинарность», в наиболее общем понимании, означает «два», в фамилии ученого -  две буквы 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» подряд: Л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395640" y="260640"/>
            <a:ext cx="864072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пример, палеозойская  эра делится на  6 периодов, это  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ОСДК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емб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 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р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 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ил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 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в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рб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 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ериоды мезозойской эры – 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ЮМ: ты юра м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 –три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Ю – ю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 – м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Катархей  Архей  Протерозой  Палеозой  Мезозой   Кайнозой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40399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5080" y="5486400"/>
            <a:ext cx="40413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151704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7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 вариант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том 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явился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р 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йнозойский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45080" y="151704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7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 вариант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роматный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яник 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жила 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м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ле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http://everyfun.net/uploads/posts/2012-07/everyfun.net_1343397070-126.jpg"/>
          <p:cNvPicPr/>
          <p:nvPr/>
        </p:nvPicPr>
        <p:blipFill>
          <a:blip r:embed="rId1"/>
          <a:stretch/>
        </p:blipFill>
        <p:spPr>
          <a:xfrm>
            <a:off x="500040" y="1357200"/>
            <a:ext cx="8072280" cy="5095440"/>
          </a:xfrm>
          <a:prstGeom prst="rect">
            <a:avLst/>
          </a:prstGeom>
          <a:ln w="9525">
            <a:noFill/>
          </a:ln>
        </p:spPr>
      </p:pic>
      <p:sp>
        <p:nvSpPr>
          <p:cNvPr id="288" name="TextBox 2"/>
          <p:cNvSpPr/>
          <p:nvPr/>
        </p:nvSpPr>
        <p:spPr>
          <a:xfrm>
            <a:off x="857160" y="214200"/>
            <a:ext cx="77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http://miranimashek.com/_ph/9/2/143592089.gif"/>
          <p:cNvPicPr/>
          <p:nvPr/>
        </p:nvPicPr>
        <p:blipFill>
          <a:blip r:embed="rId2"/>
          <a:stretch/>
        </p:blipFill>
        <p:spPr>
          <a:xfrm rot="19131600">
            <a:off x="685080" y="3739320"/>
            <a:ext cx="1090440" cy="97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http://miranimashek.com/_ph/9/1/534619319.jpg"/>
          <p:cNvPicPr/>
          <p:nvPr/>
        </p:nvPicPr>
        <p:blipFill>
          <a:blip r:embed="rId3"/>
          <a:stretch/>
        </p:blipFill>
        <p:spPr>
          <a:xfrm rot="20312400">
            <a:off x="4969800" y="36126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http://miranimashek.com/_ph/9/1/534619319.jpg"/>
          <p:cNvPicPr/>
          <p:nvPr/>
        </p:nvPicPr>
        <p:blipFill>
          <a:blip r:embed="rId4"/>
          <a:stretch/>
        </p:blipFill>
        <p:spPr>
          <a:xfrm rot="20839800">
            <a:off x="3766680" y="4979520"/>
            <a:ext cx="1038240" cy="898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miranimashek.com/_ph/9/2/143592089.gif"/>
          <p:cNvPicPr/>
          <p:nvPr/>
        </p:nvPicPr>
        <p:blipFill>
          <a:blip r:embed="rId5"/>
          <a:stretch/>
        </p:blipFill>
        <p:spPr>
          <a:xfrm rot="19131600">
            <a:off x="7609320" y="2514600"/>
            <a:ext cx="752400" cy="712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http://miranimashek.com/_ph/9/2/143592089.gif"/>
          <p:cNvPicPr/>
          <p:nvPr/>
        </p:nvPicPr>
        <p:blipFill>
          <a:blip r:embed="rId6"/>
          <a:stretch/>
        </p:blipFill>
        <p:spPr>
          <a:xfrm rot="19131600">
            <a:off x="685080" y="3739320"/>
            <a:ext cx="1090440" cy="972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http://miranimashek.com/_ph/9/2/143592089.gif"/>
          <p:cNvPicPr/>
          <p:nvPr/>
        </p:nvPicPr>
        <p:blipFill>
          <a:blip r:embed="rId7"/>
          <a:stretch/>
        </p:blipFill>
        <p:spPr>
          <a:xfrm rot="19131600">
            <a:off x="685080" y="3739320"/>
            <a:ext cx="1090440" cy="97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http://miranimashek.com/_ph/9/2/143592089.gif"/>
          <p:cNvPicPr/>
          <p:nvPr/>
        </p:nvPicPr>
        <p:blipFill>
          <a:blip r:embed="rId8"/>
          <a:stretch/>
        </p:blipFill>
        <p:spPr>
          <a:xfrm rot="19131600">
            <a:off x="6981840" y="4767120"/>
            <a:ext cx="1090440" cy="1000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http://miranimashek.com/_ph/9/2/143592089.gif"/>
          <p:cNvPicPr/>
          <p:nvPr/>
        </p:nvPicPr>
        <p:blipFill>
          <a:blip r:embed="rId9"/>
          <a:stretch/>
        </p:blipFill>
        <p:spPr>
          <a:xfrm rot="19131600">
            <a:off x="4761360" y="4337280"/>
            <a:ext cx="812880" cy="658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miranimashek.com/_ph/9/2/143592089.gif"/>
          <p:cNvPicPr/>
          <p:nvPr/>
        </p:nvPicPr>
        <p:blipFill>
          <a:blip r:embed="rId10"/>
          <a:stretch/>
        </p:blipFill>
        <p:spPr>
          <a:xfrm rot="19131600">
            <a:off x="3586680" y="5326560"/>
            <a:ext cx="604440" cy="70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5"/>
          <p:cNvSpPr/>
          <p:nvPr/>
        </p:nvSpPr>
        <p:spPr>
          <a:xfrm>
            <a:off x="285840" y="214200"/>
            <a:ext cx="8643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571320" y="290520"/>
            <a:ext cx="692928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395640" y="299160"/>
            <a:ext cx="853380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немо́ника (</a:t>
            </a:r>
            <a:r>
              <a:rPr b="1" lang="ru-RU" sz="4000" spc="-1" strike="noStrike" u="sng">
                <a:solidFill>
                  <a:srgbClr val="00c8c3"/>
                </a:solidFill>
                <a:uFillTx/>
                <a:latin typeface="Times New Roman"/>
                <a:hlinkClick r:id="rId1"/>
              </a:rPr>
              <a:t>греч.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τὰ μνημονικά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 —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искусство  запоминания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), мнемоте́хник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 — совокупность специальных  приёмов и способов, облегчающих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c8c3"/>
                </a:solidFill>
                <a:uFillTx/>
                <a:latin typeface="Times New Roman"/>
                <a:hlinkClick r:id="rId2"/>
              </a:rPr>
              <a:t>запомина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ужной информации и увеличивающих объём </a:t>
            </a:r>
            <a:r>
              <a:rPr b="1" lang="ru-RU" sz="4000" spc="-1" strike="noStrike" u="sng">
                <a:solidFill>
                  <a:srgbClr val="00c8c3"/>
                </a:solidFill>
                <a:uFillTx/>
                <a:latin typeface="Times New Roman"/>
                <a:hlinkClick r:id="rId3"/>
              </a:rPr>
              <a:t>памяти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путём образования </a:t>
            </a:r>
            <a:r>
              <a:rPr b="1" lang="ru-RU" sz="4000" spc="-1" strike="noStrike" u="sng">
                <a:solidFill>
                  <a:srgbClr val="00c8c3"/>
                </a:solidFill>
                <a:uFillTx/>
                <a:latin typeface="Times New Roman"/>
                <a:hlinkClick r:id="rId4"/>
              </a:rPr>
              <a:t>ассоциаций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(связей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34" name="Рисунок 2" descr="Основные приемы мнемоники: метод Цицерона; цифро-буквенный алфавит (метод зап..."/>
          <p:cNvPicPr/>
          <p:nvPr/>
        </p:nvPicPr>
        <p:blipFill>
          <a:blip r:embed="rId1"/>
          <a:stretch/>
        </p:blipFill>
        <p:spPr>
          <a:xfrm>
            <a:off x="251640" y="332640"/>
            <a:ext cx="8568720" cy="61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12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4900" spc="-1" strike="noStrike">
                <a:solidFill>
                  <a:srgbClr val="0070c0"/>
                </a:solidFill>
                <a:latin typeface="Franklin Gothic Book"/>
              </a:rPr>
              <a:t>При использовании этого приема запоминания важно знать, что</a:t>
            </a:r>
            <a:r>
              <a:rPr b="0" lang="ru-RU" sz="4900" spc="-1" strike="noStrike">
                <a:solidFill>
                  <a:srgbClr val="ff0000"/>
                </a:solidFill>
                <a:latin typeface="Franklin Gothic Book"/>
              </a:rPr>
              <a:t>:                  </a:t>
            </a:r>
            <a:br>
              <a:rPr sz="3100"/>
            </a:br>
            <a:br>
              <a:rPr sz="2700"/>
            </a:br>
            <a:r>
              <a:rPr b="1" i="1" lang="ru-RU" sz="3100" spc="-1" strike="noStrike">
                <a:solidFill>
                  <a:srgbClr val="ff0000"/>
                </a:solidFill>
                <a:latin typeface="Franklin Gothic Book"/>
              </a:rPr>
              <a:t>1. Запоминанию мешает отсутствие интереса. Выдаваемая информация должна эмоционально возбуждать. Используемые образы должны быть яркими и веселыми.</a:t>
            </a:r>
            <a:br>
              <a:rPr sz="3100"/>
            </a:br>
            <a:r>
              <a:rPr b="1" i="1" lang="ru-RU" sz="3100" spc="-1" strike="noStrike">
                <a:solidFill>
                  <a:srgbClr val="ff0000"/>
                </a:solidFill>
                <a:latin typeface="Franklin Gothic Book"/>
              </a:rPr>
              <a:t>2. Подбирая образы, опираться на жизненный опыт учащихся.</a:t>
            </a:r>
            <a:br>
              <a:rPr sz="3100"/>
            </a:br>
            <a:r>
              <a:rPr b="1" i="1" lang="ru-RU" sz="3100" spc="-1" strike="noStrike">
                <a:solidFill>
                  <a:srgbClr val="ff0000"/>
                </a:solidFill>
                <a:latin typeface="Franklin Gothic Book"/>
              </a:rPr>
              <a:t>3. Наиболее прочна память, основанная на необычных действиях.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http://ic.pics.livejournal.com/caenogenesis/47649357/165979/165979_original.jpg"/>
          <p:cNvPicPr/>
          <p:nvPr/>
        </p:nvPicPr>
        <p:blipFill>
          <a:blip r:embed="rId1"/>
          <a:stretch/>
        </p:blipFill>
        <p:spPr>
          <a:xfrm>
            <a:off x="323640" y="620640"/>
            <a:ext cx="8390160" cy="574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323640" y="332640"/>
            <a:ext cx="410400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Тема «Строение клетки». Связь строения и функций митохондри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Какое значение имеет складчатая внутренняя мембрана органоида? Сравниваем две модели юбок. На какую модель больше пойдет ткани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Значит и складчатость внутренней мембраны обеспечивает увеличение площади ее поверх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s://hsto.org/files/36d/14d/550/36d14d55067e495e911dc4b1f95162d3.PNG"/>
          <p:cNvPicPr/>
          <p:nvPr/>
        </p:nvPicPr>
        <p:blipFill>
          <a:blip r:embed="rId1"/>
          <a:stretch/>
        </p:blipFill>
        <p:spPr>
          <a:xfrm>
            <a:off x="262080" y="370800"/>
            <a:ext cx="4226760" cy="292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ttp://dstparts.ru/photos/delaem-skladki-na-yubke-95997-large.jpg"/>
          <p:cNvPicPr/>
          <p:nvPr/>
        </p:nvPicPr>
        <p:blipFill>
          <a:blip r:embed="rId2"/>
          <a:stretch/>
        </p:blipFill>
        <p:spPr>
          <a:xfrm>
            <a:off x="4716000" y="0"/>
            <a:ext cx="4176000" cy="3295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http://fs.nashaucheba.ru/tw_files2/urls_3/1490/d-1489652/img5.jpg"/>
          <p:cNvPicPr/>
          <p:nvPr/>
        </p:nvPicPr>
        <p:blipFill>
          <a:blip r:embed="rId3"/>
          <a:stretch/>
        </p:blipFill>
        <p:spPr>
          <a:xfrm>
            <a:off x="4690800" y="3573000"/>
            <a:ext cx="4226760" cy="308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79640" y="116640"/>
            <a:ext cx="3888000" cy="60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а вводных уроках общей биологии говорим о природных системах разных уровней. Каждая из систем является составной частью следующей. Таким образом, природа устроена по принципу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«матреш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http://a24mag.ru/published/publicdata/U810750928A24MAG/attachments/SC/products_pictures/russkaja-matreshka_enl.jpg"/>
          <p:cNvPicPr/>
          <p:nvPr/>
        </p:nvPicPr>
        <p:blipFill>
          <a:blip r:embed="rId1"/>
          <a:stretch/>
        </p:blipFill>
        <p:spPr>
          <a:xfrm>
            <a:off x="4140000" y="3717000"/>
            <a:ext cx="4606560" cy="2787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images.myshared.ru/4/199150/slide_19.jpg"/>
          <p:cNvPicPr/>
          <p:nvPr/>
        </p:nvPicPr>
        <p:blipFill>
          <a:blip r:embed="rId2"/>
          <a:stretch/>
        </p:blipFill>
        <p:spPr>
          <a:xfrm>
            <a:off x="4140000" y="262080"/>
            <a:ext cx="4606560" cy="345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sunshine54.ru/published/publicdata/SUNSHINE54DB/attachments/SC/products_pictures/IMG_09246e_enl.JPG"/>
          <p:cNvPicPr/>
          <p:nvPr/>
        </p:nvPicPr>
        <p:blipFill>
          <a:blip r:embed="rId1"/>
          <a:stretch/>
        </p:blipFill>
        <p:spPr>
          <a:xfrm>
            <a:off x="352440" y="3717000"/>
            <a:ext cx="3504600" cy="259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://ok-t.ru/studopediasu/baza2/451242515246.files/image017.jpg"/>
          <p:cNvPicPr/>
          <p:nvPr/>
        </p:nvPicPr>
        <p:blipFill>
          <a:blip r:embed="rId2"/>
          <a:stretch/>
        </p:blipFill>
        <p:spPr>
          <a:xfrm>
            <a:off x="4068000" y="3681360"/>
            <a:ext cx="4266720" cy="2609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611640" y="188640"/>
            <a:ext cx="7362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Синтез белка происходит в рибосоме клетки, куда поступает информация о белке в виде И-РНК. Синтез белка может происходить с помощью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олисомы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Что это такое легко запомнить, посмотрев на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усы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. Полисома – это группа рибосом, нанизанных на одну молекулу и-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  <Words>406</Words>
  <Paragraphs>151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3:16:17Z</dcterms:created>
  <dc:creator>User</dc:creator>
  <dc:description/>
  <dc:language>en-US</dc:language>
  <cp:lastModifiedBy>Марианна</cp:lastModifiedBy>
  <dcterms:modified xsi:type="dcterms:W3CDTF">2023-01-03T09:34:06Z</dcterms:modified>
  <cp:revision>360</cp:revision>
  <dc:subject/>
  <dc:title>Заселение Кубани казака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