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camera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790-B86A-46DF-B6D1-E6108AF2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D30-EC0D-4EB9-A536-6A6BCB2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E25-7887-4459-9313-3FD0F6D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43F-130E-4704-85AE-92F3922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160-1715-41F6-95A6-A2BB7C78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991B-C803-4A93-9A72-32A5517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9C0-480E-4CC1-A01F-E8F8AB9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9129-C17F-4955-8F48-3A2931EF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EBE7-1B9C-47C0-B4F2-5615A7C1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27BA-04B9-458D-844A-CE8A583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DDC-EF24-470A-AE3C-EA5E9EA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300-E09A-4EC4-ACE5-3C80B2B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317-3823-4E67-A428-E6FC644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1651-5FC3-4329-810D-90E4E35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B0B6-395B-4E4E-AE82-7FFC123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8196-5F27-4A9D-BE63-B5355AEC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D234-5589-46E1-A761-199D22CE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711D6-3A72-4F07-A65F-DB41A5F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BA2D8-C8C0-4067-8795-BDBDF2A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D35E3-CEA2-4976-A6A1-5D16268C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83A7F-2B39-482E-B7C0-C9B1E020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A494-6D21-49F6-AA42-B02C3D08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390-3258-4230-A069-C6C98042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AAC26-4E04-46FF-8267-DE6FE56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47D8-6934-4CA8-86BD-4BC7A25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B6759-72FF-48B2-8341-CBFC051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7B657-C89C-43CC-8F8E-512E975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1D6DE-83D9-4BA4-959D-AA382709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30AEB-CB61-4936-9D35-15FCD47A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044FB-2223-4267-AE03-FA7B45AB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5EDA-EC7E-44FA-941B-BA2DBB18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D227-5188-4218-8BEB-7AC07E9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D85D-B756-48E1-B7EE-D7C12F3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E05-1868-4069-9638-FBAC9F9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1E8A-4375-4436-8E30-754604C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54C6-A2B9-4C70-A5D2-45120E6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1C56-CC11-4FF1-AE78-8239019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2095-62C9-4DEF-AC6A-9F34E83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8B07-3657-493E-A35D-081154E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5472-9F5F-417E-A0ED-B735D82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B600-BAB5-4A01-84CD-E251447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5FDB-C24D-401A-9B8A-CD47B47B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56FB-5A03-4E88-A788-AC247BA4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650D7-8F82-4F45-8B06-6D1D032E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06B-E7BB-427A-84A3-5DE1ED17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63DB8-D136-4140-8D03-FD95045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B5FCB-95EE-460D-8126-A99810A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C609C-97FE-4493-A3DB-2E71906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A90D3-0847-441A-A0CB-D3EDBA51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9BA99-6052-4F6C-83B3-F1959E4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DBE13-847E-406A-984D-5FAE560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7D30F-0577-429E-8261-55C5423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9E947-B1B9-43DB-9A4E-957390B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C2B6C-99C5-4B3B-B606-B0B30D3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76266-29AF-4CC7-B5CB-E308438F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007-171C-40D0-8360-A5E5C61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A0CED-524A-40C5-8ABD-7161270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A7CE7-66B6-456E-B437-9F8C8906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4B3B7-2911-42AE-B19F-A4B3ECB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BD432-BC51-4B20-A021-6147E5E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82B70-2EDD-4D9E-879F-2053C02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3F444-40AC-46BB-AEA1-DBBAA2C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94020-35C2-4716-B0E2-8DA6739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BD9AD-A395-4502-BAE8-C50CE00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7196C-4683-425A-B488-30E962E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3D9F3-5292-4C0E-8456-E8FD6F5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1A9-9760-444F-BFA2-41E40B5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B353A-D8C4-4893-BCBA-FAC9FB1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2111F-8506-4A25-B95D-1AF6A68B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FBB2E-90EA-4544-A213-066E4D1E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71FAC-10FE-460E-9E50-72CEA9D8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EE1B1-830B-4DF3-8C05-23EFAC0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219F9-3A57-42B2-A032-99D8D7A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1E9C3-D910-44A8-82FC-96EDD191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85172-0BD2-49C6-9BEB-C66F343E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559D8-B819-4CB4-B3B6-33E76195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8ABCA-B024-4160-9E59-06569EC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C65-B1EE-4318-87A1-2E8AED6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80E5F-5FF5-4255-943F-1F0737B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AD773-4A11-4DDF-B606-4FA8729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70A28-AA34-4A1E-B098-3C7FF15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07488-52DD-44AD-A4B9-1ABAA326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0D8AF-69D2-4318-B327-A43C2EF0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887-3232-4DBE-9AAA-5EAD777C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43A-F31E-43AA-8C7C-FCFAA8BECB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A3E8-4B4B-4CA1-80C5-BE578149F9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4E1-4859-4648-9ECB-2659F0332B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A491-FA99-48EB-A201-3D03B7C877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A164-CFCA-4F56-B604-A3DEC54DAA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DEC5-B8F1-40F1-A243-F6CD745E84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DE0-A6C8-44FA-B73D-FABCA9C5D0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НОГОУГОЛЬ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AutoShape 4"/>
          <p:cNvSpPr/>
          <p:nvPr/>
        </p:nvSpPr>
        <p:spPr>
          <a:xfrm rot="1000200">
            <a:off x="2669760" y="3755520"/>
            <a:ext cx="1676520" cy="1524240"/>
          </a:xfrm>
          <a:prstGeom prst="diamond">
            <a:avLst/>
          </a:prstGeom>
          <a:gradFill rotWithShape="0">
            <a:gsLst>
              <a:gs pos="0">
                <a:srgbClr val="3b435b"/>
              </a:gs>
              <a:gs pos="100000">
                <a:srgbClr val="1bc13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"/>
          <p:cNvSpPr/>
          <p:nvPr/>
        </p:nvSpPr>
        <p:spPr>
          <a:xfrm rot="18697800">
            <a:off x="2743200" y="457200"/>
            <a:ext cx="15242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66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 rot="2843400">
            <a:off x="6400800" y="3885840"/>
            <a:ext cx="1524240" cy="1371600"/>
          </a:xfrm>
          <a:prstGeom prst="hexagon">
            <a:avLst>
              <a:gd name="adj" fmla="val 27782"/>
              <a:gd name="vf" fmla="val 11547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0"/>
          <p:cNvSpPr/>
          <p:nvPr/>
        </p:nvSpPr>
        <p:spPr>
          <a:xfrm>
            <a:off x="1066680" y="5410080"/>
            <a:ext cx="716292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ИМЕ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1066680" y="3048120"/>
            <a:ext cx="2514600" cy="1371600"/>
          </a:xfrm>
          <a:prstGeom prst="diamond">
            <a:avLst/>
          </a:prstGeom>
          <a:solidFill>
            <a:srgbClr val="d9dcf7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685800" y="35053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2209680" y="2590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5830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213588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2"/>
          <p:cNvSpPr/>
          <p:nvPr/>
        </p:nvSpPr>
        <p:spPr>
          <a:xfrm flipV="1">
            <a:off x="1066680" y="3047760"/>
            <a:ext cx="129564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V="1">
            <a:off x="2362320" y="3733560"/>
            <a:ext cx="121896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362320" y="3048120"/>
            <a:ext cx="121896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1066680" y="3733920"/>
            <a:ext cx="129564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3"/>
          <p:cNvSpPr/>
          <p:nvPr/>
        </p:nvSpPr>
        <p:spPr>
          <a:xfrm>
            <a:off x="380880" y="1905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39d"/>
                </a:solidFill>
                <a:latin typeface="Times New Roman"/>
              </a:rPr>
              <a:t>Это слово греческого происхождения. Оно означает «измеряю вокруг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5"/>
          <p:cNvSpPr/>
          <p:nvPr/>
        </p:nvSpPr>
        <p:spPr>
          <a:xfrm>
            <a:off x="1338120" y="129528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у границы фигуры называют перим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6"/>
          <p:cNvSpPr/>
          <p:nvPr/>
        </p:nvSpPr>
        <p:spPr>
          <a:xfrm>
            <a:off x="4270320" y="2743200"/>
            <a:ext cx="43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обозначают бук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7"/>
          <p:cNvSpPr/>
          <p:nvPr/>
        </p:nvSpPr>
        <p:spPr>
          <a:xfrm>
            <a:off x="68580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- это сумма длин сторон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8"/>
          <p:cNvSpPr/>
          <p:nvPr/>
        </p:nvSpPr>
        <p:spPr>
          <a:xfrm>
            <a:off x="4444560" y="3809880"/>
            <a:ext cx="1035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/>
          <p:cNvSpPr/>
          <p:nvPr/>
        </p:nvSpPr>
        <p:spPr>
          <a:xfrm>
            <a:off x="5412600" y="3809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58687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6095880" y="380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65545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3"/>
          <p:cNvSpPr/>
          <p:nvPr/>
        </p:nvSpPr>
        <p:spPr>
          <a:xfrm>
            <a:off x="678456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4"/>
          <p:cNvSpPr/>
          <p:nvPr/>
        </p:nvSpPr>
        <p:spPr>
          <a:xfrm>
            <a:off x="731628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5"/>
          <p:cNvSpPr/>
          <p:nvPr/>
        </p:nvSpPr>
        <p:spPr>
          <a:xfrm>
            <a:off x="754632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6">
            <a:hlinkClick r:id="" action="ppaction://hlinkshowjump?jump=previousslide"/>
          </p:cNvPr>
          <p:cNvSpPr/>
          <p:nvPr/>
        </p:nvSpPr>
        <p:spPr>
          <a:xfrm rot="5388000">
            <a:off x="8478360" y="6192720"/>
            <a:ext cx="512640" cy="538200"/>
          </a:xfrm>
          <a:custGeom>
            <a:avLst/>
            <a:gdLst>
              <a:gd name="textAreaLeft" fmla="*/ 33120 w 512640"/>
              <a:gd name="textAreaRight" fmla="*/ 479520 w 512640"/>
              <a:gd name="textAreaTop" fmla="*/ 33120 h 538200"/>
              <a:gd name="textAreaBottom" fmla="*/ 505080 h 538200"/>
            </a:gdLst>
            <a:ahLst/>
            <a:rect l="textAreaLeft" t="textAreaTop" r="textAreaRight" b="textAreaBottom"/>
            <a:pathLst>
              <a:path w="21600" h="22676">
                <a:moveTo>
                  <a:pt x="0" y="0"/>
                </a:moveTo>
                <a:lnTo>
                  <a:pt x="21600" y="0"/>
                </a:lnTo>
                <a:lnTo>
                  <a:pt x="21600" y="22676"/>
                </a:lnTo>
                <a:lnTo>
                  <a:pt x="0" y="22676"/>
                </a:lnTo>
                <a:close/>
              </a:path>
              <a:path fill="lightenLess" w="21600" h="22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6">
                <a:moveTo>
                  <a:pt x="21600" y="0"/>
                </a:moveTo>
                <a:lnTo>
                  <a:pt x="21600" y="22676"/>
                </a:lnTo>
                <a:lnTo>
                  <a:pt x="20200" y="21276"/>
                </a:lnTo>
                <a:lnTo>
                  <a:pt x="20200" y="1400"/>
                </a:lnTo>
                <a:close/>
              </a:path>
              <a:path fill="darkenLess" w="21600" h="22676">
                <a:moveTo>
                  <a:pt x="21600" y="22676"/>
                </a:moveTo>
                <a:lnTo>
                  <a:pt x="0" y="22676"/>
                </a:lnTo>
                <a:lnTo>
                  <a:pt x="1400" y="21276"/>
                </a:lnTo>
                <a:lnTo>
                  <a:pt x="20200" y="21276"/>
                </a:lnTo>
                <a:close/>
              </a:path>
              <a:path fill="lighten" w="21600" h="22676">
                <a:moveTo>
                  <a:pt x="0" y="22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6"/>
                </a:lnTo>
                <a:close/>
              </a:path>
              <a:path fill="darken" w="21600" h="22676">
                <a:moveTo>
                  <a:pt x="3794" y="8031"/>
                </a:moveTo>
                <a:lnTo>
                  <a:pt x="7301" y="8031"/>
                </a:lnTo>
                <a:lnTo>
                  <a:pt x="7301" y="13366"/>
                </a:lnTo>
                <a:cubicBezTo>
                  <a:pt x="7301" y="14289"/>
                  <a:pt x="8102" y="15020"/>
                  <a:pt x="9138" y="15020"/>
                </a:cubicBezTo>
                <a:lnTo>
                  <a:pt x="10800" y="15020"/>
                </a:lnTo>
                <a:cubicBezTo>
                  <a:pt x="11836" y="15020"/>
                  <a:pt x="12636" y="14289"/>
                  <a:pt x="12636" y="13366"/>
                </a:cubicBezTo>
                <a:lnTo>
                  <a:pt x="12636" y="8031"/>
                </a:lnTo>
                <a:lnTo>
                  <a:pt x="10800" y="8031"/>
                </a:lnTo>
                <a:lnTo>
                  <a:pt x="14308" y="4523"/>
                </a:lnTo>
                <a:lnTo>
                  <a:pt x="17981" y="8031"/>
                </a:lnTo>
                <a:lnTo>
                  <a:pt x="16144" y="8031"/>
                </a:lnTo>
                <a:lnTo>
                  <a:pt x="16144" y="13366"/>
                </a:lnTo>
                <a:cubicBezTo>
                  <a:pt x="16144" y="16134"/>
                  <a:pt x="13568" y="18693"/>
                  <a:pt x="10800" y="18693"/>
                </a:cubicBezTo>
                <a:lnTo>
                  <a:pt x="9138" y="18693"/>
                </a:lnTo>
                <a:cubicBezTo>
                  <a:pt x="6370" y="18693"/>
                  <a:pt x="3794" y="16134"/>
                  <a:pt x="3794" y="13366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3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5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19720" y="1371600"/>
            <a:ext cx="46180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Какой многоугольник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 запиш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Запишите: а)вер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сторо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углы много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На какие два многоугольника разбивает диагональ К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ный многоугольник? Запишите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Сколько диагоналей можно провести из вершины В? Запишите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2438280" y="149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37"/>
          <p:cNvGrpSpPr/>
          <p:nvPr/>
        </p:nvGrpSpPr>
        <p:grpSpPr>
          <a:xfrm>
            <a:off x="228600" y="1955880"/>
            <a:ext cx="3962520" cy="8521920"/>
            <a:chOff x="228600" y="1955880"/>
            <a:chExt cx="3962520" cy="8521920"/>
          </a:xfrm>
        </p:grpSpPr>
        <p:sp>
          <p:nvSpPr>
            <p:cNvPr id="557" name="Line 4"/>
            <p:cNvSpPr/>
            <p:nvPr/>
          </p:nvSpPr>
          <p:spPr>
            <a:xfrm>
              <a:off x="2514600" y="1955880"/>
              <a:ext cx="129528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"/>
            <p:cNvSpPr/>
            <p:nvPr/>
          </p:nvSpPr>
          <p:spPr>
            <a:xfrm flipH="1">
              <a:off x="609480" y="2413080"/>
              <a:ext cx="15264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 flipV="1">
              <a:off x="762120" y="1955880"/>
              <a:ext cx="1752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 flipV="1">
              <a:off x="2743200" y="2946600"/>
              <a:ext cx="106668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380880" y="203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9"/>
            <p:cNvSpPr/>
            <p:nvPr/>
          </p:nvSpPr>
          <p:spPr>
            <a:xfrm>
              <a:off x="228600" y="3480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0"/>
            <p:cNvSpPr/>
            <p:nvPr/>
          </p:nvSpPr>
          <p:spPr>
            <a:xfrm>
              <a:off x="25146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1"/>
            <p:cNvSpPr/>
            <p:nvPr/>
          </p:nvSpPr>
          <p:spPr>
            <a:xfrm>
              <a:off x="3809880" y="2337120"/>
              <a:ext cx="381240" cy="81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609480" y="3784680"/>
              <a:ext cx="213372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6" name="AutoShape 31"/>
            <p:cNvCxnSpPr/>
            <p:nvPr/>
          </p:nvCxnSpPr>
          <p:spPr>
            <a:xfrm>
              <a:off x="2514240" y="1955880"/>
              <a:ext cx="230760" cy="337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67" name="AutoShape 36">
            <a:hlinkClick r:id="rId1" action="ppaction://hlinksldjump"/>
          </p:cNvPr>
          <p:cNvSpPr/>
          <p:nvPr/>
        </p:nvSpPr>
        <p:spPr>
          <a:xfrm>
            <a:off x="8394840" y="2394000"/>
            <a:ext cx="471240" cy="50328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067">
                <a:moveTo>
                  <a:pt x="0" y="0"/>
                </a:moveTo>
                <a:lnTo>
                  <a:pt x="21600" y="0"/>
                </a:lnTo>
                <a:lnTo>
                  <a:pt x="21600" y="23067"/>
                </a:lnTo>
                <a:lnTo>
                  <a:pt x="0" y="23067"/>
                </a:lnTo>
                <a:close/>
              </a:path>
              <a:path fill="lightenLess" w="21600" h="230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7">
                <a:moveTo>
                  <a:pt x="21600" y="0"/>
                </a:moveTo>
                <a:lnTo>
                  <a:pt x="21600" y="23067"/>
                </a:lnTo>
                <a:lnTo>
                  <a:pt x="20200" y="21667"/>
                </a:lnTo>
                <a:lnTo>
                  <a:pt x="20200" y="1400"/>
                </a:lnTo>
                <a:close/>
              </a:path>
              <a:path fill="darkenLess" w="21600" h="23067">
                <a:moveTo>
                  <a:pt x="21600" y="23067"/>
                </a:moveTo>
                <a:lnTo>
                  <a:pt x="0" y="23067"/>
                </a:lnTo>
                <a:lnTo>
                  <a:pt x="1400" y="21667"/>
                </a:lnTo>
                <a:lnTo>
                  <a:pt x="20200" y="21667"/>
                </a:lnTo>
                <a:close/>
              </a:path>
              <a:path fill="lighten" w="21600" h="23067">
                <a:moveTo>
                  <a:pt x="0" y="230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7"/>
                </a:lnTo>
                <a:close/>
              </a:path>
              <a:path fill="darken" w="21600" h="23067">
                <a:moveTo>
                  <a:pt x="10800" y="1553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67">
                <a:moveTo>
                  <a:pt x="11905" y="15015"/>
                </a:moveTo>
                <a:lnTo>
                  <a:pt x="11905" y="13057"/>
                </a:lnTo>
                <a:cubicBezTo>
                  <a:pt x="11905" y="12230"/>
                  <a:pt x="12236" y="11534"/>
                  <a:pt x="12837" y="11534"/>
                </a:cubicBezTo>
                <a:cubicBezTo>
                  <a:pt x="13968" y="11534"/>
                  <a:pt x="14865" y="10167"/>
                  <a:pt x="14865" y="8583"/>
                </a:cubicBezTo>
                <a:cubicBezTo>
                  <a:pt x="14865" y="6268"/>
                  <a:pt x="13011" y="4527"/>
                  <a:pt x="10800" y="4527"/>
                </a:cubicBezTo>
                <a:cubicBezTo>
                  <a:pt x="8589" y="4527"/>
                  <a:pt x="6918" y="6268"/>
                  <a:pt x="6918" y="8583"/>
                </a:cubicBezTo>
                <a:lnTo>
                  <a:pt x="8772" y="8583"/>
                </a:lnTo>
                <a:cubicBezTo>
                  <a:pt x="8772" y="7443"/>
                  <a:pt x="9695" y="6555"/>
                  <a:pt x="10800" y="6555"/>
                </a:cubicBezTo>
                <a:cubicBezTo>
                  <a:pt x="11905" y="6555"/>
                  <a:pt x="12837" y="7443"/>
                  <a:pt x="12837" y="8583"/>
                </a:cubicBezTo>
                <a:cubicBezTo>
                  <a:pt x="12837" y="9323"/>
                  <a:pt x="12367" y="10054"/>
                  <a:pt x="11905" y="10054"/>
                </a:cubicBezTo>
                <a:cubicBezTo>
                  <a:pt x="10800" y="10054"/>
                  <a:pt x="9695" y="11534"/>
                  <a:pt x="9695" y="13057"/>
                </a:cubicBezTo>
                <a:lnTo>
                  <a:pt x="9695" y="15015"/>
                </a:ln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9">
            <a:hlinkClick r:id="rId2" action="ppaction://hlinksldjump"/>
          </p:cNvPr>
          <p:cNvSpPr/>
          <p:nvPr/>
        </p:nvSpPr>
        <p:spPr>
          <a:xfrm>
            <a:off x="8454960" y="4908600"/>
            <a:ext cx="471600" cy="50328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050">
                <a:moveTo>
                  <a:pt x="0" y="0"/>
                </a:moveTo>
                <a:lnTo>
                  <a:pt x="21600" y="0"/>
                </a:lnTo>
                <a:lnTo>
                  <a:pt x="21600" y="23050"/>
                </a:lnTo>
                <a:lnTo>
                  <a:pt x="0" y="23050"/>
                </a:lnTo>
                <a:close/>
              </a:path>
              <a:path fill="lightenLess" w="21600" h="23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50">
                <a:moveTo>
                  <a:pt x="21600" y="0"/>
                </a:moveTo>
                <a:lnTo>
                  <a:pt x="21600" y="23050"/>
                </a:lnTo>
                <a:lnTo>
                  <a:pt x="20200" y="21650"/>
                </a:lnTo>
                <a:lnTo>
                  <a:pt x="20200" y="1400"/>
                </a:lnTo>
                <a:close/>
              </a:path>
              <a:path fill="darkenLess" w="21600" h="23050">
                <a:moveTo>
                  <a:pt x="21600" y="23050"/>
                </a:moveTo>
                <a:lnTo>
                  <a:pt x="0" y="23050"/>
                </a:lnTo>
                <a:lnTo>
                  <a:pt x="1400" y="21650"/>
                </a:lnTo>
                <a:lnTo>
                  <a:pt x="20200" y="21650"/>
                </a:lnTo>
                <a:close/>
              </a:path>
              <a:path fill="lighten" w="21600" h="23050">
                <a:moveTo>
                  <a:pt x="0" y="23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50"/>
                </a:lnTo>
                <a:close/>
              </a:path>
              <a:path fill="darken" w="21600" h="23050">
                <a:moveTo>
                  <a:pt x="10800" y="155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50">
                <a:moveTo>
                  <a:pt x="11905" y="15006"/>
                </a:moveTo>
                <a:lnTo>
                  <a:pt x="11905" y="13048"/>
                </a:lnTo>
                <a:cubicBezTo>
                  <a:pt x="11905" y="12221"/>
                  <a:pt x="12236" y="11525"/>
                  <a:pt x="12837" y="11525"/>
                </a:cubicBezTo>
                <a:cubicBezTo>
                  <a:pt x="13968" y="11525"/>
                  <a:pt x="14865" y="10158"/>
                  <a:pt x="14865" y="8574"/>
                </a:cubicBezTo>
                <a:cubicBezTo>
                  <a:pt x="14865" y="6259"/>
                  <a:pt x="13011" y="4518"/>
                  <a:pt x="10800" y="4518"/>
                </a:cubicBezTo>
                <a:cubicBezTo>
                  <a:pt x="8589" y="4518"/>
                  <a:pt x="6918" y="6259"/>
                  <a:pt x="6918" y="8574"/>
                </a:cubicBezTo>
                <a:lnTo>
                  <a:pt x="8772" y="8574"/>
                </a:lnTo>
                <a:cubicBezTo>
                  <a:pt x="8772" y="7434"/>
                  <a:pt x="9695" y="6546"/>
                  <a:pt x="10800" y="6546"/>
                </a:cubicBezTo>
                <a:cubicBezTo>
                  <a:pt x="11905" y="6546"/>
                  <a:pt x="12837" y="7434"/>
                  <a:pt x="12837" y="8574"/>
                </a:cubicBezTo>
                <a:cubicBezTo>
                  <a:pt x="12837" y="9314"/>
                  <a:pt x="12367" y="10045"/>
                  <a:pt x="11905" y="10045"/>
                </a:cubicBezTo>
                <a:cubicBezTo>
                  <a:pt x="10800" y="10045"/>
                  <a:pt x="9695" y="11525"/>
                  <a:pt x="9695" y="13048"/>
                </a:cubicBezTo>
                <a:lnTo>
                  <a:pt x="9695" y="15006"/>
                </a:ln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24280" y="1528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Скопируй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ногоугольник на рабочий лист. Определите вид многоугольника и запишите отв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Измерьте его стороны и найдите перимет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Какие виды углов имеет многоугольник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1" name="Object 676"/>
          <p:cNvGraphicFramePr/>
          <p:nvPr/>
        </p:nvGraphicFramePr>
        <p:xfrm>
          <a:off x="762120" y="1219320"/>
          <a:ext cx="32763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Object 6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32763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73" name="AutoShape 680"/>
          <p:cNvCxnSpPr/>
          <p:nvPr/>
        </p:nvCxnSpPr>
        <p:spPr>
          <a:xfrm>
            <a:off x="761760" y="3543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Line 682"/>
          <p:cNvSpPr/>
          <p:nvPr/>
        </p:nvSpPr>
        <p:spPr>
          <a:xfrm>
            <a:off x="1143000" y="2438280"/>
            <a:ext cx="0" cy="190512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84"/>
          <p:cNvSpPr/>
          <p:nvPr/>
        </p:nvSpPr>
        <p:spPr>
          <a:xfrm>
            <a:off x="2590920" y="2438280"/>
            <a:ext cx="1066680" cy="91440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87"/>
          <p:cNvSpPr/>
          <p:nvPr/>
        </p:nvSpPr>
        <p:spPr>
          <a:xfrm>
            <a:off x="1143000" y="4343400"/>
            <a:ext cx="1066680" cy="121932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689"/>
          <p:cNvSpPr/>
          <p:nvPr/>
        </p:nvSpPr>
        <p:spPr>
          <a:xfrm flipH="1">
            <a:off x="2209680" y="4952880"/>
            <a:ext cx="1447920" cy="60984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690"/>
          <p:cNvSpPr/>
          <p:nvPr/>
        </p:nvSpPr>
        <p:spPr>
          <a:xfrm flipV="1">
            <a:off x="3657600" y="3352320"/>
            <a:ext cx="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91"/>
          <p:cNvSpPr/>
          <p:nvPr/>
        </p:nvSpPr>
        <p:spPr>
          <a:xfrm>
            <a:off x="2189520" y="583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92"/>
          <p:cNvSpPr/>
          <p:nvPr/>
        </p:nvSpPr>
        <p:spPr>
          <a:xfrm>
            <a:off x="859320" y="461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93"/>
          <p:cNvSpPr/>
          <p:nvPr/>
        </p:nvSpPr>
        <p:spPr>
          <a:xfrm>
            <a:off x="2514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94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95"/>
          <p:cNvSpPr/>
          <p:nvPr/>
        </p:nvSpPr>
        <p:spPr>
          <a:xfrm>
            <a:off x="3729240" y="3129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96"/>
          <p:cNvSpPr/>
          <p:nvPr/>
        </p:nvSpPr>
        <p:spPr>
          <a:xfrm>
            <a:off x="3735360" y="518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98"/>
          <p:cNvSpPr/>
          <p:nvPr/>
        </p:nvSpPr>
        <p:spPr>
          <a:xfrm>
            <a:off x="1143000" y="2438280"/>
            <a:ext cx="1447920" cy="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699">
            <a:hlinkClick r:id="rId3" action="ppaction://hlinksldjump"/>
          </p:cNvPr>
          <p:cNvSpPr/>
          <p:nvPr/>
        </p:nvSpPr>
        <p:spPr>
          <a:xfrm>
            <a:off x="8472600" y="4071960"/>
            <a:ext cx="533160" cy="5634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63400"/>
              <a:gd name="textAreaBottom" fmla="*/ 528840 h 563400"/>
            </a:gdLst>
            <a:ahLst/>
            <a:rect l="textAreaLeft" t="textAreaTop" r="textAreaRight" b="textAreaBottom"/>
            <a:pathLst>
              <a:path w="21600" h="22824">
                <a:moveTo>
                  <a:pt x="0" y="0"/>
                </a:moveTo>
                <a:lnTo>
                  <a:pt x="21600" y="0"/>
                </a:lnTo>
                <a:lnTo>
                  <a:pt x="21600" y="22824"/>
                </a:lnTo>
                <a:lnTo>
                  <a:pt x="0" y="22824"/>
                </a:lnTo>
                <a:close/>
              </a:path>
              <a:path fill="lightenLess" w="21600" h="228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4">
                <a:moveTo>
                  <a:pt x="21600" y="0"/>
                </a:moveTo>
                <a:lnTo>
                  <a:pt x="21600" y="22824"/>
                </a:lnTo>
                <a:lnTo>
                  <a:pt x="20200" y="21424"/>
                </a:lnTo>
                <a:lnTo>
                  <a:pt x="20200" y="1400"/>
                </a:lnTo>
                <a:close/>
              </a:path>
              <a:path fill="darkenLess" w="21600" h="22824">
                <a:moveTo>
                  <a:pt x="21600" y="22824"/>
                </a:moveTo>
                <a:lnTo>
                  <a:pt x="0" y="22824"/>
                </a:lnTo>
                <a:lnTo>
                  <a:pt x="1400" y="21424"/>
                </a:lnTo>
                <a:lnTo>
                  <a:pt x="20200" y="21424"/>
                </a:lnTo>
                <a:close/>
              </a:path>
              <a:path fill="lighten" w="21600" h="22824">
                <a:moveTo>
                  <a:pt x="0" y="228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4"/>
                </a:lnTo>
                <a:close/>
              </a:path>
              <a:path fill="darken" w="21600" h="22824">
                <a:moveTo>
                  <a:pt x="10800" y="154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824">
                <a:moveTo>
                  <a:pt x="11905" y="14894"/>
                </a:moveTo>
                <a:lnTo>
                  <a:pt x="11905" y="12935"/>
                </a:lnTo>
                <a:cubicBezTo>
                  <a:pt x="11905" y="12108"/>
                  <a:pt x="12236" y="11412"/>
                  <a:pt x="12837" y="11412"/>
                </a:cubicBezTo>
                <a:cubicBezTo>
                  <a:pt x="13968" y="11412"/>
                  <a:pt x="14865" y="10046"/>
                  <a:pt x="14865" y="8462"/>
                </a:cubicBezTo>
                <a:cubicBezTo>
                  <a:pt x="14865" y="6146"/>
                  <a:pt x="13011" y="4406"/>
                  <a:pt x="10800" y="4406"/>
                </a:cubicBezTo>
                <a:cubicBezTo>
                  <a:pt x="8589" y="4406"/>
                  <a:pt x="6918" y="6146"/>
                  <a:pt x="6918" y="8462"/>
                </a:cubicBezTo>
                <a:lnTo>
                  <a:pt x="8772" y="8462"/>
                </a:lnTo>
                <a:cubicBezTo>
                  <a:pt x="8772" y="7321"/>
                  <a:pt x="9695" y="6434"/>
                  <a:pt x="10800" y="6434"/>
                </a:cubicBezTo>
                <a:cubicBezTo>
                  <a:pt x="11905" y="6434"/>
                  <a:pt x="12837" y="7321"/>
                  <a:pt x="12837" y="8462"/>
                </a:cubicBezTo>
                <a:cubicBezTo>
                  <a:pt x="12837" y="9201"/>
                  <a:pt x="12367" y="9933"/>
                  <a:pt x="11905" y="9933"/>
                </a:cubicBezTo>
                <a:cubicBezTo>
                  <a:pt x="10800" y="9933"/>
                  <a:pt x="9695" y="11412"/>
                  <a:pt x="9695" y="12935"/>
                </a:cubicBezTo>
                <a:lnTo>
                  <a:pt x="9695" y="148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V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зовите  треугольники, которые можно найти на данном рисунк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89" name="Object 142"/>
          <p:cNvGraphicFramePr/>
          <p:nvPr/>
        </p:nvGraphicFramePr>
        <p:xfrm>
          <a:off x="609480" y="2057400"/>
          <a:ext cx="4419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419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53"/>
          <p:cNvSpPr/>
          <p:nvPr/>
        </p:nvSpPr>
        <p:spPr>
          <a:xfrm>
            <a:off x="1221480" y="563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54"/>
          <p:cNvSpPr/>
          <p:nvPr/>
        </p:nvSpPr>
        <p:spPr>
          <a:xfrm>
            <a:off x="23040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5"/>
          <p:cNvSpPr/>
          <p:nvPr/>
        </p:nvSpPr>
        <p:spPr>
          <a:xfrm>
            <a:off x="2592720" y="144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56"/>
          <p:cNvSpPr/>
          <p:nvPr/>
        </p:nvSpPr>
        <p:spPr>
          <a:xfrm>
            <a:off x="426924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7"/>
          <p:cNvSpPr/>
          <p:nvPr/>
        </p:nvSpPr>
        <p:spPr>
          <a:xfrm>
            <a:off x="1752480" y="29718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58"/>
          <p:cNvSpPr/>
          <p:nvPr/>
        </p:nvSpPr>
        <p:spPr>
          <a:xfrm>
            <a:off x="304992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59"/>
          <p:cNvSpPr/>
          <p:nvPr/>
        </p:nvSpPr>
        <p:spPr>
          <a:xfrm>
            <a:off x="2438280" y="48006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60"/>
          <p:cNvSpPr/>
          <p:nvPr/>
        </p:nvSpPr>
        <p:spPr>
          <a:xfrm>
            <a:off x="5029200" y="320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61"/>
          <p:cNvSpPr/>
          <p:nvPr/>
        </p:nvSpPr>
        <p:spPr>
          <a:xfrm>
            <a:off x="35071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62"/>
          <p:cNvSpPr/>
          <p:nvPr/>
        </p:nvSpPr>
        <p:spPr>
          <a:xfrm>
            <a:off x="14497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Object 164"/>
          <p:cNvGraphicFramePr/>
          <p:nvPr/>
        </p:nvGraphicFramePr>
        <p:xfrm>
          <a:off x="533520" y="1905120"/>
          <a:ext cx="4557600" cy="38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1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05120"/>
                    <a:ext cx="45576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166"/>
          <p:cNvSpPr/>
          <p:nvPr/>
        </p:nvSpPr>
        <p:spPr>
          <a:xfrm>
            <a:off x="3778560" y="409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67"/>
          <p:cNvSpPr/>
          <p:nvPr/>
        </p:nvSpPr>
        <p:spPr>
          <a:xfrm>
            <a:off x="2643840" y="4853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68"/>
          <p:cNvSpPr/>
          <p:nvPr/>
        </p:nvSpPr>
        <p:spPr>
          <a:xfrm>
            <a:off x="1557720" y="4167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69"/>
          <p:cNvSpPr/>
          <p:nvPr/>
        </p:nvSpPr>
        <p:spPr>
          <a:xfrm>
            <a:off x="2023200" y="29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70"/>
          <p:cNvSpPr/>
          <p:nvPr/>
        </p:nvSpPr>
        <p:spPr>
          <a:xfrm>
            <a:off x="3478320" y="294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https://fs.znanio.ru/d5af0e/4c/05/cd2c89b7b8bfad029fc12e52862e2725c2.jpg"/>
          <p:cNvPicPr/>
          <p:nvPr/>
        </p:nvPicPr>
        <p:blipFill>
          <a:blip r:embed="rId1"/>
          <a:stretch/>
        </p:blipFill>
        <p:spPr>
          <a:xfrm>
            <a:off x="430200" y="334800"/>
            <a:ext cx="79567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ОМАНАЯ ЛИ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1441440" y="5251320"/>
            <a:ext cx="36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ки АВ, В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1876320" y="593892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ломаная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ABCDE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- незамкну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0"/>
          <p:cNvSpPr/>
          <p:nvPr/>
        </p:nvSpPr>
        <p:spPr>
          <a:xfrm>
            <a:off x="1894320" y="4602240"/>
            <a:ext cx="29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А, В, 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66"/>
          <p:cNvGrpSpPr/>
          <p:nvPr/>
        </p:nvGrpSpPr>
        <p:grpSpPr>
          <a:xfrm>
            <a:off x="2225520" y="1751040"/>
            <a:ext cx="1833120" cy="2021760"/>
            <a:chOff x="2225520" y="1751040"/>
            <a:chExt cx="1833120" cy="2021760"/>
          </a:xfrm>
        </p:grpSpPr>
        <p:grpSp>
          <p:nvGrpSpPr>
            <p:cNvPr id="361" name="Group 51"/>
            <p:cNvGrpSpPr/>
            <p:nvPr/>
          </p:nvGrpSpPr>
          <p:grpSpPr>
            <a:xfrm>
              <a:off x="2225520" y="1751040"/>
              <a:ext cx="1833120" cy="2021760"/>
              <a:chOff x="2225520" y="1751040"/>
              <a:chExt cx="1833120" cy="2021760"/>
            </a:xfrm>
          </p:grpSpPr>
          <p:sp>
            <p:nvSpPr>
              <p:cNvPr id="362" name="Line 43"/>
              <p:cNvSpPr/>
              <p:nvPr/>
            </p:nvSpPr>
            <p:spPr>
              <a:xfrm flipV="1">
                <a:off x="2665440" y="2222640"/>
                <a:ext cx="1239840" cy="1226880"/>
              </a:xfrm>
              <a:prstGeom prst="line">
                <a:avLst/>
              </a:prstGeom>
              <a:ln w="38160">
                <a:solidFill>
                  <a:srgbClr val="dc8c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Text Box 25"/>
              <p:cNvSpPr/>
              <p:nvPr/>
            </p:nvSpPr>
            <p:spPr>
              <a:xfrm>
                <a:off x="2225520" y="3313080"/>
                <a:ext cx="3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32"/>
              <p:cNvSpPr/>
              <p:nvPr/>
            </p:nvSpPr>
            <p:spPr>
              <a:xfrm>
                <a:off x="3675240" y="17510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39"/>
              <p:cNvSpPr/>
              <p:nvPr/>
            </p:nvSpPr>
            <p:spPr>
              <a:xfrm>
                <a:off x="2595600" y="3416400"/>
                <a:ext cx="88920" cy="88920"/>
              </a:xfrm>
              <a:prstGeom prst="ellipse">
                <a:avLst/>
              </a:prstGeom>
              <a:solidFill>
                <a:srgbClr val="dc8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Oval 52"/>
            <p:cNvSpPr/>
            <p:nvPr/>
          </p:nvSpPr>
          <p:spPr>
            <a:xfrm>
              <a:off x="3882960" y="2143080"/>
              <a:ext cx="88920" cy="88920"/>
            </a:xfrm>
            <a:prstGeom prst="ellipse">
              <a:avLst/>
            </a:prstGeom>
            <a:solidFill>
              <a:srgbClr val="dc8cc1"/>
            </a:solidFill>
            <a:ln w="9360">
              <a:solidFill>
                <a:srgbClr val="dc8c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57"/>
          <p:cNvGrpSpPr/>
          <p:nvPr/>
        </p:nvGrpSpPr>
        <p:grpSpPr>
          <a:xfrm>
            <a:off x="3676680" y="1746360"/>
            <a:ext cx="1824840" cy="683280"/>
            <a:chOff x="3676680" y="1746360"/>
            <a:chExt cx="1824840" cy="683280"/>
          </a:xfrm>
        </p:grpSpPr>
        <p:grpSp>
          <p:nvGrpSpPr>
            <p:cNvPr id="368" name="Group 54"/>
            <p:cNvGrpSpPr/>
            <p:nvPr/>
          </p:nvGrpSpPr>
          <p:grpSpPr>
            <a:xfrm>
              <a:off x="3873240" y="2151000"/>
              <a:ext cx="1462320" cy="278640"/>
              <a:chOff x="3873240" y="2151000"/>
              <a:chExt cx="1462320" cy="278640"/>
            </a:xfrm>
          </p:grpSpPr>
          <p:sp>
            <p:nvSpPr>
              <p:cNvPr id="369" name="Line 44"/>
              <p:cNvSpPr/>
              <p:nvPr/>
            </p:nvSpPr>
            <p:spPr>
              <a:xfrm>
                <a:off x="3922560" y="2199600"/>
                <a:ext cx="1409760" cy="188640"/>
              </a:xfrm>
              <a:prstGeom prst="line">
                <a:avLst/>
              </a:prstGeom>
              <a:ln w="381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40"/>
              <p:cNvSpPr/>
              <p:nvPr/>
            </p:nvSpPr>
            <p:spPr>
              <a:xfrm>
                <a:off x="3873240" y="2151000"/>
                <a:ext cx="88920" cy="88560"/>
              </a:xfrm>
              <a:prstGeom prst="ellipse">
                <a:avLst/>
              </a:prstGeom>
              <a:solidFill>
                <a:srgbClr val="05e3c3"/>
              </a:solidFill>
              <a:ln w="93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53"/>
              <p:cNvSpPr/>
              <p:nvPr/>
            </p:nvSpPr>
            <p:spPr>
              <a:xfrm>
                <a:off x="5246640" y="2341080"/>
                <a:ext cx="88920" cy="88560"/>
              </a:xfrm>
              <a:prstGeom prst="ellipse">
                <a:avLst/>
              </a:prstGeom>
              <a:solidFill>
                <a:srgbClr val="05e3c3"/>
              </a:solidFill>
              <a:ln w="93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Text Box 55"/>
            <p:cNvSpPr/>
            <p:nvPr/>
          </p:nvSpPr>
          <p:spPr>
            <a:xfrm>
              <a:off x="3676680" y="1746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5118120" y="189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70"/>
          <p:cNvGrpSpPr/>
          <p:nvPr/>
        </p:nvGrpSpPr>
        <p:grpSpPr>
          <a:xfrm>
            <a:off x="5111640" y="1450800"/>
            <a:ext cx="2288160" cy="982800"/>
            <a:chOff x="5111640" y="1450800"/>
            <a:chExt cx="2288160" cy="982800"/>
          </a:xfrm>
        </p:grpSpPr>
        <p:grpSp>
          <p:nvGrpSpPr>
            <p:cNvPr id="375" name="Group 65"/>
            <p:cNvGrpSpPr/>
            <p:nvPr/>
          </p:nvGrpSpPr>
          <p:grpSpPr>
            <a:xfrm>
              <a:off x="5240160" y="1450800"/>
              <a:ext cx="2159640" cy="982800"/>
              <a:chOff x="5240160" y="1450800"/>
              <a:chExt cx="2159640" cy="982800"/>
            </a:xfrm>
          </p:grpSpPr>
          <p:grpSp>
            <p:nvGrpSpPr>
              <p:cNvPr id="376" name="Group 62"/>
              <p:cNvGrpSpPr/>
              <p:nvPr/>
            </p:nvGrpSpPr>
            <p:grpSpPr>
              <a:xfrm>
                <a:off x="5240160" y="1800000"/>
                <a:ext cx="1827000" cy="633600"/>
                <a:chOff x="5240160" y="1800000"/>
                <a:chExt cx="1827000" cy="633600"/>
              </a:xfrm>
            </p:grpSpPr>
            <p:sp>
              <p:nvSpPr>
                <p:cNvPr id="377" name="Line 45"/>
                <p:cNvSpPr/>
                <p:nvPr/>
              </p:nvSpPr>
              <p:spPr>
                <a:xfrm flipV="1">
                  <a:off x="5275080" y="1855080"/>
                  <a:ext cx="1730160" cy="522360"/>
                </a:xfrm>
                <a:prstGeom prst="line">
                  <a:avLst/>
                </a:prstGeom>
                <a:ln w="38160">
                  <a:solidFill>
                    <a:srgbClr val="ffb3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41"/>
                <p:cNvSpPr/>
                <p:nvPr/>
              </p:nvSpPr>
              <p:spPr>
                <a:xfrm>
                  <a:off x="5240160" y="2333520"/>
                  <a:ext cx="102960" cy="100080"/>
                </a:xfrm>
                <a:prstGeom prst="ellipse">
                  <a:avLst/>
                </a:prstGeom>
                <a:solidFill>
                  <a:srgbClr val="ffb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58"/>
                <p:cNvSpPr/>
                <p:nvPr/>
              </p:nvSpPr>
              <p:spPr>
                <a:xfrm>
                  <a:off x="6978240" y="1800000"/>
                  <a:ext cx="88920" cy="88920"/>
                </a:xfrm>
                <a:prstGeom prst="ellipse">
                  <a:avLst/>
                </a:prstGeom>
                <a:solidFill>
                  <a:srgbClr val="ffb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Text Box 63"/>
              <p:cNvSpPr/>
              <p:nvPr/>
            </p:nvSpPr>
            <p:spPr>
              <a:xfrm>
                <a:off x="6999480" y="1450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Text Box 35"/>
            <p:cNvSpPr/>
            <p:nvPr/>
          </p:nvSpPr>
          <p:spPr>
            <a:xfrm>
              <a:off x="5111640" y="190008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60"/>
          <p:cNvGrpSpPr/>
          <p:nvPr/>
        </p:nvGrpSpPr>
        <p:grpSpPr>
          <a:xfrm>
            <a:off x="5603760" y="1447920"/>
            <a:ext cx="1806480" cy="2585520"/>
            <a:chOff x="5603760" y="1447920"/>
            <a:chExt cx="1806480" cy="2585520"/>
          </a:xfrm>
        </p:grpSpPr>
        <p:sp>
          <p:nvSpPr>
            <p:cNvPr id="383" name="Line 47"/>
            <p:cNvSpPr/>
            <p:nvPr/>
          </p:nvSpPr>
          <p:spPr>
            <a:xfrm flipH="1">
              <a:off x="5909760" y="1866600"/>
              <a:ext cx="1111320" cy="2138040"/>
            </a:xfrm>
            <a:prstGeom prst="line">
              <a:avLst/>
            </a:prstGeom>
            <a:ln w="38160">
              <a:solidFill>
                <a:srgbClr val="8d9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5603760" y="3563640"/>
              <a:ext cx="2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7005600" y="14479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42"/>
            <p:cNvSpPr/>
            <p:nvPr/>
          </p:nvSpPr>
          <p:spPr>
            <a:xfrm>
              <a:off x="6980040" y="1800000"/>
              <a:ext cx="88920" cy="88560"/>
            </a:xfrm>
            <a:prstGeom prst="ellipse">
              <a:avLst/>
            </a:prstGeom>
            <a:solidFill>
              <a:srgbClr val="8d9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46"/>
            <p:cNvSpPr/>
            <p:nvPr/>
          </p:nvSpPr>
          <p:spPr>
            <a:xfrm>
              <a:off x="5873400" y="3944880"/>
              <a:ext cx="88920" cy="88560"/>
            </a:xfrm>
            <a:prstGeom prst="ellipse">
              <a:avLst/>
            </a:prstGeom>
            <a:solidFill>
              <a:srgbClr val="8d94eb"/>
            </a:solidFill>
            <a:ln w="9360">
              <a:solidFill>
                <a:srgbClr val="8d9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72"/>
          <p:cNvSpPr/>
          <p:nvPr/>
        </p:nvSpPr>
        <p:spPr>
          <a:xfrm>
            <a:off x="4965480" y="46004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лома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3"/>
          <p:cNvSpPr/>
          <p:nvPr/>
        </p:nvSpPr>
        <p:spPr>
          <a:xfrm>
            <a:off x="5079600" y="522756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 (звенья) лома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28"/>
          <p:cNvGraphicFramePr/>
          <p:nvPr/>
        </p:nvGraphicFramePr>
        <p:xfrm>
          <a:off x="2798640" y="1611360"/>
          <a:ext cx="395928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8640" y="1611360"/>
                    <a:ext cx="39592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3"/>
          <p:cNvSpPr/>
          <p:nvPr/>
        </p:nvSpPr>
        <p:spPr>
          <a:xfrm>
            <a:off x="566640" y="5157720"/>
            <a:ext cx="8155080" cy="116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06320" y="5346720"/>
            <a:ext cx="81327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угольник-это геометрическая фигу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ная замкнутой ломаной лин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ОМАННАЯ ЛИ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2419200" y="188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719760" y="2333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2924280" y="3703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5391000" y="1243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"/>
          <p:cNvSpPr/>
          <p:nvPr/>
        </p:nvSpPr>
        <p:spPr>
          <a:xfrm flipV="1">
            <a:off x="2862360" y="1657080"/>
            <a:ext cx="2514600" cy="6858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5334120" y="1657440"/>
            <a:ext cx="1371600" cy="96984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5486040" y="2611440"/>
            <a:ext cx="1219320" cy="129528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 flipH="1" flipV="1">
            <a:off x="3368160" y="3878280"/>
            <a:ext cx="2148120" cy="396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5"/>
          <p:cNvSpPr/>
          <p:nvPr/>
        </p:nvSpPr>
        <p:spPr>
          <a:xfrm flipV="1">
            <a:off x="6616800" y="255204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5513400" y="3757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5410080" y="3844800"/>
            <a:ext cx="152640" cy="15264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 flipH="1" flipV="1">
            <a:off x="2819160" y="2342880"/>
            <a:ext cx="561960" cy="15462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 flipV="1">
            <a:off x="3281400" y="378864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25"/>
          <p:cNvSpPr/>
          <p:nvPr/>
        </p:nvSpPr>
        <p:spPr>
          <a:xfrm flipV="1">
            <a:off x="5272200" y="1569960"/>
            <a:ext cx="152280" cy="15264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26"/>
          <p:cNvSpPr/>
          <p:nvPr/>
        </p:nvSpPr>
        <p:spPr>
          <a:xfrm flipV="1">
            <a:off x="2733840" y="229320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471600" y="0"/>
            <a:ext cx="26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</a:rPr>
              <a:t>Замкну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-32076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НОГОУГОЛЬНИ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AutoShape 38"/>
          <p:cNvSpPr/>
          <p:nvPr/>
        </p:nvSpPr>
        <p:spPr>
          <a:xfrm>
            <a:off x="7870680" y="3265560"/>
            <a:ext cx="914400" cy="609480"/>
          </a:xfrm>
          <a:prstGeom prst="cloudCallout">
            <a:avLst>
              <a:gd name="adj1" fmla="val 25000"/>
              <a:gd name="adj2" fmla="val 9375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7"/>
          <p:cNvSpPr/>
          <p:nvPr/>
        </p:nvSpPr>
        <p:spPr>
          <a:xfrm>
            <a:off x="7413480" y="2948040"/>
            <a:ext cx="914400" cy="609480"/>
          </a:xfrm>
          <a:prstGeom prst="cloudCallout">
            <a:avLst>
              <a:gd name="adj1" fmla="val 49481"/>
              <a:gd name="adj2" fmla="val -54949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077320" y="2604960"/>
            <a:ext cx="914400" cy="609840"/>
          </a:xfrm>
          <a:prstGeom prst="cloudCallout">
            <a:avLst>
              <a:gd name="adj1" fmla="val -18750"/>
              <a:gd name="adj2" fmla="val -20310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35"/>
          <p:cNvSpPr/>
          <p:nvPr/>
        </p:nvSpPr>
        <p:spPr>
          <a:xfrm>
            <a:off x="7343640" y="2224080"/>
            <a:ext cx="1190880" cy="609480"/>
          </a:xfrm>
          <a:prstGeom prst="cloudCallout">
            <a:avLst>
              <a:gd name="adj1" fmla="val -18750"/>
              <a:gd name="adj2" fmla="val 41148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61"/>
          <p:cNvGrpSpPr/>
          <p:nvPr/>
        </p:nvGrpSpPr>
        <p:grpSpPr>
          <a:xfrm>
            <a:off x="2781000" y="1614240"/>
            <a:ext cx="3581640" cy="3670560"/>
            <a:chOff x="2781000" y="1614240"/>
            <a:chExt cx="3581640" cy="3670560"/>
          </a:xfrm>
        </p:grpSpPr>
        <p:sp>
          <p:nvSpPr>
            <p:cNvPr id="417" name="Line 3"/>
            <p:cNvSpPr/>
            <p:nvPr/>
          </p:nvSpPr>
          <p:spPr>
            <a:xfrm flipV="1">
              <a:off x="2786040" y="1614240"/>
              <a:ext cx="2514600" cy="68580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4"/>
            <p:cNvSpPr/>
            <p:nvPr/>
          </p:nvSpPr>
          <p:spPr>
            <a:xfrm>
              <a:off x="5295960" y="1614600"/>
              <a:ext cx="1066680" cy="236196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 flipH="1">
              <a:off x="5071680" y="3976560"/>
              <a:ext cx="1290600" cy="130824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3009600" y="4446720"/>
              <a:ext cx="2133720" cy="83808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 flipH="1" flipV="1">
              <a:off x="2781000" y="2300400"/>
              <a:ext cx="228600" cy="214128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Text Box 9"/>
          <p:cNvSpPr/>
          <p:nvPr/>
        </p:nvSpPr>
        <p:spPr>
          <a:xfrm>
            <a:off x="2557440" y="18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6400800" y="3710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629080" y="4179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219640" y="119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072040" y="523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5"/>
          <p:cNvSpPr/>
          <p:nvPr/>
        </p:nvSpPr>
        <p:spPr>
          <a:xfrm flipV="1">
            <a:off x="5067360" y="52340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16"/>
          <p:cNvSpPr/>
          <p:nvPr/>
        </p:nvSpPr>
        <p:spPr>
          <a:xfrm flipV="1">
            <a:off x="2747880" y="22622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2971800" y="440856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18"/>
          <p:cNvSpPr/>
          <p:nvPr/>
        </p:nvSpPr>
        <p:spPr>
          <a:xfrm flipV="1">
            <a:off x="5262480" y="15764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9"/>
          <p:cNvSpPr/>
          <p:nvPr/>
        </p:nvSpPr>
        <p:spPr>
          <a:xfrm flipV="1">
            <a:off x="6324480" y="39380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53"/>
          <p:cNvGrpSpPr/>
          <p:nvPr/>
        </p:nvGrpSpPr>
        <p:grpSpPr>
          <a:xfrm>
            <a:off x="195120" y="2948040"/>
            <a:ext cx="2459160" cy="1242720"/>
            <a:chOff x="195120" y="2948040"/>
            <a:chExt cx="2459160" cy="1242720"/>
          </a:xfrm>
        </p:grpSpPr>
        <p:sp>
          <p:nvSpPr>
            <p:cNvPr id="433" name="AutoShape 21"/>
            <p:cNvSpPr/>
            <p:nvPr/>
          </p:nvSpPr>
          <p:spPr>
            <a:xfrm>
              <a:off x="195120" y="2948040"/>
              <a:ext cx="2459160" cy="990720"/>
            </a:xfrm>
            <a:prstGeom prst="cloudCallout">
              <a:avLst>
                <a:gd name="adj1" fmla="val 69430"/>
                <a:gd name="adj2" fmla="val 89745"/>
              </a:avLst>
            </a:prstGeom>
            <a:solidFill>
              <a:srgbClr val="e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550800" y="3116160"/>
              <a:ext cx="1781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 вершине 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Arc 24"/>
          <p:cNvSpPr/>
          <p:nvPr/>
        </p:nvSpPr>
        <p:spPr>
          <a:xfrm rot="681000">
            <a:off x="2917800" y="4092120"/>
            <a:ext cx="492120" cy="542880"/>
          </a:xfrm>
          <a:custGeom>
            <a:avLst/>
            <a:gdLst>
              <a:gd name="textAreaLeft" fmla="*/ 0 w 492120"/>
              <a:gd name="textAreaRight" fmla="*/ 492480 w 4921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2226" h="21600">
                <a:moveTo>
                  <a:pt x="-1" y="21"/>
                </a:moveTo>
                <a:cubicBezTo>
                  <a:pt x="321" y="7"/>
                  <a:pt x="643" y="-1"/>
                  <a:pt x="966" y="0"/>
                </a:cubicBezTo>
                <a:cubicBezTo>
                  <a:pt x="11423" y="0"/>
                  <a:pt x="20379" y="7491"/>
                  <a:pt x="22226" y="17784"/>
                </a:cubicBezTo>
              </a:path>
              <a:path stroke="0" w="22226" h="21600">
                <a:moveTo>
                  <a:pt x="-1" y="21"/>
                </a:moveTo>
                <a:cubicBezTo>
                  <a:pt x="321" y="7"/>
                  <a:pt x="643" y="-1"/>
                  <a:pt x="966" y="0"/>
                </a:cubicBezTo>
                <a:cubicBezTo>
                  <a:pt x="11423" y="0"/>
                  <a:pt x="20379" y="7491"/>
                  <a:pt x="22226" y="17784"/>
                </a:cubicBezTo>
                <a:lnTo>
                  <a:pt x="966" y="21600"/>
                </a:lnTo>
                <a:lnTo>
                  <a:pt x="-1" y="21"/>
                </a:lnTo>
                <a:close/>
              </a:path>
            </a:pathLst>
          </a:custGeom>
          <a:noFill/>
          <a:ln w="442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26"/>
          <p:cNvSpPr/>
          <p:nvPr/>
        </p:nvSpPr>
        <p:spPr>
          <a:xfrm>
            <a:off x="0" y="987480"/>
            <a:ext cx="2471760" cy="838080"/>
          </a:xfrm>
          <a:prstGeom prst="cloudCallout">
            <a:avLst>
              <a:gd name="adj1" fmla="val 55652"/>
              <a:gd name="adj2" fmla="val 100759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а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6781680" y="1195560"/>
            <a:ext cx="2362320" cy="1143000"/>
          </a:xfrm>
          <a:prstGeom prst="cloudCallout">
            <a:avLst>
              <a:gd name="adj1" fmla="val -89046"/>
              <a:gd name="adj2" fmla="val 79861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44"/>
          <p:cNvSpPr/>
          <p:nvPr/>
        </p:nvSpPr>
        <p:spPr>
          <a:xfrm>
            <a:off x="2786040" y="738360"/>
            <a:ext cx="716040" cy="571320"/>
          </a:xfrm>
          <a:prstGeom prst="cloudCallout">
            <a:avLst>
              <a:gd name="adj1" fmla="val -15851"/>
              <a:gd name="adj2" fmla="val 32222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5"/>
          <p:cNvSpPr/>
          <p:nvPr/>
        </p:nvSpPr>
        <p:spPr>
          <a:xfrm>
            <a:off x="3009960" y="1347840"/>
            <a:ext cx="716040" cy="609480"/>
          </a:xfrm>
          <a:prstGeom prst="cloudCallout">
            <a:avLst>
              <a:gd name="adj1" fmla="val 43569"/>
              <a:gd name="adj2" fmla="val 2083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6"/>
          <p:cNvSpPr/>
          <p:nvPr/>
        </p:nvSpPr>
        <p:spPr>
          <a:xfrm>
            <a:off x="2332080" y="1309680"/>
            <a:ext cx="716040" cy="609480"/>
          </a:xfrm>
          <a:prstGeom prst="cloudCallout">
            <a:avLst>
              <a:gd name="adj1" fmla="val 30930"/>
              <a:gd name="adj2" fmla="val -5467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7"/>
          <p:cNvSpPr/>
          <p:nvPr/>
        </p:nvSpPr>
        <p:spPr>
          <a:xfrm>
            <a:off x="3502080" y="906480"/>
            <a:ext cx="716040" cy="609480"/>
          </a:xfrm>
          <a:prstGeom prst="cloudCallout">
            <a:avLst>
              <a:gd name="adj1" fmla="val -22282"/>
              <a:gd name="adj2" fmla="val 29425"/>
            </a:avLst>
          </a:prstGeom>
          <a:solidFill>
            <a:srgbClr val="d2d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2"/>
          <p:cNvSpPr/>
          <p:nvPr/>
        </p:nvSpPr>
        <p:spPr>
          <a:xfrm>
            <a:off x="1914480" y="6510240"/>
            <a:ext cx="520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угольник - пяти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4"/>
          <p:cNvSpPr/>
          <p:nvPr/>
        </p:nvSpPr>
        <p:spPr>
          <a:xfrm>
            <a:off x="637920" y="56912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5"/>
          <p:cNvSpPr/>
          <p:nvPr/>
        </p:nvSpPr>
        <p:spPr>
          <a:xfrm>
            <a:off x="5039640" y="564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a4e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6"/>
          <p:cNvSpPr/>
          <p:nvPr/>
        </p:nvSpPr>
        <p:spPr>
          <a:xfrm>
            <a:off x="7716240" y="560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81ab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57"/>
          <p:cNvSpPr/>
          <p:nvPr/>
        </p:nvSpPr>
        <p:spPr>
          <a:xfrm>
            <a:off x="2065320" y="569124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991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8"/>
          <p:cNvSpPr/>
          <p:nvPr/>
        </p:nvSpPr>
        <p:spPr>
          <a:xfrm>
            <a:off x="3412080" y="5827680"/>
            <a:ext cx="15447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ши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9"/>
          <p:cNvSpPr/>
          <p:nvPr/>
        </p:nvSpPr>
        <p:spPr>
          <a:xfrm>
            <a:off x="6402960" y="565632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ов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0">
            <a:hlinkClick r:id="" action="ppaction://hlinkshowjump?jump=previousslide"/>
          </p:cNvPr>
          <p:cNvSpPr/>
          <p:nvPr/>
        </p:nvSpPr>
        <p:spPr>
          <a:xfrm rot="5410800">
            <a:off x="8556480" y="6281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ВИД МНОГОУГОЛЬ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AutoShape 3"/>
          <p:cNvSpPr/>
          <p:nvPr/>
        </p:nvSpPr>
        <p:spPr>
          <a:xfrm rot="20180400">
            <a:off x="685800" y="2133720"/>
            <a:ext cx="2438280" cy="914400"/>
          </a:xfrm>
          <a:prstGeom prst="pie">
            <a:avLst/>
          </a:prstGeom>
          <a:solidFill>
            <a:srgbClr val="a2a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"/>
          <p:cNvSpPr/>
          <p:nvPr/>
        </p:nvSpPr>
        <p:spPr>
          <a:xfrm rot="21290400">
            <a:off x="3419280" y="4487760"/>
            <a:ext cx="1760400" cy="1600200"/>
          </a:xfrm>
          <a:prstGeom prst="hexagon">
            <a:avLst>
              <a:gd name="adj" fmla="val 22374"/>
              <a:gd name="vf" fmla="val 11547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 rot="978600">
            <a:off x="3733560" y="2057400"/>
            <a:ext cx="1752480" cy="1600200"/>
          </a:xfrm>
          <a:prstGeom prst="pentagon">
            <a:avLst/>
          </a:prstGeom>
          <a:solidFill>
            <a:srgbClr val="52fa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8"/>
          <p:cNvSpPr/>
          <p:nvPr/>
        </p:nvSpPr>
        <p:spPr>
          <a:xfrm rot="20998800">
            <a:off x="6477120" y="1523520"/>
            <a:ext cx="1904760" cy="15242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9"/>
          <p:cNvSpPr/>
          <p:nvPr/>
        </p:nvSpPr>
        <p:spPr>
          <a:xfrm rot="280800">
            <a:off x="533160" y="3809880"/>
            <a:ext cx="2286000" cy="2133720"/>
          </a:xfrm>
          <a:prstGeom prst="triangle">
            <a:avLst>
              <a:gd name="adj" fmla="val 50000"/>
            </a:avLst>
          </a:prstGeom>
          <a:solidFill>
            <a:srgbClr val="efd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0"/>
          <p:cNvSpPr/>
          <p:nvPr/>
        </p:nvSpPr>
        <p:spPr>
          <a:xfrm rot="277800">
            <a:off x="304560" y="5406840"/>
            <a:ext cx="258912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12"/>
          <p:cNvSpPr/>
          <p:nvPr/>
        </p:nvSpPr>
        <p:spPr>
          <a:xfrm rot="609000">
            <a:off x="6039000" y="3506760"/>
            <a:ext cx="2419200" cy="2513160"/>
          </a:xfrm>
          <a:custGeom>
            <a:avLst/>
            <a:gdLst>
              <a:gd name="textAreaLeft" fmla="*/ 798480 w 2419200"/>
              <a:gd name="textAreaRight" fmla="*/ 1620720 w 2419200"/>
              <a:gd name="textAreaTop" fmla="*/ 829440 h 2513160"/>
              <a:gd name="textAreaBottom" fmla="*/ 1683720 h 25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29" y="7129"/>
                </a:lnTo>
                <a:lnTo>
                  <a:pt x="10800" y="0"/>
                </a:lnTo>
                <a:lnTo>
                  <a:pt x="14471" y="7129"/>
                </a:lnTo>
                <a:lnTo>
                  <a:pt x="21600" y="10800"/>
                </a:lnTo>
                <a:lnTo>
                  <a:pt x="14471" y="14471"/>
                </a:lnTo>
                <a:lnTo>
                  <a:pt x="10800" y="21600"/>
                </a:lnTo>
                <a:lnTo>
                  <a:pt x="7129" y="14471"/>
                </a:lnTo>
                <a:lnTo>
                  <a:pt x="0" y="10800"/>
                </a:lnTo>
                <a:close/>
              </a:path>
            </a:pathLst>
          </a:custGeom>
          <a:solidFill>
            <a:srgbClr val="7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14490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7010280" y="4495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4876920" y="6019920"/>
            <a:ext cx="16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УКЛЫЕ И НЕВЫПУКЛЫЕ МНОГОУГОЛЬ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AutoShape 7"/>
          <p:cNvSpPr/>
          <p:nvPr/>
        </p:nvSpPr>
        <p:spPr>
          <a:xfrm rot="1797600">
            <a:off x="1752480" y="2576520"/>
            <a:ext cx="2239920" cy="2438280"/>
          </a:xfrm>
          <a:prstGeom prst="triangle">
            <a:avLst>
              <a:gd name="adj" fmla="val 50000"/>
            </a:avLst>
          </a:prstGeom>
          <a:solidFill>
            <a:srgbClr val="ffb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595440" y="3897360"/>
            <a:ext cx="343368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5219640" y="2074320"/>
            <a:ext cx="3907440" cy="3604680"/>
            <a:chOff x="5219640" y="2074320"/>
            <a:chExt cx="3907440" cy="3604680"/>
          </a:xfrm>
        </p:grpSpPr>
        <p:sp>
          <p:nvSpPr>
            <p:cNvPr id="465" name="AutoShape 9"/>
            <p:cNvSpPr/>
            <p:nvPr/>
          </p:nvSpPr>
          <p:spPr>
            <a:xfrm rot="1608600">
              <a:off x="5603760" y="2649960"/>
              <a:ext cx="3138480" cy="2452680"/>
            </a:xfrm>
            <a:prstGeom prst="octagon">
              <a:avLst>
                <a:gd name="adj" fmla="val 29287"/>
              </a:avLst>
            </a:prstGeom>
            <a:solidFill>
              <a:srgbClr val="c0c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"/>
            <p:cNvSpPr/>
            <p:nvPr/>
          </p:nvSpPr>
          <p:spPr>
            <a:xfrm rot="4300200">
              <a:off x="7016040" y="3349440"/>
              <a:ext cx="1854360" cy="18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Line 13"/>
          <p:cNvSpPr/>
          <p:nvPr/>
        </p:nvSpPr>
        <p:spPr>
          <a:xfrm>
            <a:off x="6233760" y="1977120"/>
            <a:ext cx="1275480" cy="384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649440" y="60818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5202360" y="60818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2193480" y="608184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7041240" y="60818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и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31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ЗОВИТ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AutoShape 3"/>
          <p:cNvSpPr/>
          <p:nvPr/>
        </p:nvSpPr>
        <p:spPr>
          <a:xfrm rot="20180400">
            <a:off x="685800" y="2533680"/>
            <a:ext cx="2438280" cy="914400"/>
          </a:xfrm>
          <a:prstGeom prst="pie">
            <a:avLst/>
          </a:prstGeom>
          <a:solidFill>
            <a:srgbClr val="a2a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4"/>
          <p:cNvSpPr/>
          <p:nvPr/>
        </p:nvSpPr>
        <p:spPr>
          <a:xfrm rot="21290400">
            <a:off x="3419280" y="4667400"/>
            <a:ext cx="1760400" cy="1600200"/>
          </a:xfrm>
          <a:prstGeom prst="hexagon">
            <a:avLst>
              <a:gd name="adj" fmla="val 22374"/>
              <a:gd name="vf" fmla="val 11547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5"/>
          <p:cNvSpPr/>
          <p:nvPr/>
        </p:nvSpPr>
        <p:spPr>
          <a:xfrm rot="978600">
            <a:off x="4000320" y="2154240"/>
            <a:ext cx="1752480" cy="1600200"/>
          </a:xfrm>
          <a:prstGeom prst="pentagon">
            <a:avLst/>
          </a:prstGeom>
          <a:solidFill>
            <a:srgbClr val="52fa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6"/>
          <p:cNvSpPr/>
          <p:nvPr/>
        </p:nvSpPr>
        <p:spPr>
          <a:xfrm rot="20998800">
            <a:off x="6553080" y="2057040"/>
            <a:ext cx="1905120" cy="15238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9"/>
          <p:cNvSpPr/>
          <p:nvPr/>
        </p:nvSpPr>
        <p:spPr>
          <a:xfrm rot="609000">
            <a:off x="6039000" y="3754440"/>
            <a:ext cx="2419200" cy="2513160"/>
          </a:xfrm>
          <a:custGeom>
            <a:avLst/>
            <a:gdLst>
              <a:gd name="textAreaLeft" fmla="*/ 798480 w 2419200"/>
              <a:gd name="textAreaRight" fmla="*/ 1620720 w 2419200"/>
              <a:gd name="textAreaTop" fmla="*/ 829440 h 2513160"/>
              <a:gd name="textAreaBottom" fmla="*/ 1683720 h 25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29" y="7129"/>
                </a:lnTo>
                <a:lnTo>
                  <a:pt x="10800" y="0"/>
                </a:lnTo>
                <a:lnTo>
                  <a:pt x="14471" y="7129"/>
                </a:lnTo>
                <a:lnTo>
                  <a:pt x="21600" y="10800"/>
                </a:lnTo>
                <a:lnTo>
                  <a:pt x="14471" y="14471"/>
                </a:lnTo>
                <a:lnTo>
                  <a:pt x="10800" y="21600"/>
                </a:lnTo>
                <a:lnTo>
                  <a:pt x="7129" y="14471"/>
                </a:lnTo>
                <a:lnTo>
                  <a:pt x="0" y="10800"/>
                </a:lnTo>
                <a:close/>
              </a:path>
            </a:pathLst>
          </a:custGeom>
          <a:solidFill>
            <a:srgbClr val="7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13"/>
          <p:cNvGrpSpPr/>
          <p:nvPr/>
        </p:nvGrpSpPr>
        <p:grpSpPr>
          <a:xfrm>
            <a:off x="284400" y="4044240"/>
            <a:ext cx="2630160" cy="2399040"/>
            <a:chOff x="284400" y="4044240"/>
            <a:chExt cx="2630160" cy="2399040"/>
          </a:xfrm>
        </p:grpSpPr>
        <p:sp>
          <p:nvSpPr>
            <p:cNvPr id="479" name="AutoShape 7"/>
            <p:cNvSpPr/>
            <p:nvPr/>
          </p:nvSpPr>
          <p:spPr>
            <a:xfrm rot="280800">
              <a:off x="533160" y="4133880"/>
              <a:ext cx="2286000" cy="2133360"/>
            </a:xfrm>
            <a:prstGeom prst="triangle">
              <a:avLst>
                <a:gd name="adj" fmla="val 50000"/>
              </a:avLst>
            </a:prstGeom>
            <a:solidFill>
              <a:srgbClr val="efd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8"/>
            <p:cNvSpPr/>
            <p:nvPr/>
          </p:nvSpPr>
          <p:spPr>
            <a:xfrm rot="277800">
              <a:off x="304560" y="5730480"/>
              <a:ext cx="2589120" cy="609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0"/>
            <p:cNvSpPr/>
            <p:nvPr/>
          </p:nvSpPr>
          <p:spPr>
            <a:xfrm>
              <a:off x="1449000" y="4819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11"/>
          <p:cNvSpPr/>
          <p:nvPr/>
        </p:nvSpPr>
        <p:spPr>
          <a:xfrm>
            <a:off x="7010280" y="4667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92160" y="1096920"/>
            <a:ext cx="39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клые много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4698720" y="1096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ыпуклые много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9"/>
          <p:cNvSpPr/>
          <p:nvPr/>
        </p:nvSpPr>
        <p:spPr>
          <a:xfrm>
            <a:off x="762120" y="5181480"/>
            <a:ext cx="7848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6"/>
          <p:cNvSpPr/>
          <p:nvPr/>
        </p:nvSpPr>
        <p:spPr>
          <a:xfrm>
            <a:off x="838080" y="5334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ОНАЛЬ – это отрезок, соединяющий любые две не соседние вершины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 flipV="1">
            <a:off x="1981080" y="1676160"/>
            <a:ext cx="457200" cy="25146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1"/>
          <p:cNvSpPr/>
          <p:nvPr/>
        </p:nvSpPr>
        <p:spPr>
          <a:xfrm flipV="1">
            <a:off x="1981080" y="1752480"/>
            <a:ext cx="3353040" cy="2438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22"/>
          <p:cNvSpPr/>
          <p:nvPr/>
        </p:nvSpPr>
        <p:spPr>
          <a:xfrm flipV="1">
            <a:off x="1981080" y="3832200"/>
            <a:ext cx="3581640" cy="3808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32"/>
          <p:cNvGrpSpPr/>
          <p:nvPr/>
        </p:nvGrpSpPr>
        <p:grpSpPr>
          <a:xfrm>
            <a:off x="975600" y="1398600"/>
            <a:ext cx="4917240" cy="3576960"/>
            <a:chOff x="975600" y="1398600"/>
            <a:chExt cx="4917240" cy="3576960"/>
          </a:xfrm>
        </p:grpSpPr>
        <p:grpSp>
          <p:nvGrpSpPr>
            <p:cNvPr id="491" name="Group 24"/>
            <p:cNvGrpSpPr/>
            <p:nvPr/>
          </p:nvGrpSpPr>
          <p:grpSpPr>
            <a:xfrm>
              <a:off x="975600" y="1398600"/>
              <a:ext cx="4917240" cy="3576960"/>
              <a:chOff x="975600" y="1398600"/>
              <a:chExt cx="4917240" cy="3576960"/>
            </a:xfrm>
          </p:grpSpPr>
          <p:sp>
            <p:nvSpPr>
              <p:cNvPr id="492" name="Rectangle 13"/>
              <p:cNvSpPr/>
              <p:nvPr/>
            </p:nvSpPr>
            <p:spPr>
              <a:xfrm>
                <a:off x="3754440" y="4515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14"/>
              <p:cNvSpPr/>
              <p:nvPr/>
            </p:nvSpPr>
            <p:spPr>
              <a:xfrm>
                <a:off x="1591200" y="4015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5"/>
              <p:cNvSpPr/>
              <p:nvPr/>
            </p:nvSpPr>
            <p:spPr>
              <a:xfrm>
                <a:off x="975600" y="27090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16"/>
              <p:cNvSpPr/>
              <p:nvPr/>
            </p:nvSpPr>
            <p:spPr>
              <a:xfrm>
                <a:off x="2109960" y="1398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17"/>
              <p:cNvSpPr/>
              <p:nvPr/>
            </p:nvSpPr>
            <p:spPr>
              <a:xfrm>
                <a:off x="5299560" y="1460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8"/>
              <p:cNvSpPr/>
              <p:nvPr/>
            </p:nvSpPr>
            <p:spPr>
              <a:xfrm>
                <a:off x="5509440" y="3579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31"/>
            <p:cNvGrpSpPr/>
            <p:nvPr/>
          </p:nvGrpSpPr>
          <p:grpSpPr>
            <a:xfrm>
              <a:off x="1445040" y="1677960"/>
              <a:ext cx="4105080" cy="2954160"/>
              <a:chOff x="1445040" y="1677960"/>
              <a:chExt cx="4105080" cy="2954160"/>
            </a:xfrm>
          </p:grpSpPr>
          <p:sp>
            <p:nvSpPr>
              <p:cNvPr id="499" name="Line 2"/>
              <p:cNvSpPr/>
              <p:nvPr/>
            </p:nvSpPr>
            <p:spPr>
              <a:xfrm flipH="1">
                <a:off x="1445040" y="1679400"/>
                <a:ext cx="996840" cy="12038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3"/>
              <p:cNvSpPr/>
              <p:nvPr/>
            </p:nvSpPr>
            <p:spPr>
              <a:xfrm>
                <a:off x="1445040" y="2882520"/>
                <a:ext cx="519480" cy="13114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6"/>
              <p:cNvSpPr/>
              <p:nvPr/>
            </p:nvSpPr>
            <p:spPr>
              <a:xfrm>
                <a:off x="2443680" y="1677960"/>
                <a:ext cx="2926440" cy="51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7"/>
              <p:cNvSpPr/>
              <p:nvPr/>
            </p:nvSpPr>
            <p:spPr>
              <a:xfrm>
                <a:off x="5369760" y="1728000"/>
                <a:ext cx="180360" cy="21204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8"/>
              <p:cNvSpPr/>
              <p:nvPr/>
            </p:nvSpPr>
            <p:spPr>
              <a:xfrm flipH="1">
                <a:off x="3800520" y="3848040"/>
                <a:ext cx="1748520" cy="7826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9"/>
              <p:cNvSpPr/>
              <p:nvPr/>
            </p:nvSpPr>
            <p:spPr>
              <a:xfrm flipH="1" flipV="1">
                <a:off x="1963440" y="4193280"/>
                <a:ext cx="1835640" cy="4388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5" name="AutoShape 28"/>
          <p:cNvSpPr/>
          <p:nvPr/>
        </p:nvSpPr>
        <p:spPr>
          <a:xfrm>
            <a:off x="6172200" y="1752480"/>
            <a:ext cx="2697120" cy="1219320"/>
          </a:xfrm>
          <a:prstGeom prst="cloudCallout">
            <a:avLst>
              <a:gd name="adj1" fmla="val -145643"/>
              <a:gd name="adj2" fmla="val 58986"/>
            </a:avLst>
          </a:prstGeom>
          <a:solidFill>
            <a:srgbClr val="ffa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она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АГОНА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AutoShape 37"/>
          <p:cNvSpPr/>
          <p:nvPr/>
        </p:nvSpPr>
        <p:spPr>
          <a:xfrm>
            <a:off x="7407360" y="2913120"/>
            <a:ext cx="974520" cy="666720"/>
          </a:xfrm>
          <a:prstGeom prst="cloudCallout">
            <a:avLst>
              <a:gd name="adj1" fmla="val -20356"/>
              <a:gd name="adj2" fmla="val 17856"/>
            </a:avLst>
          </a:prstGeom>
          <a:solidFill>
            <a:srgbClr val="ffb3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38"/>
          <p:cNvSpPr/>
          <p:nvPr/>
        </p:nvSpPr>
        <p:spPr>
          <a:xfrm>
            <a:off x="6357960" y="3165480"/>
            <a:ext cx="1047600" cy="633240"/>
          </a:xfrm>
          <a:prstGeom prst="cloudCallout">
            <a:avLst>
              <a:gd name="adj1" fmla="val -32625"/>
              <a:gd name="adj2" fmla="val 19421"/>
            </a:avLst>
          </a:prstGeom>
          <a:solidFill>
            <a:srgbClr val="ffb3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9">
            <a:hlinkClick r:id="" action="ppaction://hlinkshowjump?jump=previousslide"/>
          </p:cNvPr>
          <p:cNvSpPr/>
          <p:nvPr/>
        </p:nvSpPr>
        <p:spPr>
          <a:xfrm rot="5410800"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457200" y="990720"/>
            <a:ext cx="8153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многоугольни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сколько диагоналей можно провести из одной вершин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сколько всего диагоналей можно провести в многоугольни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 запишите в таблиц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7"/>
          <p:cNvSpPr/>
          <p:nvPr/>
        </p:nvSpPr>
        <p:spPr>
          <a:xfrm rot="20296200">
            <a:off x="304560" y="2743200"/>
            <a:ext cx="2286000" cy="137160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d58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8"/>
          <p:cNvSpPr/>
          <p:nvPr/>
        </p:nvSpPr>
        <p:spPr>
          <a:xfrm rot="20728800">
            <a:off x="3276720" y="3048120"/>
            <a:ext cx="2209680" cy="1066680"/>
          </a:xfrm>
          <a:prstGeom prst="parallelogram">
            <a:avLst>
              <a:gd name="adj" fmla="val 51789"/>
            </a:avLst>
          </a:prstGeom>
          <a:noFill/>
          <a:ln w="31680">
            <a:solidFill>
              <a:srgbClr val="eca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9"/>
          <p:cNvSpPr/>
          <p:nvPr/>
        </p:nvSpPr>
        <p:spPr>
          <a:xfrm rot="1996200">
            <a:off x="6727680" y="2437920"/>
            <a:ext cx="2057400" cy="1905120"/>
          </a:xfrm>
          <a:prstGeom prst="pentagon">
            <a:avLst/>
          </a:prstGeom>
          <a:noFill/>
          <a:ln w="31680">
            <a:solidFill>
              <a:srgbClr val="9ea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0"/>
          <p:cNvSpPr/>
          <p:nvPr/>
        </p:nvSpPr>
        <p:spPr>
          <a:xfrm rot="20439600">
            <a:off x="1676160" y="4800240"/>
            <a:ext cx="1752480" cy="1676520"/>
          </a:xfrm>
          <a:prstGeom prst="hexagon">
            <a:avLst>
              <a:gd name="adj" fmla="val 26133"/>
              <a:gd name="vf" fmla="val 115470"/>
            </a:avLst>
          </a:prstGeom>
          <a:noFill/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534600" y="23623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277080" y="236232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6248520" y="243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991440" y="47242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457344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37"/>
          <p:cNvGrpSpPr/>
          <p:nvPr/>
        </p:nvGrpSpPr>
        <p:grpSpPr>
          <a:xfrm>
            <a:off x="4940280" y="4343400"/>
            <a:ext cx="2927520" cy="2316240"/>
            <a:chOff x="4940280" y="4343400"/>
            <a:chExt cx="2927520" cy="2316240"/>
          </a:xfrm>
        </p:grpSpPr>
        <p:sp>
          <p:nvSpPr>
            <p:cNvPr id="522" name="Line 29"/>
            <p:cNvSpPr/>
            <p:nvPr/>
          </p:nvSpPr>
          <p:spPr>
            <a:xfrm flipH="1">
              <a:off x="4940280" y="4343400"/>
              <a:ext cx="1082880" cy="100656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30"/>
            <p:cNvSpPr/>
            <p:nvPr/>
          </p:nvSpPr>
          <p:spPr>
            <a:xfrm>
              <a:off x="4940280" y="5349960"/>
              <a:ext cx="320760" cy="89856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1"/>
            <p:cNvSpPr/>
            <p:nvPr/>
          </p:nvSpPr>
          <p:spPr>
            <a:xfrm>
              <a:off x="5261040" y="6248520"/>
              <a:ext cx="762120" cy="41112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32"/>
            <p:cNvSpPr/>
            <p:nvPr/>
          </p:nvSpPr>
          <p:spPr>
            <a:xfrm flipV="1">
              <a:off x="6023160" y="6476760"/>
              <a:ext cx="1249200" cy="18252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33"/>
            <p:cNvSpPr/>
            <p:nvPr/>
          </p:nvSpPr>
          <p:spPr>
            <a:xfrm>
              <a:off x="6023160" y="4343400"/>
              <a:ext cx="1508040" cy="45720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4"/>
            <p:cNvSpPr/>
            <p:nvPr/>
          </p:nvSpPr>
          <p:spPr>
            <a:xfrm flipH="1">
              <a:off x="7272360" y="5761080"/>
              <a:ext cx="595440" cy="71604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>
              <a:off x="7531200" y="4800600"/>
              <a:ext cx="336600" cy="96048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07:09:55Z</dcterms:created>
  <dc:creator>Users</dc:creator>
  <dc:description/>
  <dc:language>en-US</dc:language>
  <cp:lastModifiedBy>Asus</cp:lastModifiedBy>
  <dcterms:modified xsi:type="dcterms:W3CDTF">2023-01-03T10:19:06Z</dcterms:modified>
  <cp:revision>99</cp:revision>
  <dc:subject/>
  <dc:title>Многоугольники</dc:title>
</cp:coreProperties>
</file>