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3.jpeg" ContentType="image/jpeg"/>
  <Override PartName="/ppt/media/image6.png" ContentType="image/png"/>
  <Override PartName="/ppt/media/image7.png" ContentType="image/png"/>
  <Override PartName="/ppt/media/image34.jpeg" ContentType="image/jpeg"/>
  <Override PartName="/ppt/media/image11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9.png" ContentType="image/png"/>
  <Override PartName="/ppt/media/image33.jpeg" ContentType="image/jpeg"/>
  <Override PartName="/ppt/media/image27.jpeg" ContentType="image/jpeg"/>
  <Override PartName="/ppt/media/image37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02BA-5DF0-423D-97BC-5A4FBCEBA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5636-CBEA-44C1-AD6B-9CD133EE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CAA0-8350-4B3B-BD53-18722EF7B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103B-46BE-4AE6-BB1C-8523FDAE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53AB-12D0-4248-B1CA-358F7526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0704-8234-4E1E-A0B9-87753EB7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15C2-4A1E-4BFF-BD2D-DD82EAC0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77EF-C44B-4D9D-9084-B0C55C52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0833-ACE4-4503-AA79-C6AED99C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EBBB-15AA-4399-8DC0-5082C727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AF7E-4106-45CC-BA7E-10EAD92D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7812-9C08-4A97-BB50-3ADA5963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56C9-841A-471C-AAA8-F7114C94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8F84-0818-4115-B78D-B6F25FFE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26BD-440F-4707-813A-D406B232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8FE6-9BDF-4676-B39F-4F58EB5A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E6F5-F65B-4004-980F-11FC8D591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29C52-283C-4E41-98F1-940E834D4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A8C46-1AA1-443F-AE9F-026FF74B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EAAA4-3D5D-4E4D-8077-1417E22A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519D0-7FF4-448D-A127-BB0DF886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481EA-9DB0-4057-8823-0C0AF11F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0F93-DA64-4EA2-9AA3-772DE190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8840A-2F4F-426E-A87D-DFF6750F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29AA3-4C20-48F0-A6FC-97843515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69062-6263-444C-8C49-70ECA12E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A98D9-73AF-4522-9A5C-DAE55140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39B4E-2181-4192-8D4D-52F2CC23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E4E5D-C971-4E85-8F56-D794AADE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58B53-B273-4842-96F7-827EED7E6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E9CA9-A7E6-45B4-B874-B80C35ED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40C2A-973A-4FD5-8BE2-8D61C4EC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D96DF-465D-4DA4-BEBD-9DD31682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4F8D-031F-42A0-8BB9-3580D078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5C828-945A-4599-B63A-C8ED1802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1348B-D885-4F1B-9A08-A83F1B90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D1B43-1515-4B62-9E7B-E0DA20DA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A3DFD-FABC-4FD8-B3B7-97564874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D71C8-66B9-410C-945F-674AF46D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2BB34-0E15-44BD-B84F-FB84AE8A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9179F-BDFB-46D7-897B-D59D930B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542C8-9B4B-45AE-BAC5-CFBE7E7A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D5ECE-0C7E-46FB-9876-844AA426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1434-9DD6-421A-BCCA-3786163D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294B-D543-4CB2-B27B-AFE1AC6D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D6A9-6517-4584-B605-E7DF8BCB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DA59-601F-4236-BDC4-CF091E03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7E20-48E0-4823-A775-55A6D563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487E-F96A-4CB5-91A4-912B96597894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433D-241D-4651-A5A7-CC67D0358E3A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A3EB-213F-4652-92D1-7D200DF614E8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Straight Connector 18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19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811A-65E8-4D57-8E80-1A0C9402EFA3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1360" y="357120"/>
            <a:ext cx="807228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7324560" y="4626000"/>
            <a:ext cx="1605240" cy="1515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http://im0-tub-ru.yandex.net/i?id=113619560-19-72"/>
          <p:cNvPicPr/>
          <p:nvPr/>
        </p:nvPicPr>
        <p:blipFill>
          <a:blip r:embed="rId2"/>
          <a:stretch/>
        </p:blipFill>
        <p:spPr>
          <a:xfrm>
            <a:off x="539640" y="2398680"/>
            <a:ext cx="1662120" cy="14288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"/>
          <p:cNvPicPr/>
          <p:nvPr/>
        </p:nvPicPr>
        <p:blipFill>
          <a:blip r:embed="rId3"/>
          <a:stretch/>
        </p:blipFill>
        <p:spPr>
          <a:xfrm>
            <a:off x="560520" y="5013360"/>
            <a:ext cx="1562040" cy="127332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11" descr=""/>
          <p:cNvPicPr/>
          <p:nvPr/>
        </p:nvPicPr>
        <p:blipFill>
          <a:blip r:embed="rId4"/>
          <a:stretch/>
        </p:blipFill>
        <p:spPr>
          <a:xfrm>
            <a:off x="1073160" y="212760"/>
            <a:ext cx="7858080" cy="2397240"/>
          </a:xfrm>
          <a:prstGeom prst="rect">
            <a:avLst/>
          </a:prstGeom>
          <a:ln w="0">
            <a:noFill/>
          </a:ln>
        </p:spPr>
      </p:pic>
      <p:sp>
        <p:nvSpPr>
          <p:cNvPr id="239" name="TextBox 12"/>
          <p:cNvSpPr/>
          <p:nvPr/>
        </p:nvSpPr>
        <p:spPr>
          <a:xfrm flipH="1">
            <a:off x="3357720" y="62866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5"/>
          <a:stretch/>
        </p:blipFill>
        <p:spPr>
          <a:xfrm>
            <a:off x="3025800" y="2752560"/>
            <a:ext cx="3949560" cy="263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809880" cy="5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ebebeb"/>
                </a:solidFill>
                <a:latin typeface="Century Gothic"/>
              </a:rPr>
              <a:t>      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47800" y="1033560"/>
            <a:ext cx="792936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entury Gothic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сид хрома(III) – Cr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кристаллы зеленого цвета, нерастворимые в воде. Cr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спользуют как пигмент при изготовлении декоративного зеленого стекла и керамики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TextBox 8"/>
          <p:cNvSpPr/>
          <p:nvPr/>
        </p:nvSpPr>
        <p:spPr>
          <a:xfrm>
            <a:off x="5572080" y="485784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b866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7"/>
          <p:cNvSpPr/>
          <p:nvPr/>
        </p:nvSpPr>
        <p:spPr>
          <a:xfrm>
            <a:off x="1857240" y="2714760"/>
            <a:ext cx="28591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Зелёная хромова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пигмент оливково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елёной крас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2" descr="http://im8-tub-ru.yandex.net/i?id=315062483-47-72"/>
          <p:cNvPicPr/>
          <p:nvPr/>
        </p:nvPicPr>
        <p:blipFill>
          <a:blip r:embed="rId1"/>
          <a:stretch/>
        </p:blipFill>
        <p:spPr>
          <a:xfrm>
            <a:off x="214200" y="271476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6" descr="http://sites.google.com/site/himulacom/_/rsrc/1315460339005/zvonok-na-urok/8-klass/urok-no33-oksidy-klassifikacia-nomenklatura-svojstva-oksidov-polucenie-primenenie/605.jpg"/>
          <p:cNvPicPr/>
          <p:nvPr/>
        </p:nvPicPr>
        <p:blipFill>
          <a:blip r:embed="rId2"/>
          <a:stretch/>
        </p:blipFill>
        <p:spPr>
          <a:xfrm>
            <a:off x="4929120" y="2714760"/>
            <a:ext cx="1214640" cy="1508040"/>
          </a:xfrm>
          <a:prstGeom prst="rect">
            <a:avLst/>
          </a:prstGeom>
          <a:ln w="0">
            <a:noFill/>
          </a:ln>
        </p:spPr>
      </p:pic>
      <p:sp>
        <p:nvSpPr>
          <p:cNvPr id="288" name="TextBox 16"/>
          <p:cNvSpPr/>
          <p:nvPr/>
        </p:nvSpPr>
        <p:spPr>
          <a:xfrm>
            <a:off x="6286680" y="278604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пигмент использу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типографской крас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18"/>
          <p:cNvSpPr/>
          <p:nvPr/>
        </p:nvSpPr>
        <p:spPr>
          <a:xfrm>
            <a:off x="2000160" y="4500720"/>
            <a:ext cx="514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сид цинк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nO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используется для приготовления белой масляной краски (цинковые белил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Содержимое 4" descr="images (13).jpg"/>
          <p:cNvPicPr/>
          <p:nvPr/>
        </p:nvPicPr>
        <p:blipFill>
          <a:blip r:embed="rId3"/>
          <a:stretch/>
        </p:blipFill>
        <p:spPr>
          <a:xfrm>
            <a:off x="214200" y="4560840"/>
            <a:ext cx="1500480" cy="13683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2" descr="Белила. Оксид цинка ZnO – вещество белого цвета, используется для приготовления белой масляной краски (цинковые белила). Цинковыми белилами можно красить любые поверхности, в том числе и те, которые подвергаются воздействию атмосферных осадков. Фармацевты делают из оксида цинка вяжущий и подсушивающий порошок для наружного применения. Такими же ценными свойствами обладает оксид титана (IV) – TiO2.Он тоже имеет красивый белый цвет и применяется для изготовления титановых белил."/>
          <p:cNvPicPr/>
          <p:nvPr/>
        </p:nvPicPr>
        <p:blipFill>
          <a:blip r:embed="rId4"/>
          <a:stretch/>
        </p:blipFill>
        <p:spPr>
          <a:xfrm>
            <a:off x="7286760" y="4429080"/>
            <a:ext cx="1214280" cy="1608120"/>
          </a:xfrm>
          <a:prstGeom prst="rect">
            <a:avLst/>
          </a:prstGeom>
          <a:ln w="0">
            <a:noFill/>
          </a:ln>
        </p:spPr>
      </p:pic>
      <p:sp>
        <p:nvSpPr>
          <p:cNvPr id="292" name="TextBox 22"/>
          <p:cNvSpPr/>
          <p:nvPr/>
        </p:nvSpPr>
        <p:spPr>
          <a:xfrm>
            <a:off x="2137680" y="592920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orbe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7"/>
          <p:cNvSpPr/>
          <p:nvPr/>
        </p:nvSpPr>
        <p:spPr>
          <a:xfrm>
            <a:off x="250920" y="61920"/>
            <a:ext cx="753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6312"/>
                </a:solidFill>
                <a:latin typeface="Corbel"/>
                <a:ea typeface="Arial"/>
              </a:rPr>
              <a:t>Другие оксид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Box 7"/>
          <p:cNvSpPr/>
          <p:nvPr/>
        </p:nvSpPr>
        <p:spPr>
          <a:xfrm>
            <a:off x="324000" y="260280"/>
            <a:ext cx="753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6312"/>
                </a:solidFill>
                <a:latin typeface="Corbel"/>
                <a:ea typeface="Arial"/>
              </a:rPr>
              <a:t>Тес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Рисунок 1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6991560" cy="4524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7"/>
          <p:cNvSpPr/>
          <p:nvPr/>
        </p:nvSpPr>
        <p:spPr>
          <a:xfrm>
            <a:off x="2195640" y="2781360"/>
            <a:ext cx="753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6312"/>
                </a:solidFill>
                <a:latin typeface="Corbel"/>
                <a:ea typeface="Arial"/>
              </a:rPr>
              <a:t>Спасибо за просмотр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2998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08000" y="846000"/>
            <a:ext cx="763272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сиды - это сложные вещества, состоящие из двух химических элементов, один из которых кислород, со степенью окисления -2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кроме фторида кислорода OF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ывают их просто – «оксид»  «элемента» (степень окисления, если она переменна . Например: оксид железа 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I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сиды образуют практически все элементы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.И. Менделеева, кроме благородных газов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сиды, загрязняющие окружающую среду: оксид углерода 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оксид серы 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оксид азота 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оксид азота 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V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3" name="Picture 8" descr=""/>
          <p:cNvPicPr/>
          <p:nvPr/>
        </p:nvPicPr>
        <p:blipFill>
          <a:blip r:embed="rId1"/>
          <a:stretch/>
        </p:blipFill>
        <p:spPr>
          <a:xfrm>
            <a:off x="250920" y="4365720"/>
            <a:ext cx="4176720" cy="23619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"/>
          <p:cNvPicPr/>
          <p:nvPr/>
        </p:nvPicPr>
        <p:blipFill>
          <a:blip r:embed="rId2"/>
          <a:stretch/>
        </p:blipFill>
        <p:spPr>
          <a:xfrm>
            <a:off x="4716360" y="4365720"/>
            <a:ext cx="4176720" cy="2334960"/>
          </a:xfrm>
          <a:prstGeom prst="rect">
            <a:avLst/>
          </a:prstGeom>
          <a:ln w="0">
            <a:noFill/>
          </a:ln>
        </p:spPr>
      </p:pic>
      <p:sp>
        <p:nvSpPr>
          <p:cNvPr id="245" name="TextBox 7"/>
          <p:cNvSpPr/>
          <p:nvPr/>
        </p:nvSpPr>
        <p:spPr>
          <a:xfrm>
            <a:off x="2556000" y="15840"/>
            <a:ext cx="346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6312"/>
                </a:solidFill>
                <a:latin typeface="Corbel"/>
                <a:ea typeface="Arial"/>
              </a:rPr>
              <a:t>Оксид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7"/>
          <p:cNvSpPr/>
          <p:nvPr/>
        </p:nvSpPr>
        <p:spPr>
          <a:xfrm>
            <a:off x="250920" y="260280"/>
            <a:ext cx="3462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6312"/>
                </a:solidFill>
                <a:latin typeface="Corbel"/>
                <a:ea typeface="Arial"/>
              </a:rPr>
              <a:t>Вода - Н2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10" descr=""/>
          <p:cNvPicPr/>
          <p:nvPr/>
        </p:nvPicPr>
        <p:blipFill>
          <a:blip r:embed="rId1"/>
          <a:stretch/>
        </p:blipFill>
        <p:spPr>
          <a:xfrm>
            <a:off x="6156360" y="4484520"/>
            <a:ext cx="2612880" cy="1881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>
            <a:off x="3286080" y="4484520"/>
            <a:ext cx="2643120" cy="18720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1982520" y="1091880"/>
            <a:ext cx="67150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282600"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самое распространенное вещество на нашей планете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65040" indent="-282600"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ода покрывает 3/4площади поверхности Земл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65040" indent="-282600"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Льдом покрыто 20% суши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65040" indent="-282600"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ода влияет на климат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65040" indent="-282600"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Тело человека на 2/3 состоит из воды. Без воды невозможно представить жизнь человека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0" name="Picture 8" descr=""/>
          <p:cNvPicPr/>
          <p:nvPr/>
        </p:nvPicPr>
        <p:blipFill>
          <a:blip r:embed="rId3"/>
          <a:stretch/>
        </p:blipFill>
        <p:spPr>
          <a:xfrm>
            <a:off x="395280" y="4468680"/>
            <a:ext cx="2664000" cy="188784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1" descr=""/>
          <p:cNvPicPr/>
          <p:nvPr/>
        </p:nvPicPr>
        <p:blipFill>
          <a:blip r:embed="rId4"/>
          <a:stretch/>
        </p:blipFill>
        <p:spPr>
          <a:xfrm>
            <a:off x="539640" y="2135160"/>
            <a:ext cx="1225800" cy="1244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8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7077240" y="3079800"/>
            <a:ext cx="1857240" cy="12398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88920" y="1244520"/>
            <a:ext cx="6805440" cy="36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28260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держание углекислого газа в атмосфере  0,04—0,03%.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65040" indent="-28260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ения, благодаря фотосинтезу, усваивают углекислый газ из атмосферы, превращая минеральные вещества в органические -  глюкозу, крахмал и кислород.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65040" indent="-28260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уется углекислый газ при дыхании и сгорании топлива, при тлении и гниении органических веществ, содержится в вулканических газах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65040" indent="-28260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еральные источники содержат углекислый газ.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65040" indent="-28260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укты в углекислом газе не плесневеют, не гниют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65040" indent="-28260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ухой лёд»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TextBox 8"/>
          <p:cNvSpPr/>
          <p:nvPr/>
        </p:nvSpPr>
        <p:spPr>
          <a:xfrm>
            <a:off x="324000" y="72864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ксид углерода (</a:t>
            </a:r>
            <a:r>
              <a:rPr b="1" lang="en-U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V</a:t>
            </a:r>
            <a:r>
              <a:rPr b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),  диоксид углер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20" descr=""/>
          <p:cNvPicPr/>
          <p:nvPr/>
        </p:nvPicPr>
        <p:blipFill>
          <a:blip r:embed="rId2"/>
          <a:stretch/>
        </p:blipFill>
        <p:spPr>
          <a:xfrm>
            <a:off x="6012000" y="4724280"/>
            <a:ext cx="2662200" cy="1849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"/>
          <p:cNvPicPr/>
          <p:nvPr/>
        </p:nvPicPr>
        <p:blipFill>
          <a:blip r:embed="rId3"/>
          <a:stretch/>
        </p:blipFill>
        <p:spPr>
          <a:xfrm>
            <a:off x="2556000" y="4724280"/>
            <a:ext cx="2808000" cy="1873440"/>
          </a:xfrm>
          <a:prstGeom prst="rect">
            <a:avLst/>
          </a:prstGeom>
          <a:ln w="0">
            <a:noFill/>
          </a:ln>
        </p:spPr>
      </p:pic>
      <p:sp>
        <p:nvSpPr>
          <p:cNvPr id="258" name="TextBox 9"/>
          <p:cNvSpPr/>
          <p:nvPr/>
        </p:nvSpPr>
        <p:spPr>
          <a:xfrm>
            <a:off x="1472040" y="36360"/>
            <a:ext cx="533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6312"/>
                </a:solidFill>
                <a:latin typeface="Times New Roman"/>
                <a:ea typeface="Times New Roman"/>
              </a:rPr>
              <a:t>Углекислый газ - СО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Рисунок 3" descr=""/>
          <p:cNvPicPr/>
          <p:nvPr/>
        </p:nvPicPr>
        <p:blipFill>
          <a:blip r:embed="rId4"/>
          <a:stretch/>
        </p:blipFill>
        <p:spPr>
          <a:xfrm>
            <a:off x="7137360" y="1467000"/>
            <a:ext cx="1805040" cy="12427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http://im3-tub-ru.yandex.net/i?id=413058543-08-72"/>
          <p:cNvPicPr/>
          <p:nvPr/>
        </p:nvPicPr>
        <p:blipFill>
          <a:blip r:embed="rId1"/>
          <a:stretch/>
        </p:blipFill>
        <p:spPr>
          <a:xfrm>
            <a:off x="7480440" y="1773360"/>
            <a:ext cx="1428480" cy="1133280"/>
          </a:xfrm>
          <a:prstGeom prst="rect">
            <a:avLst/>
          </a:prstGeom>
          <a:ln w="0">
            <a:noFill/>
          </a:ln>
        </p:spPr>
      </p:pic>
      <p:sp>
        <p:nvSpPr>
          <p:cNvPr id="261" name="TextBox 6"/>
          <p:cNvSpPr/>
          <p:nvPr/>
        </p:nvSpPr>
        <p:spPr>
          <a:xfrm>
            <a:off x="1547640" y="49320"/>
            <a:ext cx="511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6312"/>
                </a:solidFill>
                <a:latin typeface="Times New Roman"/>
                <a:ea typeface="Times New Roman"/>
              </a:rPr>
              <a:t>Угарный газ – С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сид углерода (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31320" y="1387440"/>
            <a:ext cx="73090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уется при неполном сгорании топлива, в выхлопных газах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чень опасен для здоровья, загрязняет атмосферу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уется в металлургии для восстановления металлов из их оксидов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65040" indent="-28260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 используют при обработке мяса животных и рыбы для придания им цвета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3" name="Picture 18" descr=""/>
          <p:cNvPicPr/>
          <p:nvPr/>
        </p:nvPicPr>
        <p:blipFill>
          <a:blip r:embed="rId2"/>
          <a:stretch/>
        </p:blipFill>
        <p:spPr>
          <a:xfrm>
            <a:off x="1403280" y="4135320"/>
            <a:ext cx="3416400" cy="2268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6" descr=""/>
          <p:cNvPicPr/>
          <p:nvPr/>
        </p:nvPicPr>
        <p:blipFill>
          <a:blip r:embed="rId3"/>
          <a:stretch/>
        </p:blipFill>
        <p:spPr>
          <a:xfrm>
            <a:off x="5688000" y="4135320"/>
            <a:ext cx="3024360" cy="226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http://im5-tub-ru.yandex.net/i?id=23899924-15-72"/>
          <p:cNvPicPr/>
          <p:nvPr/>
        </p:nvPicPr>
        <p:blipFill>
          <a:blip r:embed="rId1"/>
          <a:stretch/>
        </p:blipFill>
        <p:spPr>
          <a:xfrm>
            <a:off x="7350120" y="1773360"/>
            <a:ext cx="1428840" cy="1361880"/>
          </a:xfrm>
          <a:prstGeom prst="rect">
            <a:avLst/>
          </a:prstGeom>
          <a:ln w="0">
            <a:noFill/>
          </a:ln>
        </p:spPr>
      </p:pic>
      <p:sp>
        <p:nvSpPr>
          <p:cNvPr id="266" name="TextBox 4"/>
          <p:cNvSpPr/>
          <p:nvPr/>
        </p:nvSpPr>
        <p:spPr>
          <a:xfrm>
            <a:off x="1911960" y="216000"/>
            <a:ext cx="516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6312"/>
                </a:solidFill>
                <a:latin typeface="Times New Roman"/>
                <a:ea typeface="Times New Roman"/>
              </a:rPr>
              <a:t>Оксид кальция - Са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7280" y="1636200"/>
            <a:ext cx="708012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ое тугоплавкое вещество, которое энергично взаимодействует с водой, образуя гашёную известь, применяемую в строительстве. Оксид кальция используется в производстве сахара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2"/>
          <a:stretch/>
        </p:blipFill>
        <p:spPr>
          <a:xfrm>
            <a:off x="351000" y="3782880"/>
            <a:ext cx="2920680" cy="19465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"/>
          <p:cNvPicPr/>
          <p:nvPr/>
        </p:nvPicPr>
        <p:blipFill>
          <a:blip r:embed="rId3"/>
          <a:stretch/>
        </p:blipFill>
        <p:spPr>
          <a:xfrm>
            <a:off x="6000840" y="3787920"/>
            <a:ext cx="2674800" cy="19414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0" descr=""/>
          <p:cNvPicPr/>
          <p:nvPr/>
        </p:nvPicPr>
        <p:blipFill>
          <a:blip r:embed="rId4"/>
          <a:stretch/>
        </p:blipFill>
        <p:spPr>
          <a:xfrm>
            <a:off x="3851280" y="4437000"/>
            <a:ext cx="1771560" cy="22496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8"/>
          <p:cNvSpPr/>
          <p:nvPr/>
        </p:nvSpPr>
        <p:spPr>
          <a:xfrm>
            <a:off x="2677680" y="976320"/>
            <a:ext cx="32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Негашёная изв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-12600" y="899640"/>
            <a:ext cx="90360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282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Кварцевый песок, кремнезём, горный хрусталь, кварц, яшма, кремень, аметист, опал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65040" indent="-28260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ксиды кремния и алюминия составляют основную массу земной коры – литосферы, это многочисленные минералы и горные породы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3" name="Picture 8" descr=""/>
          <p:cNvPicPr/>
          <p:nvPr/>
        </p:nvPicPr>
        <p:blipFill>
          <a:blip r:embed="rId1"/>
          <a:stretch/>
        </p:blipFill>
        <p:spPr>
          <a:xfrm>
            <a:off x="2987640" y="2565360"/>
            <a:ext cx="5415120" cy="40561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7"/>
          <p:cNvSpPr/>
          <p:nvPr/>
        </p:nvSpPr>
        <p:spPr>
          <a:xfrm>
            <a:off x="971640" y="152280"/>
            <a:ext cx="753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6312"/>
                </a:solidFill>
                <a:latin typeface="Gill Sans MT"/>
                <a:ea typeface="Arial"/>
              </a:rPr>
              <a:t>Оксид кремния - </a:t>
            </a:r>
            <a:r>
              <a:rPr b="1" lang="en-US" sz="4000" spc="-1" strike="noStrike">
                <a:solidFill>
                  <a:srgbClr val="ea6312"/>
                </a:solidFill>
                <a:latin typeface="Gill Sans MT"/>
                <a:ea typeface="Arial"/>
              </a:rPr>
              <a:t>SiO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Box 9"/>
          <p:cNvSpPr/>
          <p:nvPr/>
        </p:nvSpPr>
        <p:spPr>
          <a:xfrm>
            <a:off x="7572240" y="2928960"/>
            <a:ext cx="12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2"/>
          <p:cNvSpPr/>
          <p:nvPr/>
        </p:nvSpPr>
        <p:spPr>
          <a:xfrm>
            <a:off x="1249200" y="77760"/>
            <a:ext cx="60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6312"/>
                </a:solidFill>
                <a:latin typeface="Times New Roman"/>
                <a:ea typeface="Times New Roman"/>
              </a:rPr>
              <a:t>Оксид алюминия - </a:t>
            </a:r>
            <a:r>
              <a:rPr b="1" lang="en-US" sz="4000" spc="-1" strike="noStrike">
                <a:solidFill>
                  <a:srgbClr val="ea6312"/>
                </a:solidFill>
                <a:latin typeface="Times New Roman"/>
                <a:ea typeface="Times New Roman"/>
              </a:rPr>
              <a:t>Al2O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6173640" y="928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-360" y="928800"/>
            <a:ext cx="63579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ксит (глина), рубин, сапфир, корунд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TextBox 11"/>
          <p:cNvSpPr/>
          <p:nvPr/>
        </p:nvSpPr>
        <p:spPr>
          <a:xfrm>
            <a:off x="27000" y="2189160"/>
            <a:ext cx="886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уется в ювелирном деле, в металлургии, как огнеупорный материал, катализато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Рисунок 2" descr=""/>
          <p:cNvPicPr/>
          <p:nvPr/>
        </p:nvPicPr>
        <p:blipFill>
          <a:blip r:embed="rId2"/>
          <a:stretch/>
        </p:blipFill>
        <p:spPr>
          <a:xfrm>
            <a:off x="4916520" y="2852640"/>
            <a:ext cx="3659040" cy="253836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3" descr=""/>
          <p:cNvPicPr/>
          <p:nvPr/>
        </p:nvPicPr>
        <p:blipFill>
          <a:blip r:embed="rId3"/>
          <a:stretch/>
        </p:blipFill>
        <p:spPr>
          <a:xfrm>
            <a:off x="611280" y="3433680"/>
            <a:ext cx="3381120" cy="25354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8:55:48Z</dcterms:created>
  <dc:creator>СW</dc:creator>
  <dc:description/>
  <dc:language>en-US</dc:language>
  <cp:lastModifiedBy>user</cp:lastModifiedBy>
  <dcterms:modified xsi:type="dcterms:W3CDTF">2023-01-01T16:50:42Z</dcterms:modified>
  <cp:revision>35</cp:revision>
  <dc:subject/>
  <dc:title>Презентация на тему:             “Оксиды”!</dc:title>
</cp:coreProperties>
</file>