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3.jpeg" ContentType="image/jpeg"/>
  <Override PartName="/ppt/media/image6.png" ContentType="image/png"/>
  <Override PartName="/ppt/media/image7.png" ContentType="image/png"/>
  <Override PartName="/ppt/media/image34.jpeg" ContentType="image/jpeg"/>
  <Override PartName="/ppt/media/image11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9.png" ContentType="image/png"/>
  <Override PartName="/ppt/media/image33.jpeg" ContentType="image/jpeg"/>
  <Override PartName="/ppt/media/image27.jpeg" ContentType="image/jpeg"/>
  <Override PartName="/ppt/media/image37.jpeg" ContentType="image/jpeg"/>
  <Override PartName="/ppt/media/image38.png" ContentType="image/png"/>
  <Override PartName="/ppt/media/image8.jpeg" ContentType="image/jpeg"/>
  <Override PartName="/ppt/media/image5.png" ContentType="image/png"/>
  <Override PartName="/ppt/media/image29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59FC-D91E-42B1-A03E-4A143C1BC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7BA5-2597-466C-8331-4E86D795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77A9-8A7B-4B8E-82DC-53EDE26F6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2A1E-2BD5-4938-912D-63E94B0F4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ED25-D08B-4FBB-93EE-AB652EC65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9068-EAEF-438F-B563-1991AE40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F268-49E8-4EA5-984A-8AC2EF54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415A-54CE-40A4-A1E3-2D14BCAD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5A885-4BEB-4CBC-9155-D932164E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596C-4F5E-4785-8906-5001FA3F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2710A-BB35-4092-8420-5DADFEBE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16FF-D46A-4F37-AB33-DD8605D8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7689-AFD0-497E-9549-DAE3830C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1C33-0354-49B6-92DB-56BFDEA6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C999-7022-4E9B-B13A-432F1D0D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6293-6954-4135-8312-6BF56BE36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62DB-3645-4566-868E-19243F4F4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5D8E8-F1C4-4DD4-9166-90F7BEBDF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715F3-056E-4348-9845-49BE1A9B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D1666-587A-48F2-B74C-1F67FAD9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D38C7-93D6-4758-8365-62122D60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15C58-1450-4153-98E3-65F6A7CC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B924-9459-4864-9CBC-3450FDC2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1CA2C-E76F-4BA6-870F-572F4A25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B672E-F3F9-4B21-8F2C-DE4B4AE0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82169-59FB-4031-862C-EAF2CEDB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E659D-B729-4EDD-B519-BDC23CBF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0FC68-F49A-4D92-8C8D-BE24FA59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C3B8C-C32D-4D86-85D9-184C9D741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D76EE-C461-4E4A-85FC-3EC5B54B2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01316-EB0B-494B-B593-9F8A58F9E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86D94-2067-41DF-AAE6-B499706C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52C36-211E-43A0-857E-E435B8FD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44EC-8F87-4CD6-BF1D-A333D5B0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EBC80-5E5E-466C-B2D0-FBAB6CCC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95556-BC9E-4CC7-A593-AA299BA3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49D78-2CF0-4B4F-BB44-24D30197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6F072-6562-4B89-83B1-A7DABCF5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9714C-68DB-46AC-A9A7-EC01A1BC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C6E30-85A7-48A0-BBA5-6600D9E1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906C0-CA94-42A0-8D59-286150E8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D2C01-228B-4939-997B-9C8BD585C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508A2-EB86-43AE-ADD8-646DF1D0B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9C07-B36F-4889-BD7C-AED83ACF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9F54-0564-4D9B-90AB-B4FF39AC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58B8-4F6D-41E8-B7EB-5FB936E5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AB90-6C55-4194-83EB-9ED0B07A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BD1A-E9B2-4171-AE78-E7414956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EB32-9394-45D5-B46E-CA4A5D74BCFA}" type="slidenum">
              <a:rPr b="0" lang="ru-RU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58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61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64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67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70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674640" y="971640"/>
            <a:ext cx="6001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6999120" y="2612880"/>
            <a:ext cx="601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DDB6-2577-4814-B89A-DB849A098560}" type="slidenum">
              <a:rPr b="0" lang="ru-RU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17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20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23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26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29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Straight Connector 16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Straight Connector 17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4D64-D4E5-4CE1-A070-57A1F341CC70}" type="slidenum">
              <a:rPr b="0" lang="ru-RU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8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79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1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82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85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88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Straight Connector 18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Straight Connector 19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8EBF-8E57-46EE-BB2A-597EC250ACD3}" type="slidenum">
              <a:rPr b="0" lang="ru-RU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71360" y="357120"/>
            <a:ext cx="8072280" cy="14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 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7324560" y="4626000"/>
            <a:ext cx="1605240" cy="1515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http://im0-tub-ru.yandex.net/i?id=113619560-19-72"/>
          <p:cNvPicPr/>
          <p:nvPr/>
        </p:nvPicPr>
        <p:blipFill>
          <a:blip r:embed="rId2"/>
          <a:stretch/>
        </p:blipFill>
        <p:spPr>
          <a:xfrm>
            <a:off x="539640" y="2398680"/>
            <a:ext cx="1662120" cy="14288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"/>
          <p:cNvPicPr/>
          <p:nvPr/>
        </p:nvPicPr>
        <p:blipFill>
          <a:blip r:embed="rId3"/>
          <a:stretch/>
        </p:blipFill>
        <p:spPr>
          <a:xfrm>
            <a:off x="560520" y="5013360"/>
            <a:ext cx="1562040" cy="1273320"/>
          </a:xfrm>
          <a:prstGeom prst="rect">
            <a:avLst/>
          </a:prstGeom>
          <a:ln w="0">
            <a:noFill/>
          </a:ln>
        </p:spPr>
      </p:pic>
      <p:pic>
        <p:nvPicPr>
          <p:cNvPr id="238" name="Прямоугольник 11" descr=""/>
          <p:cNvPicPr/>
          <p:nvPr/>
        </p:nvPicPr>
        <p:blipFill>
          <a:blip r:embed="rId4"/>
          <a:stretch/>
        </p:blipFill>
        <p:spPr>
          <a:xfrm>
            <a:off x="1073160" y="212760"/>
            <a:ext cx="7858080" cy="2397240"/>
          </a:xfrm>
          <a:prstGeom prst="rect">
            <a:avLst/>
          </a:prstGeom>
          <a:ln w="0">
            <a:noFill/>
          </a:ln>
        </p:spPr>
      </p:pic>
      <p:sp>
        <p:nvSpPr>
          <p:cNvPr id="239" name="TextBox 12"/>
          <p:cNvSpPr/>
          <p:nvPr/>
        </p:nvSpPr>
        <p:spPr>
          <a:xfrm flipH="1">
            <a:off x="3357720" y="628668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rbe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5"/>
          <a:stretch/>
        </p:blipFill>
        <p:spPr>
          <a:xfrm>
            <a:off x="3025800" y="2752560"/>
            <a:ext cx="3949560" cy="263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809880" cy="59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ebebeb"/>
                </a:solidFill>
                <a:latin typeface="Century Gothic"/>
              </a:rPr>
              <a:t>      </a:t>
            </a:r>
            <a:endParaRPr b="0" lang="en-US" sz="3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47800" y="1033560"/>
            <a:ext cx="792936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entury Gothic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сид хрома(III) – Cr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кристаллы зеленого цвета, нерастворимые в воде. Cr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спользуют как пигмент при изготовлении декоративного зеленого стекла и керамики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TextBox 8"/>
          <p:cNvSpPr/>
          <p:nvPr/>
        </p:nvSpPr>
        <p:spPr>
          <a:xfrm>
            <a:off x="5572080" y="485784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b866d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Box 7"/>
          <p:cNvSpPr/>
          <p:nvPr/>
        </p:nvSpPr>
        <p:spPr>
          <a:xfrm>
            <a:off x="1857240" y="2714760"/>
            <a:ext cx="285912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Зелёная хромова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пигмент оливково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елёной крас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2" descr="http://im8-tub-ru.yandex.net/i?id=315062483-47-72"/>
          <p:cNvPicPr/>
          <p:nvPr/>
        </p:nvPicPr>
        <p:blipFill>
          <a:blip r:embed="rId1"/>
          <a:stretch/>
        </p:blipFill>
        <p:spPr>
          <a:xfrm>
            <a:off x="214200" y="271476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6" descr="http://sites.google.com/site/himulacom/_/rsrc/1315460339005/zvonok-na-urok/8-klass/urok-no33-oksidy-klassifikacia-nomenklatura-svojstva-oksidov-polucenie-primenenie/605.jpg"/>
          <p:cNvPicPr/>
          <p:nvPr/>
        </p:nvPicPr>
        <p:blipFill>
          <a:blip r:embed="rId2"/>
          <a:stretch/>
        </p:blipFill>
        <p:spPr>
          <a:xfrm>
            <a:off x="4929120" y="2714760"/>
            <a:ext cx="1214640" cy="1508040"/>
          </a:xfrm>
          <a:prstGeom prst="rect">
            <a:avLst/>
          </a:prstGeom>
          <a:ln w="0">
            <a:noFill/>
          </a:ln>
        </p:spPr>
      </p:pic>
      <p:sp>
        <p:nvSpPr>
          <p:cNvPr id="288" name="TextBox 16"/>
          <p:cNvSpPr/>
          <p:nvPr/>
        </p:nvSpPr>
        <p:spPr>
          <a:xfrm>
            <a:off x="6286680" y="278604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пигмент использую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типографской крас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Box 18"/>
          <p:cNvSpPr/>
          <p:nvPr/>
        </p:nvSpPr>
        <p:spPr>
          <a:xfrm>
            <a:off x="2000160" y="4500720"/>
            <a:ext cx="514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сид цинк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nO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используется для приготовления белой масляной краски (цинковые белил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Содержимое 4" descr="images (13).jpg"/>
          <p:cNvPicPr/>
          <p:nvPr/>
        </p:nvPicPr>
        <p:blipFill>
          <a:blip r:embed="rId3"/>
          <a:stretch/>
        </p:blipFill>
        <p:spPr>
          <a:xfrm>
            <a:off x="214200" y="4560840"/>
            <a:ext cx="1500480" cy="13683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2" descr="Белила. Оксид цинка ZnO – вещество белого цвета, используется для приготовления белой масляной краски (цинковые белила). Цинковыми белилами можно красить любые поверхности, в том числе и те, которые подвергаются воздействию атмосферных осадков. Фармацевты делают из оксида цинка вяжущий и подсушивающий порошок для наружного применения. Такими же ценными свойствами обладает оксид титана (IV) – TiO2.Он тоже имеет красивый белый цвет и применяется для изготовления титановых белил."/>
          <p:cNvPicPr/>
          <p:nvPr/>
        </p:nvPicPr>
        <p:blipFill>
          <a:blip r:embed="rId4"/>
          <a:stretch/>
        </p:blipFill>
        <p:spPr>
          <a:xfrm>
            <a:off x="7286760" y="4429080"/>
            <a:ext cx="1214280" cy="1608120"/>
          </a:xfrm>
          <a:prstGeom prst="rect">
            <a:avLst/>
          </a:prstGeom>
          <a:ln w="0">
            <a:noFill/>
          </a:ln>
        </p:spPr>
      </p:pic>
      <p:sp>
        <p:nvSpPr>
          <p:cNvPr id="292" name="TextBox 22"/>
          <p:cNvSpPr/>
          <p:nvPr/>
        </p:nvSpPr>
        <p:spPr>
          <a:xfrm>
            <a:off x="2137680" y="592920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orbe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Box 7"/>
          <p:cNvSpPr/>
          <p:nvPr/>
        </p:nvSpPr>
        <p:spPr>
          <a:xfrm>
            <a:off x="250920" y="61920"/>
            <a:ext cx="753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6312"/>
                </a:solidFill>
                <a:latin typeface="Corbel"/>
                <a:ea typeface="Arial"/>
              </a:rPr>
              <a:t>Другие оксид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Box 7"/>
          <p:cNvSpPr/>
          <p:nvPr/>
        </p:nvSpPr>
        <p:spPr>
          <a:xfrm>
            <a:off x="324000" y="260280"/>
            <a:ext cx="753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6312"/>
                </a:solidFill>
                <a:latin typeface="Corbel"/>
                <a:ea typeface="Arial"/>
              </a:rPr>
              <a:t>Тес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Рисунок 1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6991560" cy="45244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Box 7"/>
          <p:cNvSpPr/>
          <p:nvPr/>
        </p:nvSpPr>
        <p:spPr>
          <a:xfrm>
            <a:off x="2195640" y="2781360"/>
            <a:ext cx="753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6312"/>
                </a:solidFill>
                <a:latin typeface="Corbel"/>
                <a:ea typeface="Arial"/>
              </a:rPr>
              <a:t>Спасибо за просмотр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2998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 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08000" y="846000"/>
            <a:ext cx="7632720" cy="37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сиды - это сложные вещества, состоящие из двух химических элементов, один из которых кислород, со степенью окисления -2,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кроме фторида кислорода OF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)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ывают их просто – «оксид»  «элемента» (степень окисления, если она переменна . Например: оксид железа 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I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сиды образуют практически все элементы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.И. Менделеева, кроме благородных газов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сиды, загрязняющие окружающую среду: оксид углерода 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оксид серы 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оксид азота 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оксид азота 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V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3" name="Picture 8" descr=""/>
          <p:cNvPicPr/>
          <p:nvPr/>
        </p:nvPicPr>
        <p:blipFill>
          <a:blip r:embed="rId1"/>
          <a:stretch/>
        </p:blipFill>
        <p:spPr>
          <a:xfrm>
            <a:off x="250920" y="4365720"/>
            <a:ext cx="4176720" cy="23619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"/>
          <p:cNvPicPr/>
          <p:nvPr/>
        </p:nvPicPr>
        <p:blipFill>
          <a:blip r:embed="rId2"/>
          <a:stretch/>
        </p:blipFill>
        <p:spPr>
          <a:xfrm>
            <a:off x="4716360" y="4365720"/>
            <a:ext cx="4176720" cy="2334960"/>
          </a:xfrm>
          <a:prstGeom prst="rect">
            <a:avLst/>
          </a:prstGeom>
          <a:ln w="0">
            <a:noFill/>
          </a:ln>
        </p:spPr>
      </p:pic>
      <p:sp>
        <p:nvSpPr>
          <p:cNvPr id="245" name="TextBox 7"/>
          <p:cNvSpPr/>
          <p:nvPr/>
        </p:nvSpPr>
        <p:spPr>
          <a:xfrm>
            <a:off x="2556000" y="15840"/>
            <a:ext cx="346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6312"/>
                </a:solidFill>
                <a:latin typeface="Corbel"/>
                <a:ea typeface="Arial"/>
              </a:rPr>
              <a:t>Оксид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7"/>
          <p:cNvSpPr/>
          <p:nvPr/>
        </p:nvSpPr>
        <p:spPr>
          <a:xfrm>
            <a:off x="250920" y="260280"/>
            <a:ext cx="3462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6312"/>
                </a:solidFill>
                <a:latin typeface="Corbel"/>
                <a:ea typeface="Arial"/>
              </a:rPr>
              <a:t>Вода - Н2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10" descr=""/>
          <p:cNvPicPr/>
          <p:nvPr/>
        </p:nvPicPr>
        <p:blipFill>
          <a:blip r:embed="rId1"/>
          <a:stretch/>
        </p:blipFill>
        <p:spPr>
          <a:xfrm>
            <a:off x="6156360" y="4484520"/>
            <a:ext cx="2612880" cy="1881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"/>
          <p:cNvPicPr/>
          <p:nvPr/>
        </p:nvPicPr>
        <p:blipFill>
          <a:blip r:embed="rId2"/>
          <a:stretch/>
        </p:blipFill>
        <p:spPr>
          <a:xfrm>
            <a:off x="3286080" y="4484520"/>
            <a:ext cx="2643120" cy="18720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1982520" y="1091880"/>
            <a:ext cx="67150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-282600"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самое распространенное вещество на нашей планете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65040" indent="-282600"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ода покрывает 3/4площади поверхности Земли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65040" indent="-282600"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Льдом покрыто 20% суши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65040" indent="-282600"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ода влияет на климат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65040" indent="-282600"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Тело человека на 2/3 состоит из воды. Без воды невозможно представить жизнь человека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0" name="Picture 8" descr=""/>
          <p:cNvPicPr/>
          <p:nvPr/>
        </p:nvPicPr>
        <p:blipFill>
          <a:blip r:embed="rId3"/>
          <a:stretch/>
        </p:blipFill>
        <p:spPr>
          <a:xfrm>
            <a:off x="395280" y="4468680"/>
            <a:ext cx="2664000" cy="188784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1" descr=""/>
          <p:cNvPicPr/>
          <p:nvPr/>
        </p:nvPicPr>
        <p:blipFill>
          <a:blip r:embed="rId4"/>
          <a:stretch/>
        </p:blipFill>
        <p:spPr>
          <a:xfrm>
            <a:off x="539640" y="2135160"/>
            <a:ext cx="1225800" cy="1244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8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7077240" y="3079800"/>
            <a:ext cx="1857240" cy="12398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88920" y="1244520"/>
            <a:ext cx="6805440" cy="36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-28260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держание углекислого газа в атмосфере  0,04—0,03%.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65040" indent="-28260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тения, благодаря фотосинтезу, усваивают углекислый газ из атмосферы, превращая минеральные вещества в органические -  глюкозу, крахмал и кислород.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65040" indent="-28260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зуется углекислый газ при дыхании и сгорании топлива, при тлении и гниении органических веществ, содержится в вулканических газах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65040" indent="-28260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неральные источники содержат углекислый газ.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65040" indent="-28260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дукты в углекислом газе не плесневеют, не гниют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65040" indent="-28260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ухой лёд»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TextBox 8"/>
          <p:cNvSpPr/>
          <p:nvPr/>
        </p:nvSpPr>
        <p:spPr>
          <a:xfrm>
            <a:off x="324000" y="728640"/>
            <a:ext cx="67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Оксид углерода (</a:t>
            </a:r>
            <a:r>
              <a:rPr b="1" lang="en-US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V</a:t>
            </a:r>
            <a:r>
              <a:rPr b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),  диоксид углер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20" descr=""/>
          <p:cNvPicPr/>
          <p:nvPr/>
        </p:nvPicPr>
        <p:blipFill>
          <a:blip r:embed="rId2"/>
          <a:stretch/>
        </p:blipFill>
        <p:spPr>
          <a:xfrm>
            <a:off x="6012000" y="4724280"/>
            <a:ext cx="2662200" cy="1849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"/>
          <p:cNvPicPr/>
          <p:nvPr/>
        </p:nvPicPr>
        <p:blipFill>
          <a:blip r:embed="rId3"/>
          <a:stretch/>
        </p:blipFill>
        <p:spPr>
          <a:xfrm>
            <a:off x="2556000" y="4724280"/>
            <a:ext cx="2808000" cy="1873440"/>
          </a:xfrm>
          <a:prstGeom prst="rect">
            <a:avLst/>
          </a:prstGeom>
          <a:ln w="0">
            <a:noFill/>
          </a:ln>
        </p:spPr>
      </p:pic>
      <p:sp>
        <p:nvSpPr>
          <p:cNvPr id="258" name="TextBox 9"/>
          <p:cNvSpPr/>
          <p:nvPr/>
        </p:nvSpPr>
        <p:spPr>
          <a:xfrm>
            <a:off x="1472040" y="36360"/>
            <a:ext cx="533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6312"/>
                </a:solidFill>
                <a:latin typeface="Times New Roman"/>
                <a:ea typeface="Times New Roman"/>
              </a:rPr>
              <a:t>Углекислый газ - СО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Рисунок 3" descr=""/>
          <p:cNvPicPr/>
          <p:nvPr/>
        </p:nvPicPr>
        <p:blipFill>
          <a:blip r:embed="rId4"/>
          <a:stretch/>
        </p:blipFill>
        <p:spPr>
          <a:xfrm>
            <a:off x="7137360" y="1467000"/>
            <a:ext cx="1805040" cy="12427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http://im3-tub-ru.yandex.net/i?id=413058543-08-72"/>
          <p:cNvPicPr/>
          <p:nvPr/>
        </p:nvPicPr>
        <p:blipFill>
          <a:blip r:embed="rId1"/>
          <a:stretch/>
        </p:blipFill>
        <p:spPr>
          <a:xfrm>
            <a:off x="7480440" y="1773360"/>
            <a:ext cx="1428480" cy="1133280"/>
          </a:xfrm>
          <a:prstGeom prst="rect">
            <a:avLst/>
          </a:prstGeom>
          <a:ln w="0">
            <a:noFill/>
          </a:ln>
        </p:spPr>
      </p:pic>
      <p:sp>
        <p:nvSpPr>
          <p:cNvPr id="261" name="TextBox 6"/>
          <p:cNvSpPr/>
          <p:nvPr/>
        </p:nvSpPr>
        <p:spPr>
          <a:xfrm>
            <a:off x="1547640" y="49320"/>
            <a:ext cx="511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6312"/>
                </a:solidFill>
                <a:latin typeface="Times New Roman"/>
                <a:ea typeface="Times New Roman"/>
              </a:rPr>
              <a:t>Угарный газ – С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сид углерода (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31320" y="1387440"/>
            <a:ext cx="73090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зуется при неполном сгорании топлива, в выхлопных газах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чень опасен для здоровья, загрязняет атмосферу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ьзуется в металлургии для восстановления металлов из их оксидов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 используют при обработке мяса животных и рыбы для придания им цвета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3" name="Picture 18" descr=""/>
          <p:cNvPicPr/>
          <p:nvPr/>
        </p:nvPicPr>
        <p:blipFill>
          <a:blip r:embed="rId2"/>
          <a:stretch/>
        </p:blipFill>
        <p:spPr>
          <a:xfrm>
            <a:off x="1403280" y="4135320"/>
            <a:ext cx="3416400" cy="2268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6" descr=""/>
          <p:cNvPicPr/>
          <p:nvPr/>
        </p:nvPicPr>
        <p:blipFill>
          <a:blip r:embed="rId3"/>
          <a:stretch/>
        </p:blipFill>
        <p:spPr>
          <a:xfrm>
            <a:off x="5688000" y="4135320"/>
            <a:ext cx="3024360" cy="2268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http://im5-tub-ru.yandex.net/i?id=23899924-15-72"/>
          <p:cNvPicPr/>
          <p:nvPr/>
        </p:nvPicPr>
        <p:blipFill>
          <a:blip r:embed="rId1"/>
          <a:stretch/>
        </p:blipFill>
        <p:spPr>
          <a:xfrm>
            <a:off x="7350120" y="1773360"/>
            <a:ext cx="1428840" cy="1361880"/>
          </a:xfrm>
          <a:prstGeom prst="rect">
            <a:avLst/>
          </a:prstGeom>
          <a:ln w="0">
            <a:noFill/>
          </a:ln>
        </p:spPr>
      </p:pic>
      <p:sp>
        <p:nvSpPr>
          <p:cNvPr id="266" name="TextBox 4"/>
          <p:cNvSpPr/>
          <p:nvPr/>
        </p:nvSpPr>
        <p:spPr>
          <a:xfrm>
            <a:off x="1911960" y="216000"/>
            <a:ext cx="516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6312"/>
                </a:solidFill>
                <a:latin typeface="Times New Roman"/>
                <a:ea typeface="Times New Roman"/>
              </a:rPr>
              <a:t>Оксид кальция - Са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7280" y="1636200"/>
            <a:ext cx="708012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лое тугоплавкое вещество, которое энергично взаимодействует с водой, образуя гашёную известь, применяемую в строительстве. Оксид кальция используется в производстве сахара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2"/>
          <a:stretch/>
        </p:blipFill>
        <p:spPr>
          <a:xfrm>
            <a:off x="351000" y="3782880"/>
            <a:ext cx="2920680" cy="19465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" descr=""/>
          <p:cNvPicPr/>
          <p:nvPr/>
        </p:nvPicPr>
        <p:blipFill>
          <a:blip r:embed="rId3"/>
          <a:stretch/>
        </p:blipFill>
        <p:spPr>
          <a:xfrm>
            <a:off x="6000840" y="3787920"/>
            <a:ext cx="2674800" cy="19414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0" descr=""/>
          <p:cNvPicPr/>
          <p:nvPr/>
        </p:nvPicPr>
        <p:blipFill>
          <a:blip r:embed="rId4"/>
          <a:stretch/>
        </p:blipFill>
        <p:spPr>
          <a:xfrm>
            <a:off x="3851280" y="4437000"/>
            <a:ext cx="1771560" cy="2249640"/>
          </a:xfrm>
          <a:prstGeom prst="rect">
            <a:avLst/>
          </a:prstGeom>
          <a:ln w="0">
            <a:noFill/>
          </a:ln>
        </p:spPr>
      </p:pic>
      <p:sp>
        <p:nvSpPr>
          <p:cNvPr id="271" name="TextBox 8"/>
          <p:cNvSpPr/>
          <p:nvPr/>
        </p:nvSpPr>
        <p:spPr>
          <a:xfrm>
            <a:off x="2677680" y="976320"/>
            <a:ext cx="328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Негашёная изве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-12600" y="899640"/>
            <a:ext cx="90360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-2826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Кварцевый песок, кремнезём, горный хрусталь, кварц, яшма, кремень, аметист, опал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65040" indent="-28260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Оксиды кремния и алюминия составляют основную массу земной коры – литосферы, это многочисленные минералы и горные породы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73" name="Picture 8" descr=""/>
          <p:cNvPicPr/>
          <p:nvPr/>
        </p:nvPicPr>
        <p:blipFill>
          <a:blip r:embed="rId1"/>
          <a:stretch/>
        </p:blipFill>
        <p:spPr>
          <a:xfrm>
            <a:off x="2987640" y="2565360"/>
            <a:ext cx="5415120" cy="4056120"/>
          </a:xfrm>
          <a:prstGeom prst="rect">
            <a:avLst/>
          </a:prstGeom>
          <a:ln w="0">
            <a:noFill/>
          </a:ln>
        </p:spPr>
      </p:pic>
      <p:sp>
        <p:nvSpPr>
          <p:cNvPr id="274" name="TextBox 7"/>
          <p:cNvSpPr/>
          <p:nvPr/>
        </p:nvSpPr>
        <p:spPr>
          <a:xfrm>
            <a:off x="971640" y="152280"/>
            <a:ext cx="753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6312"/>
                </a:solidFill>
                <a:latin typeface="Gill Sans MT"/>
                <a:ea typeface="Arial"/>
              </a:rPr>
              <a:t>Оксид кремния - </a:t>
            </a:r>
            <a:r>
              <a:rPr b="1" lang="en-US" sz="4000" spc="-1" strike="noStrike">
                <a:solidFill>
                  <a:srgbClr val="ea6312"/>
                </a:solidFill>
                <a:latin typeface="Gill Sans MT"/>
                <a:ea typeface="Arial"/>
              </a:rPr>
              <a:t>SiO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Box 9"/>
          <p:cNvSpPr/>
          <p:nvPr/>
        </p:nvSpPr>
        <p:spPr>
          <a:xfrm>
            <a:off x="7572240" y="2928960"/>
            <a:ext cx="12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Box 2"/>
          <p:cNvSpPr/>
          <p:nvPr/>
        </p:nvSpPr>
        <p:spPr>
          <a:xfrm>
            <a:off x="1249200" y="77760"/>
            <a:ext cx="606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6312"/>
                </a:solidFill>
                <a:latin typeface="Times New Roman"/>
                <a:ea typeface="Times New Roman"/>
              </a:rPr>
              <a:t>Оксид алюминия - </a:t>
            </a:r>
            <a:r>
              <a:rPr b="1" lang="en-US" sz="4000" spc="-1" strike="noStrike">
                <a:solidFill>
                  <a:srgbClr val="ea6312"/>
                </a:solidFill>
                <a:latin typeface="Times New Roman"/>
                <a:ea typeface="Times New Roman"/>
              </a:rPr>
              <a:t>Al2O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6173640" y="9288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-360" y="928800"/>
            <a:ext cx="635796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ксит (глина), рубин, сапфир, корунд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TextBox 11"/>
          <p:cNvSpPr/>
          <p:nvPr/>
        </p:nvSpPr>
        <p:spPr>
          <a:xfrm>
            <a:off x="27000" y="2189160"/>
            <a:ext cx="886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ьзуется в ювелирном деле, в металлургии, как огнеупорный материал, катализато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Рисунок 2" descr=""/>
          <p:cNvPicPr/>
          <p:nvPr/>
        </p:nvPicPr>
        <p:blipFill>
          <a:blip r:embed="rId2"/>
          <a:stretch/>
        </p:blipFill>
        <p:spPr>
          <a:xfrm>
            <a:off x="4916520" y="2852640"/>
            <a:ext cx="3659040" cy="253836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3" descr=""/>
          <p:cNvPicPr/>
          <p:nvPr/>
        </p:nvPicPr>
        <p:blipFill>
          <a:blip r:embed="rId3"/>
          <a:stretch/>
        </p:blipFill>
        <p:spPr>
          <a:xfrm>
            <a:off x="611280" y="3433680"/>
            <a:ext cx="3381120" cy="25354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8:55:48Z</dcterms:created>
  <dc:creator>СW</dc:creator>
  <dc:description/>
  <dc:language>en-US</dc:language>
  <cp:lastModifiedBy>user</cp:lastModifiedBy>
  <dcterms:modified xsi:type="dcterms:W3CDTF">2023-01-01T16:50:42Z</dcterms:modified>
  <cp:revision>35</cp:revision>
  <dc:subject/>
  <dc:title>Презентация на тему:             “Оксиды”!</dc:title>
</cp:coreProperties>
</file>